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3.xml.rels" ContentType="application/vnd.openxmlformats-package.relationships+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customXml/item3.xml" ContentType="application/xml"/>
  <Override PartName="/customXml/itemProps3.xml" ContentType="application/vnd.openxmlformats-officedocument.customXml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diagrams/data1.xml" ContentType="application/vnd.openxmlformats-officedocument.drawingml.diagramData+xml"/>
  <Override PartName="/ppt/diagrams/layout1.xml" ContentType="application/vnd.openxmlformats-officedocument.drawingml.diagramLayout+xml"/>
  <Override PartName="/ppt/diagrams/quickStyle1.xml" ContentType="application/vnd.openxmlformats-officedocument.drawingml.diagramStyle+xml"/>
  <Override PartName="/ppt/diagrams/colors1.xml" ContentType="application/vnd.openxmlformats-officedocument.drawingml.diagramColors+xml"/>
  <Override PartName="/ppt/diagrams/drawing1.xml" ContentType="application/vnd.ms-office.drawingml.diagramDrawing+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png" ContentType="image/png"/>
  <Override PartName="/ppt/media/image6.jpeg" ContentType="image/jpeg"/>
  <Override PartName="/ppt/media/image8.png" ContentType="image/png"/>
  <Override PartName="/ppt/media/image11.jpeg" ContentType="image/jpeg"/>
  <Override PartName="/ppt/media/image7.png" ContentType="image/png"/>
  <Override PartName="/ppt/media/image12.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customXml" Target="../customXml/item3.xml"/><Relationship Id="rId7"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Lst>
  <p:sldSz cx="12192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presProps" Target="presProps.xml"/>
</Relationships>
</file>

<file path=ppt/diagrams/colors1.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data1.xml><?xml version="1.0" encoding="utf-8"?>
<dgm:dataModel xmlns:dgm="http://schemas.openxmlformats.org/drawingml/2006/diagram" xmlns:a="http://schemas.openxmlformats.org/drawingml/2006/main">
  <dgm:ptLst>
    <dgm:pt modelId="{5B45052B-F7E4-49DC-AB36-BEA4986A21CE}" type="doc">
      <dgm:prSet loTypeId="urn:microsoft.com/office/officeart/2005/8/layout/architecture" loCatId="list" qsTypeId="urn:microsoft.com/office/officeart/2005/8/quickstyle/simple1" qsCatId="simple" csTypeId="urn:microsoft.com/office/officeart/2005/8/colors/accent1_2" csCatId="accent1" phldr="1"/>
      <dgm:spPr/>
      <dgm:t>
        <a:bodyPr/>
        <a:lstStyle/>
        <a:p>
          <a:endParaRPr lang="en-AU"/>
        </a:p>
      </dgm:t>
    </dgm:pt>
    <dgm:pt modelId="{6DFD17F6-F6E3-41AD-B95A-464DBA95792E}">
      <dgm:prSet phldrT="[Text]"/>
      <dgm:spPr>
        <a:solidFill>
          <a:srgbClr val="F49D15"/>
        </a:solidFill>
      </dgm:spPr>
      <dgm:t>
        <a:bodyPr/>
        <a:lstStyle/>
        <a:p>
          <a:r>
            <a:rPr lang="en-AU" dirty="0"/>
            <a:t>Not-for-profit and Peak Industry Body</a:t>
          </a:r>
        </a:p>
        <a:p>
          <a:r>
            <a:rPr lang="en-AU" dirty="0"/>
            <a:t>25 years</a:t>
          </a:r>
        </a:p>
      </dgm:t>
    </dgm:pt>
    <dgm:pt modelId="{5135A242-4D1D-45B0-9A6D-98657A666C6A}" type="parTrans" cxnId="{415FEA8B-AEA0-4C1C-AFE0-FE349762FBF3}">
      <dgm:prSet/>
      <dgm:spPr/>
      <dgm:t>
        <a:bodyPr/>
        <a:lstStyle/>
        <a:p>
          <a:endParaRPr lang="en-AU"/>
        </a:p>
      </dgm:t>
    </dgm:pt>
    <dgm:pt modelId="{9A10713F-A0CF-4369-9614-C696508BE2D0}" type="sibTrans" cxnId="{415FEA8B-AEA0-4C1C-AFE0-FE349762FBF3}">
      <dgm:prSet/>
      <dgm:spPr/>
      <dgm:t>
        <a:bodyPr/>
        <a:lstStyle/>
        <a:p>
          <a:endParaRPr lang="en-AU"/>
        </a:p>
      </dgm:t>
    </dgm:pt>
    <dgm:pt modelId="{4635B93A-9EE6-495A-B18C-01600FF21A2E}">
      <dgm:prSet phldrT="[Text]"/>
      <dgm:spPr>
        <a:solidFill>
          <a:srgbClr val="E40487"/>
        </a:solidFill>
      </dgm:spPr>
      <dgm:t>
        <a:bodyPr/>
        <a:lstStyle/>
        <a:p>
          <a:r>
            <a:rPr lang="en-AU" dirty="0"/>
            <a:t>500 Members</a:t>
          </a:r>
        </a:p>
        <a:p>
          <a:r>
            <a:rPr lang="en-AU" dirty="0"/>
            <a:t>Australia/New Zealand/ASIA</a:t>
          </a:r>
        </a:p>
      </dgm:t>
    </dgm:pt>
    <dgm:pt modelId="{28092DCD-D448-4AAD-B10F-E5826E2842FC}" type="parTrans" cxnId="{3F8D57E8-AC44-4682-B47C-8DC6D434B1A4}">
      <dgm:prSet/>
      <dgm:spPr/>
      <dgm:t>
        <a:bodyPr/>
        <a:lstStyle/>
        <a:p>
          <a:endParaRPr lang="en-AU"/>
        </a:p>
      </dgm:t>
    </dgm:pt>
    <dgm:pt modelId="{F7DDFFC9-07C6-4619-A7C4-FA2BCC34E2B9}" type="sibTrans" cxnId="{3F8D57E8-AC44-4682-B47C-8DC6D434B1A4}">
      <dgm:prSet/>
      <dgm:spPr/>
      <dgm:t>
        <a:bodyPr/>
        <a:lstStyle/>
        <a:p>
          <a:endParaRPr lang="en-AU"/>
        </a:p>
      </dgm:t>
    </dgm:pt>
    <dgm:pt modelId="{F770B1D7-CA78-454D-A75A-AC44D852A4E6}">
      <dgm:prSet phldrT="[Text]"/>
      <dgm:spPr>
        <a:solidFill>
          <a:srgbClr val="297F9D"/>
        </a:solidFill>
      </dgm:spPr>
      <dgm:t>
        <a:bodyPr/>
        <a:lstStyle/>
        <a:p>
          <a:r>
            <a:rPr lang="en-AU" dirty="0"/>
            <a:t>Fleet Management</a:t>
          </a:r>
        </a:p>
        <a:p>
          <a:r>
            <a:rPr lang="en-AU" dirty="0"/>
            <a:t>as a Profession</a:t>
          </a:r>
        </a:p>
      </dgm:t>
    </dgm:pt>
    <dgm:pt modelId="{82351834-4D4C-4F5B-9A35-7EE5D1BE3A5B}" type="parTrans" cxnId="{E229096C-C2B0-43AD-8C2A-B0529528C26A}">
      <dgm:prSet/>
      <dgm:spPr/>
      <dgm:t>
        <a:bodyPr/>
        <a:lstStyle/>
        <a:p>
          <a:endParaRPr lang="en-AU"/>
        </a:p>
      </dgm:t>
    </dgm:pt>
    <dgm:pt modelId="{DADAFC0F-E395-4FEC-9EA1-F675ADC47DA4}" type="sibTrans" cxnId="{E229096C-C2B0-43AD-8C2A-B0529528C26A}">
      <dgm:prSet/>
      <dgm:spPr/>
      <dgm:t>
        <a:bodyPr/>
        <a:lstStyle/>
        <a:p>
          <a:endParaRPr lang="en-AU"/>
        </a:p>
      </dgm:t>
    </dgm:pt>
    <dgm:pt modelId="{22DFEC38-97F5-4459-8F52-D6016F1A6A11}">
      <dgm:prSet phldrT="[Text]"/>
      <dgm:spPr>
        <a:solidFill>
          <a:srgbClr val="15A185"/>
        </a:solidFill>
      </dgm:spPr>
      <dgm:t>
        <a:bodyPr/>
        <a:lstStyle/>
        <a:p>
          <a:r>
            <a:rPr lang="en-AU" dirty="0"/>
            <a:t>Advocacy &amp; Education</a:t>
          </a:r>
        </a:p>
      </dgm:t>
    </dgm:pt>
    <dgm:pt modelId="{54AAF88B-2127-4A54-BFBC-3C08B2071BA7}" type="parTrans" cxnId="{7794C4A4-09FA-41AA-8E11-E804B66BC018}">
      <dgm:prSet/>
      <dgm:spPr/>
      <dgm:t>
        <a:bodyPr/>
        <a:lstStyle/>
        <a:p>
          <a:endParaRPr lang="en-AU"/>
        </a:p>
      </dgm:t>
    </dgm:pt>
    <dgm:pt modelId="{296EF041-0EF0-4EDF-9E87-2AF3FE8A2EE8}" type="sibTrans" cxnId="{7794C4A4-09FA-41AA-8E11-E804B66BC018}">
      <dgm:prSet/>
      <dgm:spPr/>
      <dgm:t>
        <a:bodyPr/>
        <a:lstStyle/>
        <a:p>
          <a:endParaRPr lang="en-AU"/>
        </a:p>
      </dgm:t>
    </dgm:pt>
    <dgm:pt modelId="{395C9758-4B0B-4E45-B6E5-C0D3C739C04F}">
      <dgm:prSet phldrT="[Text]"/>
      <dgm:spPr>
        <a:solidFill>
          <a:srgbClr val="9BBC57"/>
        </a:solidFill>
      </dgm:spPr>
      <dgm:t>
        <a:bodyPr/>
        <a:lstStyle/>
        <a:p>
          <a:r>
            <a:rPr lang="en-AU" dirty="0"/>
            <a:t>Private &amp; Government Organisations</a:t>
          </a:r>
        </a:p>
      </dgm:t>
    </dgm:pt>
    <dgm:pt modelId="{A215876A-B9B8-4592-A039-E035B90DDC68}" type="parTrans" cxnId="{AE95D65A-3273-4B0E-AC13-E44EA049031F}">
      <dgm:prSet/>
      <dgm:spPr/>
      <dgm:t>
        <a:bodyPr/>
        <a:lstStyle/>
        <a:p>
          <a:endParaRPr lang="en-AU"/>
        </a:p>
      </dgm:t>
    </dgm:pt>
    <dgm:pt modelId="{12652199-0443-40AA-840A-9A455D1E0B02}" type="sibTrans" cxnId="{AE95D65A-3273-4B0E-AC13-E44EA049031F}">
      <dgm:prSet/>
      <dgm:spPr/>
      <dgm:t>
        <a:bodyPr/>
        <a:lstStyle/>
        <a:p>
          <a:endParaRPr lang="en-AU"/>
        </a:p>
      </dgm:t>
    </dgm:pt>
    <dgm:pt modelId="{44696872-0945-4697-B91D-3D22E28FDA2F}">
      <dgm:prSet phldrT="[Text]"/>
      <dgm:spPr>
        <a:solidFill>
          <a:srgbClr val="2F2865"/>
        </a:solidFill>
      </dgm:spPr>
      <dgm:t>
        <a:bodyPr/>
        <a:lstStyle/>
        <a:p>
          <a:r>
            <a:rPr lang="en-AU" dirty="0"/>
            <a:t>Resources</a:t>
          </a:r>
        </a:p>
      </dgm:t>
    </dgm:pt>
    <dgm:pt modelId="{DFC5B6F1-8CED-4DEB-A23C-BEDF907A0100}" type="parTrans" cxnId="{307B0E9C-4353-4466-BB05-1356D2038A03}">
      <dgm:prSet/>
      <dgm:spPr/>
      <dgm:t>
        <a:bodyPr/>
        <a:lstStyle/>
        <a:p>
          <a:endParaRPr lang="en-AU"/>
        </a:p>
      </dgm:t>
    </dgm:pt>
    <dgm:pt modelId="{FF46A333-CBD3-4FC5-845E-DC6AE222282F}" type="sibTrans" cxnId="{307B0E9C-4353-4466-BB05-1356D2038A03}">
      <dgm:prSet/>
      <dgm:spPr/>
      <dgm:t>
        <a:bodyPr/>
        <a:lstStyle/>
        <a:p>
          <a:endParaRPr lang="en-AU"/>
        </a:p>
      </dgm:t>
    </dgm:pt>
    <dgm:pt modelId="{0CA3D8CE-777D-43C1-8971-52CEE0413A3C}" type="pres">
      <dgm:prSet presAssocID="{5B45052B-F7E4-49DC-AB36-BEA4986A21CE}" presName="Name0" presStyleCnt="0">
        <dgm:presLayoutVars>
          <dgm:chPref val="1"/>
          <dgm:dir/>
          <dgm:animOne val="branch"/>
          <dgm:animLvl val="lvl"/>
          <dgm:resizeHandles/>
        </dgm:presLayoutVars>
      </dgm:prSet>
      <dgm:spPr/>
    </dgm:pt>
    <dgm:pt modelId="{4FCEA3E8-0101-4735-8311-ECFF020D74F0}" type="pres">
      <dgm:prSet presAssocID="{6DFD17F6-F6E3-41AD-B95A-464DBA95792E}" presName="vertOne" presStyleCnt="0"/>
      <dgm:spPr/>
    </dgm:pt>
    <dgm:pt modelId="{83EA53E3-D5E1-43E7-9543-D7C4B72D45B8}" type="pres">
      <dgm:prSet presAssocID="{6DFD17F6-F6E3-41AD-B95A-464DBA95792E}" presName="txOne" presStyleLbl="node0" presStyleIdx="0" presStyleCnt="1" custLinFactY="65640" custLinFactNeighborX="3515" custLinFactNeighborY="100000">
        <dgm:presLayoutVars>
          <dgm:chPref val="3"/>
        </dgm:presLayoutVars>
      </dgm:prSet>
      <dgm:spPr/>
    </dgm:pt>
    <dgm:pt modelId="{F330D2EA-14F9-46FA-BA61-942765C4DFE6}" type="pres">
      <dgm:prSet presAssocID="{6DFD17F6-F6E3-41AD-B95A-464DBA95792E}" presName="parTransOne" presStyleCnt="0"/>
      <dgm:spPr/>
    </dgm:pt>
    <dgm:pt modelId="{CDD1C564-3ACB-478C-8560-89E18E0A6117}" type="pres">
      <dgm:prSet presAssocID="{6DFD17F6-F6E3-41AD-B95A-464DBA95792E}" presName="horzOne" presStyleCnt="0"/>
      <dgm:spPr/>
    </dgm:pt>
    <dgm:pt modelId="{8E2D2E4A-EC5C-4D6E-BC67-A7768AC3131D}" type="pres">
      <dgm:prSet presAssocID="{4635B93A-9EE6-495A-B18C-01600FF21A2E}" presName="vertTwo" presStyleCnt="0"/>
      <dgm:spPr/>
    </dgm:pt>
    <dgm:pt modelId="{A3B66440-5314-48AD-9A9C-42D4F549E5C8}" type="pres">
      <dgm:prSet presAssocID="{4635B93A-9EE6-495A-B18C-01600FF21A2E}" presName="txTwo" presStyleLbl="node2" presStyleIdx="0" presStyleCnt="2">
        <dgm:presLayoutVars>
          <dgm:chPref val="3"/>
        </dgm:presLayoutVars>
      </dgm:prSet>
      <dgm:spPr/>
    </dgm:pt>
    <dgm:pt modelId="{70AB5D7E-5F38-4B1B-8F8A-DC0880721BDD}" type="pres">
      <dgm:prSet presAssocID="{4635B93A-9EE6-495A-B18C-01600FF21A2E}" presName="parTransTwo" presStyleCnt="0"/>
      <dgm:spPr/>
    </dgm:pt>
    <dgm:pt modelId="{645D4040-E733-4FCC-A10F-E60B23C47A67}" type="pres">
      <dgm:prSet presAssocID="{4635B93A-9EE6-495A-B18C-01600FF21A2E}" presName="horzTwo" presStyleCnt="0"/>
      <dgm:spPr/>
    </dgm:pt>
    <dgm:pt modelId="{44F8A1B3-4E68-4EB7-AAB1-DD52CF8E0AD1}" type="pres">
      <dgm:prSet presAssocID="{F770B1D7-CA78-454D-A75A-AC44D852A4E6}" presName="vertThree" presStyleCnt="0"/>
      <dgm:spPr/>
    </dgm:pt>
    <dgm:pt modelId="{859AA652-33E6-48A7-9780-700692E0ACB2}" type="pres">
      <dgm:prSet presAssocID="{F770B1D7-CA78-454D-A75A-AC44D852A4E6}" presName="txThree" presStyleLbl="node3" presStyleIdx="0" presStyleCnt="3" custLinFactNeighborX="-2741" custLinFactNeighborY="-33657">
        <dgm:presLayoutVars>
          <dgm:chPref val="3"/>
        </dgm:presLayoutVars>
      </dgm:prSet>
      <dgm:spPr/>
    </dgm:pt>
    <dgm:pt modelId="{A4C381DE-8670-4219-B32A-2D961CFABD1D}" type="pres">
      <dgm:prSet presAssocID="{F770B1D7-CA78-454D-A75A-AC44D852A4E6}" presName="horzThree" presStyleCnt="0"/>
      <dgm:spPr/>
    </dgm:pt>
    <dgm:pt modelId="{17B8BC2F-A3F2-48DB-A371-33B4C0F71AEC}" type="pres">
      <dgm:prSet presAssocID="{DADAFC0F-E395-4FEC-9EA1-F675ADC47DA4}" presName="sibSpaceThree" presStyleCnt="0"/>
      <dgm:spPr/>
    </dgm:pt>
    <dgm:pt modelId="{71C226E3-C966-4460-9ED6-049CE1100652}" type="pres">
      <dgm:prSet presAssocID="{22DFEC38-97F5-4459-8F52-D6016F1A6A11}" presName="vertThree" presStyleCnt="0"/>
      <dgm:spPr/>
    </dgm:pt>
    <dgm:pt modelId="{D5875712-E567-49E0-9CEB-FB31EF7422D5}" type="pres">
      <dgm:prSet presAssocID="{22DFEC38-97F5-4459-8F52-D6016F1A6A11}" presName="txThree" presStyleLbl="node3" presStyleIdx="1" presStyleCnt="3" custLinFactNeighborX="511" custLinFactNeighborY="407">
        <dgm:presLayoutVars>
          <dgm:chPref val="3"/>
        </dgm:presLayoutVars>
      </dgm:prSet>
      <dgm:spPr/>
    </dgm:pt>
    <dgm:pt modelId="{83A41608-1222-48B9-A48F-C38392ABE83E}" type="pres">
      <dgm:prSet presAssocID="{22DFEC38-97F5-4459-8F52-D6016F1A6A11}" presName="horzThree" presStyleCnt="0"/>
      <dgm:spPr/>
    </dgm:pt>
    <dgm:pt modelId="{9175318F-02BC-4A28-A8E5-FA718E98E61B}" type="pres">
      <dgm:prSet presAssocID="{F7DDFFC9-07C6-4619-A7C4-FA2BCC34E2B9}" presName="sibSpaceTwo" presStyleCnt="0"/>
      <dgm:spPr/>
    </dgm:pt>
    <dgm:pt modelId="{A7E376F1-DB5C-4F36-8F58-EA7BFCB0CB80}" type="pres">
      <dgm:prSet presAssocID="{395C9758-4B0B-4E45-B6E5-C0D3C739C04F}" presName="vertTwo" presStyleCnt="0"/>
      <dgm:spPr/>
    </dgm:pt>
    <dgm:pt modelId="{EA4BBF32-6302-4C27-86D5-85120F7A781A}" type="pres">
      <dgm:prSet presAssocID="{395C9758-4B0B-4E45-B6E5-C0D3C739C04F}" presName="txTwo" presStyleLbl="node2" presStyleIdx="1" presStyleCnt="2">
        <dgm:presLayoutVars>
          <dgm:chPref val="3"/>
        </dgm:presLayoutVars>
      </dgm:prSet>
      <dgm:spPr/>
    </dgm:pt>
    <dgm:pt modelId="{317D63F5-2336-40BB-859B-54F83E275269}" type="pres">
      <dgm:prSet presAssocID="{395C9758-4B0B-4E45-B6E5-C0D3C739C04F}" presName="parTransTwo" presStyleCnt="0"/>
      <dgm:spPr/>
    </dgm:pt>
    <dgm:pt modelId="{A9A0A20B-1983-459B-919F-AB09E85F2161}" type="pres">
      <dgm:prSet presAssocID="{395C9758-4B0B-4E45-B6E5-C0D3C739C04F}" presName="horzTwo" presStyleCnt="0"/>
      <dgm:spPr/>
    </dgm:pt>
    <dgm:pt modelId="{02AC6B71-908C-4395-9978-01ADEB6096E4}" type="pres">
      <dgm:prSet presAssocID="{44696872-0945-4697-B91D-3D22E28FDA2F}" presName="vertThree" presStyleCnt="0"/>
      <dgm:spPr/>
    </dgm:pt>
    <dgm:pt modelId="{5AA39F11-FF8F-4475-B229-95ED047C3110}" type="pres">
      <dgm:prSet presAssocID="{44696872-0945-4697-B91D-3D22E28FDA2F}" presName="txThree" presStyleLbl="node3" presStyleIdx="2" presStyleCnt="3">
        <dgm:presLayoutVars>
          <dgm:chPref val="3"/>
        </dgm:presLayoutVars>
      </dgm:prSet>
      <dgm:spPr/>
    </dgm:pt>
    <dgm:pt modelId="{C4FAA077-6BE3-4B0E-96FD-E2589E804AFB}" type="pres">
      <dgm:prSet presAssocID="{44696872-0945-4697-B91D-3D22E28FDA2F}" presName="horzThree" presStyleCnt="0"/>
      <dgm:spPr/>
    </dgm:pt>
  </dgm:ptLst>
  <dgm:cxnLst>
    <dgm:cxn modelId="{922D8A0C-47D6-4FF8-9DD9-81B9165A1F3E}" type="presOf" srcId="{F770B1D7-CA78-454D-A75A-AC44D852A4E6}" destId="{859AA652-33E6-48A7-9780-700692E0ACB2}" srcOrd="0" destOrd="0" presId="urn:microsoft.com/office/officeart/2005/8/layout/architecture"/>
    <dgm:cxn modelId="{760CAB3C-7953-48C7-B0BF-BA5DE5095E74}" type="presOf" srcId="{44696872-0945-4697-B91D-3D22E28FDA2F}" destId="{5AA39F11-FF8F-4475-B229-95ED047C3110}" srcOrd="0" destOrd="0" presId="urn:microsoft.com/office/officeart/2005/8/layout/architecture"/>
    <dgm:cxn modelId="{E8650561-5A66-43A2-89EE-29484634742D}" type="presOf" srcId="{395C9758-4B0B-4E45-B6E5-C0D3C739C04F}" destId="{EA4BBF32-6302-4C27-86D5-85120F7A781A}" srcOrd="0" destOrd="0" presId="urn:microsoft.com/office/officeart/2005/8/layout/architecture"/>
    <dgm:cxn modelId="{E229096C-C2B0-43AD-8C2A-B0529528C26A}" srcId="{4635B93A-9EE6-495A-B18C-01600FF21A2E}" destId="{F770B1D7-CA78-454D-A75A-AC44D852A4E6}" srcOrd="0" destOrd="0" parTransId="{82351834-4D4C-4F5B-9A35-7EE5D1BE3A5B}" sibTransId="{DADAFC0F-E395-4FEC-9EA1-F675ADC47DA4}"/>
    <dgm:cxn modelId="{D8BAD978-F7B0-4197-967E-2AED209F35A0}" type="presOf" srcId="{4635B93A-9EE6-495A-B18C-01600FF21A2E}" destId="{A3B66440-5314-48AD-9A9C-42D4F549E5C8}" srcOrd="0" destOrd="0" presId="urn:microsoft.com/office/officeart/2005/8/layout/architecture"/>
    <dgm:cxn modelId="{AE95D65A-3273-4B0E-AC13-E44EA049031F}" srcId="{6DFD17F6-F6E3-41AD-B95A-464DBA95792E}" destId="{395C9758-4B0B-4E45-B6E5-C0D3C739C04F}" srcOrd="1" destOrd="0" parTransId="{A215876A-B9B8-4592-A039-E035B90DDC68}" sibTransId="{12652199-0443-40AA-840A-9A455D1E0B02}"/>
    <dgm:cxn modelId="{6CDF6D7F-4499-4375-B337-B9F4AAA4F972}" type="presOf" srcId="{6DFD17F6-F6E3-41AD-B95A-464DBA95792E}" destId="{83EA53E3-D5E1-43E7-9543-D7C4B72D45B8}" srcOrd="0" destOrd="0" presId="urn:microsoft.com/office/officeart/2005/8/layout/architecture"/>
    <dgm:cxn modelId="{415FEA8B-AEA0-4C1C-AFE0-FE349762FBF3}" srcId="{5B45052B-F7E4-49DC-AB36-BEA4986A21CE}" destId="{6DFD17F6-F6E3-41AD-B95A-464DBA95792E}" srcOrd="0" destOrd="0" parTransId="{5135A242-4D1D-45B0-9A6D-98657A666C6A}" sibTransId="{9A10713F-A0CF-4369-9614-C696508BE2D0}"/>
    <dgm:cxn modelId="{307B0E9C-4353-4466-BB05-1356D2038A03}" srcId="{395C9758-4B0B-4E45-B6E5-C0D3C739C04F}" destId="{44696872-0945-4697-B91D-3D22E28FDA2F}" srcOrd="0" destOrd="0" parTransId="{DFC5B6F1-8CED-4DEB-A23C-BEDF907A0100}" sibTransId="{FF46A333-CBD3-4FC5-845E-DC6AE222282F}"/>
    <dgm:cxn modelId="{7794C4A4-09FA-41AA-8E11-E804B66BC018}" srcId="{4635B93A-9EE6-495A-B18C-01600FF21A2E}" destId="{22DFEC38-97F5-4459-8F52-D6016F1A6A11}" srcOrd="1" destOrd="0" parTransId="{54AAF88B-2127-4A54-BFBC-3C08B2071BA7}" sibTransId="{296EF041-0EF0-4EDF-9E87-2AF3FE8A2EE8}"/>
    <dgm:cxn modelId="{2DB29ED4-7FE6-44EF-B198-8ACDF578DD64}" type="presOf" srcId="{22DFEC38-97F5-4459-8F52-D6016F1A6A11}" destId="{D5875712-E567-49E0-9CEB-FB31EF7422D5}" srcOrd="0" destOrd="0" presId="urn:microsoft.com/office/officeart/2005/8/layout/architecture"/>
    <dgm:cxn modelId="{3F8D57E8-AC44-4682-B47C-8DC6D434B1A4}" srcId="{6DFD17F6-F6E3-41AD-B95A-464DBA95792E}" destId="{4635B93A-9EE6-495A-B18C-01600FF21A2E}" srcOrd="0" destOrd="0" parTransId="{28092DCD-D448-4AAD-B10F-E5826E2842FC}" sibTransId="{F7DDFFC9-07C6-4619-A7C4-FA2BCC34E2B9}"/>
    <dgm:cxn modelId="{BF786AFC-AA16-46EC-BD63-51B58A64D4D3}" type="presOf" srcId="{5B45052B-F7E4-49DC-AB36-BEA4986A21CE}" destId="{0CA3D8CE-777D-43C1-8971-52CEE0413A3C}" srcOrd="0" destOrd="0" presId="urn:microsoft.com/office/officeart/2005/8/layout/architecture"/>
    <dgm:cxn modelId="{13E797A2-0FA4-46DD-A828-56BD9B3C2EC1}" type="presParOf" srcId="{0CA3D8CE-777D-43C1-8971-52CEE0413A3C}" destId="{4FCEA3E8-0101-4735-8311-ECFF020D74F0}" srcOrd="0" destOrd="0" presId="urn:microsoft.com/office/officeart/2005/8/layout/architecture"/>
    <dgm:cxn modelId="{510CC85D-A3BB-4BAF-8E86-D7F1AF8A60C3}" type="presParOf" srcId="{4FCEA3E8-0101-4735-8311-ECFF020D74F0}" destId="{83EA53E3-D5E1-43E7-9543-D7C4B72D45B8}" srcOrd="0" destOrd="0" presId="urn:microsoft.com/office/officeart/2005/8/layout/architecture"/>
    <dgm:cxn modelId="{70FB0D13-8811-42D6-8669-5F6EB5DF7FCC}" type="presParOf" srcId="{4FCEA3E8-0101-4735-8311-ECFF020D74F0}" destId="{F330D2EA-14F9-46FA-BA61-942765C4DFE6}" srcOrd="1" destOrd="0" presId="urn:microsoft.com/office/officeart/2005/8/layout/architecture"/>
    <dgm:cxn modelId="{3EDC1CE0-D690-4971-AAC6-E7CD9EC87ECA}" type="presParOf" srcId="{4FCEA3E8-0101-4735-8311-ECFF020D74F0}" destId="{CDD1C564-3ACB-478C-8560-89E18E0A6117}" srcOrd="2" destOrd="0" presId="urn:microsoft.com/office/officeart/2005/8/layout/architecture"/>
    <dgm:cxn modelId="{B00A70CE-6466-46F7-914E-A24C92BF5240}" type="presParOf" srcId="{CDD1C564-3ACB-478C-8560-89E18E0A6117}" destId="{8E2D2E4A-EC5C-4D6E-BC67-A7768AC3131D}" srcOrd="0" destOrd="0" presId="urn:microsoft.com/office/officeart/2005/8/layout/architecture"/>
    <dgm:cxn modelId="{EB3E6373-1F31-44B9-8163-64CABAF2919D}" type="presParOf" srcId="{8E2D2E4A-EC5C-4D6E-BC67-A7768AC3131D}" destId="{A3B66440-5314-48AD-9A9C-42D4F549E5C8}" srcOrd="0" destOrd="0" presId="urn:microsoft.com/office/officeart/2005/8/layout/architecture"/>
    <dgm:cxn modelId="{41742255-36B6-428F-9686-B05F2A506E38}" type="presParOf" srcId="{8E2D2E4A-EC5C-4D6E-BC67-A7768AC3131D}" destId="{70AB5D7E-5F38-4B1B-8F8A-DC0880721BDD}" srcOrd="1" destOrd="0" presId="urn:microsoft.com/office/officeart/2005/8/layout/architecture"/>
    <dgm:cxn modelId="{9A26ABC3-7A16-40CF-A3B4-CAFE1442A160}" type="presParOf" srcId="{8E2D2E4A-EC5C-4D6E-BC67-A7768AC3131D}" destId="{645D4040-E733-4FCC-A10F-E60B23C47A67}" srcOrd="2" destOrd="0" presId="urn:microsoft.com/office/officeart/2005/8/layout/architecture"/>
    <dgm:cxn modelId="{6B1F0859-E530-457B-9C2B-D354E2999AB7}" type="presParOf" srcId="{645D4040-E733-4FCC-A10F-E60B23C47A67}" destId="{44F8A1B3-4E68-4EB7-AAB1-DD52CF8E0AD1}" srcOrd="0" destOrd="0" presId="urn:microsoft.com/office/officeart/2005/8/layout/architecture"/>
    <dgm:cxn modelId="{E88477DB-2E20-4807-8B37-A54CBB9AE2B3}" type="presParOf" srcId="{44F8A1B3-4E68-4EB7-AAB1-DD52CF8E0AD1}" destId="{859AA652-33E6-48A7-9780-700692E0ACB2}" srcOrd="0" destOrd="0" presId="urn:microsoft.com/office/officeart/2005/8/layout/architecture"/>
    <dgm:cxn modelId="{1DC4A89C-B28B-4DBC-BD19-FB9DCE28CF42}" type="presParOf" srcId="{44F8A1B3-4E68-4EB7-AAB1-DD52CF8E0AD1}" destId="{A4C381DE-8670-4219-B32A-2D961CFABD1D}" srcOrd="1" destOrd="0" presId="urn:microsoft.com/office/officeart/2005/8/layout/architecture"/>
    <dgm:cxn modelId="{8AB0CE3C-D279-4BEF-8B96-285F5769FAFB}" type="presParOf" srcId="{645D4040-E733-4FCC-A10F-E60B23C47A67}" destId="{17B8BC2F-A3F2-48DB-A371-33B4C0F71AEC}" srcOrd="1" destOrd="0" presId="urn:microsoft.com/office/officeart/2005/8/layout/architecture"/>
    <dgm:cxn modelId="{17149156-8CBC-40AC-97D2-252F018D2A3E}" type="presParOf" srcId="{645D4040-E733-4FCC-A10F-E60B23C47A67}" destId="{71C226E3-C966-4460-9ED6-049CE1100652}" srcOrd="2" destOrd="0" presId="urn:microsoft.com/office/officeart/2005/8/layout/architecture"/>
    <dgm:cxn modelId="{26CFED85-0283-4755-87D2-171679C7778B}" type="presParOf" srcId="{71C226E3-C966-4460-9ED6-049CE1100652}" destId="{D5875712-E567-49E0-9CEB-FB31EF7422D5}" srcOrd="0" destOrd="0" presId="urn:microsoft.com/office/officeart/2005/8/layout/architecture"/>
    <dgm:cxn modelId="{9F5D206A-52A1-4E50-9D40-6473A111ACB2}" type="presParOf" srcId="{71C226E3-C966-4460-9ED6-049CE1100652}" destId="{83A41608-1222-48B9-A48F-C38392ABE83E}" srcOrd="1" destOrd="0" presId="urn:microsoft.com/office/officeart/2005/8/layout/architecture"/>
    <dgm:cxn modelId="{543F1D83-4A57-4364-9955-8BD187D3837B}" type="presParOf" srcId="{CDD1C564-3ACB-478C-8560-89E18E0A6117}" destId="{9175318F-02BC-4A28-A8E5-FA718E98E61B}" srcOrd="1" destOrd="0" presId="urn:microsoft.com/office/officeart/2005/8/layout/architecture"/>
    <dgm:cxn modelId="{DD71D4FD-9640-42D2-8058-EBD614970FBF}" type="presParOf" srcId="{CDD1C564-3ACB-478C-8560-89E18E0A6117}" destId="{A7E376F1-DB5C-4F36-8F58-EA7BFCB0CB80}" srcOrd="2" destOrd="0" presId="urn:microsoft.com/office/officeart/2005/8/layout/architecture"/>
    <dgm:cxn modelId="{264A60E8-D5A6-442C-BE8D-7A6F59E382EE}" type="presParOf" srcId="{A7E376F1-DB5C-4F36-8F58-EA7BFCB0CB80}" destId="{EA4BBF32-6302-4C27-86D5-85120F7A781A}" srcOrd="0" destOrd="0" presId="urn:microsoft.com/office/officeart/2005/8/layout/architecture"/>
    <dgm:cxn modelId="{82C133CB-E95C-4AB8-833D-516FC0B63203}" type="presParOf" srcId="{A7E376F1-DB5C-4F36-8F58-EA7BFCB0CB80}" destId="{317D63F5-2336-40BB-859B-54F83E275269}" srcOrd="1" destOrd="0" presId="urn:microsoft.com/office/officeart/2005/8/layout/architecture"/>
    <dgm:cxn modelId="{DFC7D49F-BFCF-45DA-8C4E-1E6D9EFDEF69}" type="presParOf" srcId="{A7E376F1-DB5C-4F36-8F58-EA7BFCB0CB80}" destId="{A9A0A20B-1983-459B-919F-AB09E85F2161}" srcOrd="2" destOrd="0" presId="urn:microsoft.com/office/officeart/2005/8/layout/architecture"/>
    <dgm:cxn modelId="{4C6D7AF9-C949-4CD2-AA37-6675A2AA559B}" type="presParOf" srcId="{A9A0A20B-1983-459B-919F-AB09E85F2161}" destId="{02AC6B71-908C-4395-9978-01ADEB6096E4}" srcOrd="0" destOrd="0" presId="urn:microsoft.com/office/officeart/2005/8/layout/architecture"/>
    <dgm:cxn modelId="{78F7B198-AD0A-46BD-B722-F216D5A878D2}" type="presParOf" srcId="{02AC6B71-908C-4395-9978-01ADEB6096E4}" destId="{5AA39F11-FF8F-4475-B229-95ED047C3110}" srcOrd="0" destOrd="0" presId="urn:microsoft.com/office/officeart/2005/8/layout/architecture"/>
    <dgm:cxn modelId="{FF4E2EA9-A90A-4C7B-8C3A-EC25C98E9DD5}" type="presParOf" srcId="{02AC6B71-908C-4395-9978-01ADEB6096E4}" destId="{C4FAA077-6BE3-4B0E-96FD-E2589E804AFB}" srcOrd="1" destOrd="0" presId="urn:microsoft.com/office/officeart/2005/8/layout/architecture"/>
  </dgm:cxnLst>
  <dgm:bg/>
  <dgm:whole/>
  <dgm:extLst>
    <a:ext uri="http://schemas.microsoft.com/office/drawing/2008/diagram">
      <dsp:dataModelExt xmlns:dsp="http://schemas.microsoft.com/office/drawing/2008/diagram" relId="rId6" minVer="http://schemas.openxmlformats.org/drawingml/2006/diagram"/>
    </a:ext>
  </dgm:extLst>
</dgm:dataModel>
</file>

<file path=ppt/diagrams/drawing1.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83EA53E3-D5E1-43E7-9543-D7C4B72D45B8}">
      <dsp:nvSpPr>
        <dsp:cNvPr id="0" name=""/>
        <dsp:cNvSpPr/>
      </dsp:nvSpPr>
      <dsp:spPr>
        <a:xfrm>
          <a:off x="1219" y="2646466"/>
          <a:ext cx="5313139" cy="1227702"/>
        </a:xfrm>
        <a:prstGeom prst="roundRect">
          <a:avLst>
            <a:gd name="adj" fmla="val 10000"/>
          </a:avLst>
        </a:prstGeom>
        <a:solidFill>
          <a:srgbClr val="F49D15"/>
        </a:solidFill>
        <a:ln w="12700" cap="flat" cmpd="sng" algn="ctr">
          <a:solidFill>
            <a:schemeClr val="lt1">
              <a:hueOff val="0"/>
              <a:satOff val="0"/>
              <a:lumOff val="0"/>
              <a:alphaOff val="0"/>
            </a:schemeClr>
          </a:solidFill>
          <a:prstDash val="solid"/>
          <a:miter lim="800000"/>
        </a:ln>
        <a:effectLst/>
      </dsp:spPr>
      <dsp:style>
        <a:lnRef idx="2">
          <a:scrgbClr r="0" g="0" b="0"/>
        </a:lnRef>
        <a:fillRef idx="1">
          <a:scrgbClr r="0" g="0" b="0"/>
        </a:fillRef>
        <a:effectRef idx="0">
          <a:scrgbClr r="0" g="0" b="0"/>
        </a:effectRef>
        <a:fontRef idx="minor">
          <a:schemeClr val="lt1"/>
        </a:fontRef>
      </dsp:style>
      <dsp:txBody>
        <a:bodyPr spcFirstLastPara="0" vert="horz" wrap="square" lIns="95250" tIns="95250" rIns="95250" bIns="95250" numCol="1" spcCol="1270" anchor="ctr" anchorCtr="0">
          <a:noAutofit/>
        </a:bodyPr>
        <a:lstStyle/>
        <a:p>
          <a:pPr marL="0" lvl="0" indent="0" algn="ctr" defTabSz="1111250">
            <a:lnSpc>
              <a:spcPct val="90000"/>
            </a:lnSpc>
            <a:spcBef>
              <a:spcPct val="0"/>
            </a:spcBef>
            <a:spcAft>
              <a:spcPct val="35000"/>
            </a:spcAft>
            <a:buNone/>
          </a:pPr>
          <a:r>
            <a:rPr lang="en-AU" sz="2500" kern="1200" dirty="0"/>
            <a:t>Not-for-profit and Peak Industry Body</a:t>
          </a:r>
        </a:p>
        <a:p>
          <a:pPr marL="0" lvl="0" indent="0" algn="ctr" defTabSz="1111250">
            <a:lnSpc>
              <a:spcPct val="90000"/>
            </a:lnSpc>
            <a:spcBef>
              <a:spcPct val="0"/>
            </a:spcBef>
            <a:spcAft>
              <a:spcPct val="35000"/>
            </a:spcAft>
            <a:buNone/>
          </a:pPr>
          <a:r>
            <a:rPr lang="en-AU" sz="2500" kern="1200" dirty="0"/>
            <a:t>25 years</a:t>
          </a:r>
        </a:p>
      </dsp:txBody>
      <dsp:txXfrm>
        <a:off x="37177" y="2682424"/>
        <a:ext cx="5241223" cy="1155786"/>
      </dsp:txXfrm>
    </dsp:sp>
    <dsp:sp modelId="{A3B66440-5314-48AD-9A9C-42D4F549E5C8}">
      <dsp:nvSpPr>
        <dsp:cNvPr id="0" name=""/>
        <dsp:cNvSpPr/>
      </dsp:nvSpPr>
      <dsp:spPr>
        <a:xfrm>
          <a:off x="609" y="1323233"/>
          <a:ext cx="3470707" cy="1227702"/>
        </a:xfrm>
        <a:prstGeom prst="roundRect">
          <a:avLst>
            <a:gd name="adj" fmla="val 10000"/>
          </a:avLst>
        </a:prstGeom>
        <a:solidFill>
          <a:srgbClr val="E40487"/>
        </a:solidFill>
        <a:ln w="12700" cap="flat" cmpd="sng" algn="ctr">
          <a:solidFill>
            <a:schemeClr val="lt1">
              <a:hueOff val="0"/>
              <a:satOff val="0"/>
              <a:lumOff val="0"/>
              <a:alphaOff val="0"/>
            </a:schemeClr>
          </a:solidFill>
          <a:prstDash val="solid"/>
          <a:miter lim="800000"/>
        </a:ln>
        <a:effectLst/>
      </dsp:spPr>
      <dsp:style>
        <a:lnRef idx="2">
          <a:scrgbClr r="0" g="0" b="0"/>
        </a:lnRef>
        <a:fillRef idx="1">
          <a:scrgbClr r="0" g="0" b="0"/>
        </a:fillRef>
        <a:effectRef idx="0">
          <a:scrgbClr r="0" g="0" b="0"/>
        </a:effectRef>
        <a:fontRef idx="minor">
          <a:schemeClr val="lt1"/>
        </a:fontRef>
      </dsp:style>
      <dsp:txBody>
        <a:bodyPr spcFirstLastPara="0" vert="horz" wrap="square" lIns="76200" tIns="76200" rIns="76200" bIns="76200" numCol="1" spcCol="1270" anchor="ctr" anchorCtr="0">
          <a:noAutofit/>
        </a:bodyPr>
        <a:lstStyle/>
        <a:p>
          <a:pPr marL="0" lvl="0" indent="0" algn="ctr" defTabSz="889000">
            <a:lnSpc>
              <a:spcPct val="90000"/>
            </a:lnSpc>
            <a:spcBef>
              <a:spcPct val="0"/>
            </a:spcBef>
            <a:spcAft>
              <a:spcPct val="35000"/>
            </a:spcAft>
            <a:buNone/>
          </a:pPr>
          <a:r>
            <a:rPr lang="en-AU" sz="2000" kern="1200" dirty="0"/>
            <a:t>500 Members</a:t>
          </a:r>
        </a:p>
        <a:p>
          <a:pPr marL="0" lvl="0" indent="0" algn="ctr" defTabSz="889000">
            <a:lnSpc>
              <a:spcPct val="90000"/>
            </a:lnSpc>
            <a:spcBef>
              <a:spcPct val="0"/>
            </a:spcBef>
            <a:spcAft>
              <a:spcPct val="35000"/>
            </a:spcAft>
            <a:buNone/>
          </a:pPr>
          <a:r>
            <a:rPr lang="en-AU" sz="2000" kern="1200" dirty="0"/>
            <a:t>Australia/New Zealand/ASIA</a:t>
          </a:r>
        </a:p>
      </dsp:txBody>
      <dsp:txXfrm>
        <a:off x="36567" y="1359191"/>
        <a:ext cx="3398791" cy="1155786"/>
      </dsp:txXfrm>
    </dsp:sp>
    <dsp:sp modelId="{859AA652-33E6-48A7-9780-700692E0ACB2}">
      <dsp:nvSpPr>
        <dsp:cNvPr id="0" name=""/>
        <dsp:cNvSpPr/>
      </dsp:nvSpPr>
      <dsp:spPr>
        <a:xfrm>
          <a:off x="0" y="0"/>
          <a:ext cx="1699660" cy="1227702"/>
        </a:xfrm>
        <a:prstGeom prst="roundRect">
          <a:avLst>
            <a:gd name="adj" fmla="val 10000"/>
          </a:avLst>
        </a:prstGeom>
        <a:solidFill>
          <a:srgbClr val="297F9D"/>
        </a:solidFill>
        <a:ln w="12700" cap="flat" cmpd="sng" algn="ctr">
          <a:solidFill>
            <a:schemeClr val="lt1">
              <a:hueOff val="0"/>
              <a:satOff val="0"/>
              <a:lumOff val="0"/>
              <a:alphaOff val="0"/>
            </a:schemeClr>
          </a:solidFill>
          <a:prstDash val="solid"/>
          <a:miter lim="800000"/>
        </a:ln>
        <a:effectLst/>
      </dsp:spPr>
      <dsp:style>
        <a:lnRef idx="2">
          <a:scrgbClr r="0" g="0" b="0"/>
        </a:lnRef>
        <a:fillRef idx="1">
          <a:scrgbClr r="0" g="0" b="0"/>
        </a:fillRef>
        <a:effectRef idx="0">
          <a:scrgbClr r="0" g="0" b="0"/>
        </a:effectRef>
        <a:fontRef idx="minor">
          <a:schemeClr val="lt1"/>
        </a:fontRef>
      </dsp:style>
      <dsp:txBody>
        <a:bodyPr spcFirstLastPara="0" vert="horz" wrap="square" lIns="72390" tIns="72390" rIns="72390" bIns="72390" numCol="1" spcCol="1270" anchor="ctr" anchorCtr="0">
          <a:noAutofit/>
        </a:bodyPr>
        <a:lstStyle/>
        <a:p>
          <a:pPr marL="0" lvl="0" indent="0" algn="ctr" defTabSz="844550">
            <a:lnSpc>
              <a:spcPct val="90000"/>
            </a:lnSpc>
            <a:spcBef>
              <a:spcPct val="0"/>
            </a:spcBef>
            <a:spcAft>
              <a:spcPct val="35000"/>
            </a:spcAft>
            <a:buNone/>
          </a:pPr>
          <a:r>
            <a:rPr lang="en-AU" sz="1900" kern="1200" dirty="0"/>
            <a:t>Fleet Management</a:t>
          </a:r>
        </a:p>
        <a:p>
          <a:pPr marL="0" lvl="0" indent="0" algn="ctr" defTabSz="844550">
            <a:lnSpc>
              <a:spcPct val="90000"/>
            </a:lnSpc>
            <a:spcBef>
              <a:spcPct val="0"/>
            </a:spcBef>
            <a:spcAft>
              <a:spcPct val="35000"/>
            </a:spcAft>
            <a:buNone/>
          </a:pPr>
          <a:r>
            <a:rPr lang="en-AU" sz="1900" kern="1200" dirty="0"/>
            <a:t>as a Profession</a:t>
          </a:r>
        </a:p>
      </dsp:txBody>
      <dsp:txXfrm>
        <a:off x="35958" y="35958"/>
        <a:ext cx="1627744" cy="1155786"/>
      </dsp:txXfrm>
    </dsp:sp>
    <dsp:sp modelId="{D5875712-E567-49E0-9CEB-FB31EF7422D5}">
      <dsp:nvSpPr>
        <dsp:cNvPr id="0" name=""/>
        <dsp:cNvSpPr/>
      </dsp:nvSpPr>
      <dsp:spPr>
        <a:xfrm>
          <a:off x="1780341" y="6217"/>
          <a:ext cx="1699660" cy="1227702"/>
        </a:xfrm>
        <a:prstGeom prst="roundRect">
          <a:avLst>
            <a:gd name="adj" fmla="val 10000"/>
          </a:avLst>
        </a:prstGeom>
        <a:solidFill>
          <a:srgbClr val="15A185"/>
        </a:solidFill>
        <a:ln w="12700" cap="flat" cmpd="sng" algn="ctr">
          <a:solidFill>
            <a:schemeClr val="lt1">
              <a:hueOff val="0"/>
              <a:satOff val="0"/>
              <a:lumOff val="0"/>
              <a:alphaOff val="0"/>
            </a:schemeClr>
          </a:solidFill>
          <a:prstDash val="solid"/>
          <a:miter lim="800000"/>
        </a:ln>
        <a:effectLst/>
      </dsp:spPr>
      <dsp:style>
        <a:lnRef idx="2">
          <a:scrgbClr r="0" g="0" b="0"/>
        </a:lnRef>
        <a:fillRef idx="1">
          <a:scrgbClr r="0" g="0" b="0"/>
        </a:fillRef>
        <a:effectRef idx="0">
          <a:scrgbClr r="0" g="0" b="0"/>
        </a:effectRef>
        <a:fontRef idx="minor">
          <a:schemeClr val="lt1"/>
        </a:fontRef>
      </dsp:style>
      <dsp:txBody>
        <a:bodyPr spcFirstLastPara="0" vert="horz" wrap="square" lIns="72390" tIns="72390" rIns="72390" bIns="72390" numCol="1" spcCol="1270" anchor="ctr" anchorCtr="0">
          <a:noAutofit/>
        </a:bodyPr>
        <a:lstStyle/>
        <a:p>
          <a:pPr marL="0" lvl="0" indent="0" algn="ctr" defTabSz="844550">
            <a:lnSpc>
              <a:spcPct val="90000"/>
            </a:lnSpc>
            <a:spcBef>
              <a:spcPct val="0"/>
            </a:spcBef>
            <a:spcAft>
              <a:spcPct val="35000"/>
            </a:spcAft>
            <a:buNone/>
          </a:pPr>
          <a:r>
            <a:rPr lang="en-AU" sz="1900" kern="1200" dirty="0"/>
            <a:t>Advocacy &amp; Education</a:t>
          </a:r>
        </a:p>
      </dsp:txBody>
      <dsp:txXfrm>
        <a:off x="1816299" y="42175"/>
        <a:ext cx="1627744" cy="1155786"/>
      </dsp:txXfrm>
    </dsp:sp>
    <dsp:sp modelId="{EA4BBF32-6302-4C27-86D5-85120F7A781A}">
      <dsp:nvSpPr>
        <dsp:cNvPr id="0" name=""/>
        <dsp:cNvSpPr/>
      </dsp:nvSpPr>
      <dsp:spPr>
        <a:xfrm>
          <a:off x="3614088" y="1323233"/>
          <a:ext cx="1699660" cy="1227702"/>
        </a:xfrm>
        <a:prstGeom prst="roundRect">
          <a:avLst>
            <a:gd name="adj" fmla="val 10000"/>
          </a:avLst>
        </a:prstGeom>
        <a:solidFill>
          <a:srgbClr val="9BBC57"/>
        </a:solidFill>
        <a:ln w="12700" cap="flat" cmpd="sng" algn="ctr">
          <a:solidFill>
            <a:schemeClr val="lt1">
              <a:hueOff val="0"/>
              <a:satOff val="0"/>
              <a:lumOff val="0"/>
              <a:alphaOff val="0"/>
            </a:schemeClr>
          </a:solidFill>
          <a:prstDash val="solid"/>
          <a:miter lim="800000"/>
        </a:ln>
        <a:effectLst/>
      </dsp:spPr>
      <dsp:style>
        <a:lnRef idx="2">
          <a:scrgbClr r="0" g="0" b="0"/>
        </a:lnRef>
        <a:fillRef idx="1">
          <a:scrgbClr r="0" g="0" b="0"/>
        </a:fillRef>
        <a:effectRef idx="0">
          <a:scrgbClr r="0" g="0" b="0"/>
        </a:effectRef>
        <a:fontRef idx="minor">
          <a:schemeClr val="lt1"/>
        </a:fontRef>
      </dsp:style>
      <dsp:txBody>
        <a:bodyPr spcFirstLastPara="0" vert="horz" wrap="square" lIns="76200" tIns="76200" rIns="76200" bIns="76200" numCol="1" spcCol="1270" anchor="ctr" anchorCtr="0">
          <a:noAutofit/>
        </a:bodyPr>
        <a:lstStyle/>
        <a:p>
          <a:pPr marL="0" lvl="0" indent="0" algn="ctr" defTabSz="889000">
            <a:lnSpc>
              <a:spcPct val="90000"/>
            </a:lnSpc>
            <a:spcBef>
              <a:spcPct val="0"/>
            </a:spcBef>
            <a:spcAft>
              <a:spcPct val="35000"/>
            </a:spcAft>
            <a:buNone/>
          </a:pPr>
          <a:r>
            <a:rPr lang="en-AU" sz="2000" kern="1200" dirty="0"/>
            <a:t>Private &amp; Government Organisations</a:t>
          </a:r>
        </a:p>
      </dsp:txBody>
      <dsp:txXfrm>
        <a:off x="3650046" y="1359191"/>
        <a:ext cx="1627744" cy="1155786"/>
      </dsp:txXfrm>
    </dsp:sp>
    <dsp:sp modelId="{5AA39F11-FF8F-4475-B229-95ED047C3110}">
      <dsp:nvSpPr>
        <dsp:cNvPr id="0" name=""/>
        <dsp:cNvSpPr/>
      </dsp:nvSpPr>
      <dsp:spPr>
        <a:xfrm>
          <a:off x="3614088" y="1220"/>
          <a:ext cx="1699660" cy="1227702"/>
        </a:xfrm>
        <a:prstGeom prst="roundRect">
          <a:avLst>
            <a:gd name="adj" fmla="val 10000"/>
          </a:avLst>
        </a:prstGeom>
        <a:solidFill>
          <a:srgbClr val="2F2865"/>
        </a:solidFill>
        <a:ln w="12700" cap="flat" cmpd="sng" algn="ctr">
          <a:solidFill>
            <a:schemeClr val="lt1">
              <a:hueOff val="0"/>
              <a:satOff val="0"/>
              <a:lumOff val="0"/>
              <a:alphaOff val="0"/>
            </a:schemeClr>
          </a:solidFill>
          <a:prstDash val="solid"/>
          <a:miter lim="800000"/>
        </a:ln>
        <a:effectLst/>
      </dsp:spPr>
      <dsp:style>
        <a:lnRef idx="2">
          <a:scrgbClr r="0" g="0" b="0"/>
        </a:lnRef>
        <a:fillRef idx="1">
          <a:scrgbClr r="0" g="0" b="0"/>
        </a:fillRef>
        <a:effectRef idx="0">
          <a:scrgbClr r="0" g="0" b="0"/>
        </a:effectRef>
        <a:fontRef idx="minor">
          <a:schemeClr val="lt1"/>
        </a:fontRef>
      </dsp:style>
      <dsp:txBody>
        <a:bodyPr spcFirstLastPara="0" vert="horz" wrap="square" lIns="72390" tIns="72390" rIns="72390" bIns="72390" numCol="1" spcCol="1270" anchor="ctr" anchorCtr="0">
          <a:noAutofit/>
        </a:bodyPr>
        <a:lstStyle/>
        <a:p>
          <a:pPr marL="0" lvl="0" indent="0" algn="ctr" defTabSz="844550">
            <a:lnSpc>
              <a:spcPct val="90000"/>
            </a:lnSpc>
            <a:spcBef>
              <a:spcPct val="0"/>
            </a:spcBef>
            <a:spcAft>
              <a:spcPct val="35000"/>
            </a:spcAft>
            <a:buNone/>
          </a:pPr>
          <a:r>
            <a:rPr lang="en-AU" sz="1900" kern="1200" dirty="0"/>
            <a:t>Resources</a:t>
          </a:r>
        </a:p>
      </dsp:txBody>
      <dsp:txXfrm>
        <a:off x="3650046" y="37178"/>
        <a:ext cx="1627744" cy="1155786"/>
      </dsp:txXfrm>
    </dsp:sp>
  </dsp:spTree>
</dsp:drawing>
</file>

<file path=ppt/diagrams/layout1.xml><?xml version="1.0" encoding="utf-8"?>
<dgm:layoutDef xmlns:dgm="http://schemas.openxmlformats.org/drawingml/2006/diagram" xmlns:a="http://schemas.openxmlformats.org/drawingml/2006/main" uniqueId="urn:microsoft.com/office/officeart/2005/8/layout/architecture">
  <dgm:title val="Architecture Layout"/>
  <dgm:desc val="Use to show hierarchical relationships that build from the bottom up. This layout works well for showing architectural components or objects that build on other objects."/>
  <dgm:catLst>
    <dgm:cat type="hierarchy" pri="4500"/>
    <dgm:cat type="list" pri="24500"/>
    <dgm:cat type="relationship" pri="10500"/>
    <dgm:cat type="officeonline" pri="7000"/>
  </dgm:catLst>
  <dgm:sampData>
    <dgm:dataModel>
      <dgm:ptLst>
        <dgm:pt modelId="0" type="doc"/>
        <dgm:pt modelId="1">
          <dgm:prSet phldr="1"/>
        </dgm:pt>
        <dgm:pt modelId="2">
          <dgm:prSet phldr="1"/>
        </dgm:pt>
        <dgm:pt modelId="21">
          <dgm:prSet phldr="1"/>
        </dgm:pt>
        <dgm:pt modelId="22">
          <dgm:prSet phldr="1"/>
        </dgm:pt>
        <dgm:pt modelId="3">
          <dgm:prSet phldr="1"/>
        </dgm:pt>
        <dgm:pt modelId="31">
          <dgm:prSet phldr="1"/>
        </dgm:pt>
      </dgm:ptLst>
      <dgm:cxnLst>
        <dgm:cxn modelId="4" srcId="0" destId="1" srcOrd="0" destOrd="0"/>
        <dgm:cxn modelId="5" srcId="1" destId="2" srcOrd="0" destOrd="0"/>
        <dgm:cxn modelId="6" srcId="1" destId="3" srcOrd="1" destOrd="0"/>
        <dgm:cxn modelId="23" srcId="2" destId="21" srcOrd="0" destOrd="0"/>
        <dgm:cxn modelId="24" srcId="2" destId="22" srcOrd="1" destOrd="0"/>
        <dgm:cxn modelId="33" srcId="3" destId="31" srcOrd="0" destOrd="0"/>
      </dgm:cxnLst>
      <dgm:bg/>
      <dgm:whole/>
    </dgm:dataModel>
  </dgm:sampData>
  <dgm:styleData>
    <dgm:dataModel>
      <dgm:ptLst>
        <dgm:pt modelId="0" type="doc"/>
        <dgm:pt modelId="1"/>
        <dgm:pt modelId="11"/>
        <dgm:pt modelId="12"/>
      </dgm:ptLst>
      <dgm:cxnLst>
        <dgm:cxn modelId="2" srcId="0" destId="1" srcOrd="0" destOrd="0"/>
        <dgm:cxn modelId="13" srcId="1" destId="11" srcOrd="0" destOrd="0"/>
        <dgm:cxn modelId="14" srcId="1" destId="12" srcOrd="1" destOrd="0"/>
      </dgm:cxnLst>
      <dgm:bg/>
      <dgm:whole/>
    </dgm:dataModel>
  </dgm:styleData>
  <dgm:clrData>
    <dgm:dataModel>
      <dgm:ptLst>
        <dgm:pt modelId="0" type="doc"/>
        <dgm:pt modelId="1"/>
        <dgm:pt modelId="2"/>
        <dgm:pt modelId="21"/>
        <dgm:pt modelId="211"/>
        <dgm:pt modelId="3"/>
        <dgm:pt modelId="31"/>
        <dgm:pt modelId="311"/>
      </dgm:ptLst>
      <dgm:cxnLst>
        <dgm:cxn modelId="4" srcId="0" destId="1" srcOrd="0" destOrd="0"/>
        <dgm:cxn modelId="5" srcId="1" destId="2" srcOrd="0" destOrd="0"/>
        <dgm:cxn modelId="6" srcId="1" destId="3" srcOrd="1" destOrd="0"/>
        <dgm:cxn modelId="23" srcId="2" destId="21" srcOrd="0" destOrd="0"/>
        <dgm:cxn modelId="24" srcId="21" destId="211" srcOrd="0" destOrd="0"/>
        <dgm:cxn modelId="33" srcId="3" destId="31" srcOrd="0" destOrd="0"/>
        <dgm:cxn modelId="34" srcId="31" destId="311" srcOrd="0" destOrd="0"/>
      </dgm:cxnLst>
      <dgm:bg/>
      <dgm:whole/>
    </dgm:dataModel>
  </dgm:clrData>
  <dgm:layoutNode name="Name0">
    <dgm:varLst>
      <dgm:chPref val="1"/>
      <dgm:dir/>
      <dgm:animOne val="branch"/>
      <dgm:animLvl val="lvl"/>
      <dgm:resizeHandles/>
    </dgm:varLst>
    <dgm:choose name="Name1">
      <dgm:if name="Name2" func="var" arg="dir" op="equ" val="norm">
        <dgm:alg type="lin">
          <dgm:param type="linDir" val="fromL"/>
          <dgm:param type="nodeVertAlign" val="b"/>
        </dgm:alg>
      </dgm:if>
      <dgm:else name="Name3">
        <dgm:alg type="lin">
          <dgm:param type="linDir" val="fromR"/>
          <dgm:param type="nodeVertAlign" val="b"/>
        </dgm:alg>
      </dgm:else>
    </dgm:choose>
    <dgm:shape xmlns:r="http://schemas.openxmlformats.org/officeDocument/2006/relationships" r:blip="">
      <dgm:adjLst/>
    </dgm:shape>
    <dgm:presOf/>
    <dgm:constrLst>
      <dgm:constr type="w" for="ch" forName="vertOne" refType="w"/>
      <dgm:constr type="w" for="des" forName="horzOne" refType="w"/>
      <dgm:constr type="w" for="des" forName="txOne" refType="w"/>
      <dgm:constr type="w" for="des" forName="vertTwo" refType="w"/>
      <dgm:constr type="w" for="des" forName="horzTwo" refType="w"/>
      <dgm:constr type="w" for="des" forName="txTwo" refType="w"/>
      <dgm:constr type="w" for="des" forName="vertThree" refType="w"/>
      <dgm:constr type="w" for="des" forName="horzThree" refType="w"/>
      <dgm:constr type="w" for="des" forName="txThree" refType="w"/>
      <dgm:constr type="w" for="des" forName="vertFour" refType="w"/>
      <dgm:constr type="w" for="des" forName="horzFour" refType="w"/>
      <dgm:constr type="w" for="des" forName="txFour" refType="w"/>
      <dgm:constr type="h" for="des" ptType="node" op="equ"/>
      <dgm:constr type="h" for="des" forName="txOne" refType="h"/>
      <dgm:constr type="userH" for="des" ptType="node" refType="h" refFor="des" refForName="txOne"/>
      <dgm:constr type="primFontSz" for="des" forName="txOne" val="65"/>
      <dgm:constr type="primFontSz" for="des" forName="txTwo" val="65"/>
      <dgm:constr type="primFontSz" for="des" forName="txTwo" refType="primFontSz" refFor="des" refForName="txOne" op="lte"/>
      <dgm:constr type="primFontSz" for="des" forName="txThree" val="65"/>
      <dgm:constr type="primFontSz" for="des" forName="txThree" refType="primFontSz" refFor="des" refForName="txOne" op="lte"/>
      <dgm:constr type="primFontSz" for="des" forName="txThree" refType="primFontSz" refFor="des" refForName="txTwo" op="lte"/>
      <dgm:constr type="primFontSz" for="des" forName="txFour" val="65"/>
      <dgm:constr type="primFontSz" for="des" forName="txFour" refType="primFontSz" refFor="des" refForName="txOne" op="lte"/>
      <dgm:constr type="primFontSz" for="des" forName="txFour" refType="primFontSz" refFor="des" refForName="txTwo" op="lte"/>
      <dgm:constr type="primFontSz" for="des" forName="txFour" refType="primFontSz" refFor="des" refForName="txThree" op="lte"/>
      <dgm:constr type="w" for="des" forName="sibSpaceOne" refType="w" fact="0.168"/>
      <dgm:constr type="w" for="des" forName="sibSpaceTwo" refType="w" refFor="des" refForName="sibSpaceOne" op="equ" fact="0.5"/>
      <dgm:constr type="w" for="des" forName="sibSpaceThree" refType="w" refFor="des" refForName="sibSpaceTwo" op="equ" fact="0.5"/>
      <dgm:constr type="w" for="des" forName="sibSpaceFour" refType="w" refFor="des" refForName="sibSpaceThree" op="equ" fact="0.5"/>
      <dgm:constr type="h" for="des" forName="parTransOne" refType="w" fact="0.056"/>
      <dgm:constr type="h" for="des" forName="parTransTwo" refType="h" refFor="des" refForName="parTransOne" op="equ"/>
      <dgm:constr type="h" for="des" forName="parTransThree" refType="h" refFor="des" refForName="parTransTwo" op="equ"/>
      <dgm:constr type="h" for="des" forName="parTransFour" refType="h" refFor="des" refForName="parTransThree" op="equ"/>
    </dgm:constrLst>
    <dgm:ruleLst/>
    <dgm:forEach name="Name4" axis="ch" ptType="node">
      <dgm:layoutNode name="vertOne">
        <dgm:alg type="lin">
          <dgm:param type="linDir" val="fromB"/>
        </dgm:alg>
        <dgm:shape xmlns:r="http://schemas.openxmlformats.org/officeDocument/2006/relationships" r:blip="">
          <dgm:adjLst/>
        </dgm:shape>
        <dgm:presOf/>
        <dgm:constrLst>
          <dgm:constr type="w" for="ch" forName="txOne" refType="w" refFor="ch" refForName="horzOne" op="gte"/>
        </dgm:constrLst>
        <dgm:ruleLst/>
        <dgm:layoutNode name="txOne" styleLbl="node0">
          <dgm:varLst>
            <dgm:chPref val="3"/>
          </dgm:varLst>
          <dgm:alg type="tx"/>
          <dgm:shape xmlns:r="http://schemas.openxmlformats.org/officeDocument/2006/relationships" type="roundRect" r:blip="">
            <dgm:adjLst>
              <dgm:adj idx="1" val="0.1"/>
            </dgm:adjLst>
          </dgm:shape>
          <dgm:presOf axis="self"/>
          <dgm:constrLst>
            <dgm:constr type="tMarg" refType="primFontSz" fact="0.3"/>
            <dgm:constr type="bMarg" refType="primFontSz" fact="0.3"/>
            <dgm:constr type="lMarg" refType="primFontSz" fact="0.3"/>
            <dgm:constr type="rMarg" refType="primFontSz" fact="0.3"/>
          </dgm:constrLst>
          <dgm:ruleLst>
            <dgm:rule type="primFontSz" val="5" fact="NaN" max="NaN"/>
          </dgm:ruleLst>
        </dgm:layoutNode>
        <dgm:choose name="Name5">
          <dgm:if name="Name6" axis="des" ptType="node" func="cnt" op="gt" val="0">
            <dgm:layoutNode name="parTransOne">
              <dgm:alg type="sp"/>
              <dgm:shape xmlns:r="http://schemas.openxmlformats.org/officeDocument/2006/relationships" r:blip="">
                <dgm:adjLst/>
              </dgm:shape>
              <dgm:presOf/>
              <dgm:constrLst/>
              <dgm:ruleLst/>
            </dgm:layoutNode>
          </dgm:if>
          <dgm:else name="Name7"/>
        </dgm:choose>
        <dgm:layoutNode name="horzOne">
          <dgm:choose name="Name8">
            <dgm:if name="Name9" func="var" arg="dir" op="equ" val="norm">
              <dgm:alg type="lin">
                <dgm:param type="linDir" val="fromL"/>
                <dgm:param type="nodeVertAlign" val="b"/>
              </dgm:alg>
            </dgm:if>
            <dgm:else name="Name10">
              <dgm:alg type="lin">
                <dgm:param type="linDir" val="fromR"/>
                <dgm:param type="nodeVertAlign" val="b"/>
              </dgm:alg>
            </dgm:else>
          </dgm:choose>
          <dgm:shape xmlns:r="http://schemas.openxmlformats.org/officeDocument/2006/relationships" r:blip="">
            <dgm:adjLst/>
          </dgm:shape>
          <dgm:presOf/>
          <dgm:constrLst/>
          <dgm:ruleLst>
            <dgm:rule type="w" val="INF" fact="NaN" max="NaN"/>
          </dgm:ruleLst>
          <dgm:forEach name="Name11" axis="ch" ptType="node">
            <dgm:layoutNode name="vertTwo">
              <dgm:alg type="lin">
                <dgm:param type="linDir" val="fromB"/>
              </dgm:alg>
              <dgm:shape xmlns:r="http://schemas.openxmlformats.org/officeDocument/2006/relationships" r:blip="">
                <dgm:adjLst/>
              </dgm:shape>
              <dgm:presOf/>
              <dgm:constrLst>
                <dgm:constr type="w" for="ch" forName="txTwo" refType="w" refFor="ch" refForName="horzTwo" op="gte"/>
              </dgm:constrLst>
              <dgm:ruleLst/>
              <dgm:layoutNode name="txTwo">
                <dgm:varLst>
                  <dgm:chPref val="3"/>
                </dgm:varLst>
                <dgm:alg type="tx"/>
                <dgm:shape xmlns:r="http://schemas.openxmlformats.org/officeDocument/2006/relationships" type="roundRect" r:blip="">
                  <dgm:adjLst>
                    <dgm:adj idx="1" val="0.1"/>
                  </dgm:adjLst>
                </dgm:shape>
                <dgm:presOf axis="self"/>
                <dgm:constrLst>
                  <dgm:constr type="userH"/>
                  <dgm:constr type="h" refType="userH"/>
                  <dgm:constr type="tMarg" refType="primFontSz" fact="0.3"/>
                  <dgm:constr type="bMarg" refType="primFontSz" fact="0.3"/>
                  <dgm:constr type="lMarg" refType="primFontSz" fact="0.3"/>
                  <dgm:constr type="rMarg" refType="primFontSz" fact="0.3"/>
                </dgm:constrLst>
                <dgm:ruleLst>
                  <dgm:rule type="primFontSz" val="5" fact="NaN" max="NaN"/>
                </dgm:ruleLst>
              </dgm:layoutNode>
              <dgm:choose name="Name12">
                <dgm:if name="Name13" axis="des" ptType="node" func="cnt" op="gt" val="0">
                  <dgm:layoutNode name="parTransTwo">
                    <dgm:alg type="sp"/>
                    <dgm:shape xmlns:r="http://schemas.openxmlformats.org/officeDocument/2006/relationships" r:blip="">
                      <dgm:adjLst/>
                    </dgm:shape>
                    <dgm:presOf/>
                    <dgm:constrLst/>
                    <dgm:ruleLst/>
                  </dgm:layoutNode>
                </dgm:if>
                <dgm:else name="Name14"/>
              </dgm:choose>
              <dgm:layoutNode name="horzTwo">
                <dgm:choose name="Name15">
                  <dgm:if name="Name16" func="var" arg="dir" op="equ" val="norm">
                    <dgm:alg type="lin">
                      <dgm:param type="linDir" val="fromL"/>
                      <dgm:param type="nodeVertAlign" val="b"/>
                    </dgm:alg>
                  </dgm:if>
                  <dgm:else name="Name17">
                    <dgm:alg type="lin">
                      <dgm:param type="linDir" val="fromR"/>
                      <dgm:param type="nodeVertAlign" val="b"/>
                    </dgm:alg>
                  </dgm:else>
                </dgm:choose>
                <dgm:shape xmlns:r="http://schemas.openxmlformats.org/officeDocument/2006/relationships" r:blip="">
                  <dgm:adjLst/>
                </dgm:shape>
                <dgm:presOf/>
                <dgm:constrLst/>
                <dgm:ruleLst>
                  <dgm:rule type="w" val="INF" fact="NaN" max="NaN"/>
                </dgm:ruleLst>
                <dgm:forEach name="Name18" axis="ch" ptType="node">
                  <dgm:layoutNode name="vertThree">
                    <dgm:alg type="lin">
                      <dgm:param type="linDir" val="fromB"/>
                    </dgm:alg>
                    <dgm:shape xmlns:r="http://schemas.openxmlformats.org/officeDocument/2006/relationships" r:blip="">
                      <dgm:adjLst/>
                    </dgm:shape>
                    <dgm:presOf/>
                    <dgm:constrLst>
                      <dgm:constr type="w" for="ch" forName="txThree" refType="w" refFor="ch" refForName="horzThree" op="gte"/>
                    </dgm:constrLst>
                    <dgm:ruleLst/>
                    <dgm:layoutNode name="txThree">
                      <dgm:varLst>
                        <dgm:chPref val="3"/>
                      </dgm:varLst>
                      <dgm:alg type="tx"/>
                      <dgm:shape xmlns:r="http://schemas.openxmlformats.org/officeDocument/2006/relationships" type="roundRect" r:blip="">
                        <dgm:adjLst>
                          <dgm:adj idx="1" val="0.1"/>
                        </dgm:adjLst>
                      </dgm:shape>
                      <dgm:presOf axis="self"/>
                      <dgm:constrLst>
                        <dgm:constr type="userH"/>
                        <dgm:constr type="h" refType="userH"/>
                        <dgm:constr type="tMarg" refType="primFontSz" fact="0.3"/>
                        <dgm:constr type="bMarg" refType="primFontSz" fact="0.3"/>
                        <dgm:constr type="lMarg" refType="primFontSz" fact="0.3"/>
                        <dgm:constr type="rMarg" refType="primFontSz" fact="0.3"/>
                      </dgm:constrLst>
                      <dgm:ruleLst>
                        <dgm:rule type="primFontSz" val="5" fact="NaN" max="NaN"/>
                      </dgm:ruleLst>
                    </dgm:layoutNode>
                    <dgm:choose name="Name19">
                      <dgm:if name="Name20" axis="des" ptType="node" func="cnt" op="gt" val="0">
                        <dgm:layoutNode name="parTransThree">
                          <dgm:alg type="sp"/>
                          <dgm:shape xmlns:r="http://schemas.openxmlformats.org/officeDocument/2006/relationships" r:blip="">
                            <dgm:adjLst/>
                          </dgm:shape>
                          <dgm:presOf/>
                          <dgm:constrLst/>
                          <dgm:ruleLst/>
                        </dgm:layoutNode>
                      </dgm:if>
                      <dgm:else name="Name21"/>
                    </dgm:choose>
                    <dgm:layoutNode name="horzThree">
                      <dgm:choose name="Name22">
                        <dgm:if name="Name23" func="var" arg="dir" op="equ" val="norm">
                          <dgm:alg type="lin">
                            <dgm:param type="linDir" val="fromL"/>
                            <dgm:param type="nodeVertAlign" val="b"/>
                          </dgm:alg>
                        </dgm:if>
                        <dgm:else name="Name24">
                          <dgm:alg type="lin">
                            <dgm:param type="linDir" val="fromR"/>
                            <dgm:param type="nodeVertAlign" val="b"/>
                          </dgm:alg>
                        </dgm:else>
                      </dgm:choose>
                      <dgm:shape xmlns:r="http://schemas.openxmlformats.org/officeDocument/2006/relationships" r:blip="">
                        <dgm:adjLst/>
                      </dgm:shape>
                      <dgm:presOf/>
                      <dgm:constrLst/>
                      <dgm:ruleLst>
                        <dgm:rule type="w" val="INF" fact="NaN" max="NaN"/>
                      </dgm:ruleLst>
                      <dgm:forEach name="repeat" axis="ch" ptType="node">
                        <dgm:layoutNode name="vertFour">
                          <dgm:varLst>
                            <dgm:chPref val="3"/>
                          </dgm:varLst>
                          <dgm:alg type="lin">
                            <dgm:param type="linDir" val="fromB"/>
                          </dgm:alg>
                          <dgm:shape xmlns:r="http://schemas.openxmlformats.org/officeDocument/2006/relationships" r:blip="">
                            <dgm:adjLst/>
                          </dgm:shape>
                          <dgm:presOf/>
                          <dgm:constrLst>
                            <dgm:constr type="w" for="ch" forName="txFour" refType="w" refFor="ch" refForName="horzFour" op="gte"/>
                          </dgm:constrLst>
                          <dgm:ruleLst/>
                          <dgm:layoutNode name="txFour">
                            <dgm:varLst>
                              <dgm:chPref val="3"/>
                            </dgm:varLst>
                            <dgm:alg type="tx"/>
                            <dgm:shape xmlns:r="http://schemas.openxmlformats.org/officeDocument/2006/relationships" type="roundRect" r:blip="">
                              <dgm:adjLst>
                                <dgm:adj idx="1" val="0.1"/>
                              </dgm:adjLst>
                            </dgm:shape>
                            <dgm:presOf axis="self"/>
                            <dgm:constrLst>
                              <dgm:constr type="userH"/>
                              <dgm:constr type="h" refType="userH"/>
                              <dgm:constr type="tMarg" refType="primFontSz" fact="0.3"/>
                              <dgm:constr type="bMarg" refType="primFontSz" fact="0.3"/>
                              <dgm:constr type="lMarg" refType="primFontSz" fact="0.3"/>
                              <dgm:constr type="rMarg" refType="primFontSz" fact="0.3"/>
                            </dgm:constrLst>
                            <dgm:ruleLst>
                              <dgm:rule type="primFontSz" val="5" fact="NaN" max="NaN"/>
                            </dgm:ruleLst>
                          </dgm:layoutNode>
                          <dgm:choose name="Name25">
                            <dgm:if name="Name26" axis="des" ptType="node" func="cnt" op="gt" val="0">
                              <dgm:layoutNode name="parTransFour">
                                <dgm:alg type="sp"/>
                                <dgm:shape xmlns:r="http://schemas.openxmlformats.org/officeDocument/2006/relationships" r:blip="">
                                  <dgm:adjLst/>
                                </dgm:shape>
                                <dgm:presOf/>
                                <dgm:constrLst/>
                                <dgm:ruleLst/>
                              </dgm:layoutNode>
                            </dgm:if>
                            <dgm:else name="Name27"/>
                          </dgm:choose>
                          <dgm:layoutNode name="horzFour">
                            <dgm:choose name="Name28">
                              <dgm:if name="Name29" func="var" arg="dir" op="equ" val="norm">
                                <dgm:alg type="lin">
                                  <dgm:param type="linDir" val="fromL"/>
                                  <dgm:param type="nodeVertAlign" val="b"/>
                                </dgm:alg>
                              </dgm:if>
                              <dgm:else name="Name30">
                                <dgm:alg type="lin">
                                  <dgm:param type="linDir" val="fromR"/>
                                  <dgm:param type="nodeVertAlign" val="b"/>
                                </dgm:alg>
                              </dgm:else>
                            </dgm:choose>
                            <dgm:shape xmlns:r="http://schemas.openxmlformats.org/officeDocument/2006/relationships" r:blip="">
                              <dgm:adjLst/>
                            </dgm:shape>
                            <dgm:presOf/>
                            <dgm:constrLst/>
                            <dgm:ruleLst>
                              <dgm:rule type="w" val="INF" fact="NaN" max="NaN"/>
                            </dgm:ruleLst>
                            <dgm:forEach name="Name31" ref="repeat"/>
                          </dgm:layoutNode>
                        </dgm:layoutNode>
                        <dgm:choose name="Name32">
                          <dgm:if name="Name33" axis="self" ptType="node" func="revPos" op="gte" val="2">
                            <dgm:forEach name="Name34" axis="followSib" ptType="sibTrans" cnt="1">
                              <dgm:layoutNode name="sibSpaceFour">
                                <dgm:alg type="sp"/>
                                <dgm:shape xmlns:r="http://schemas.openxmlformats.org/officeDocument/2006/relationships" r:blip="">
                                  <dgm:adjLst/>
                                </dgm:shape>
                                <dgm:presOf/>
                                <dgm:constrLst/>
                                <dgm:ruleLst/>
                              </dgm:layoutNode>
                            </dgm:forEach>
                          </dgm:if>
                          <dgm:else name="Name35"/>
                        </dgm:choose>
                      </dgm:forEach>
                    </dgm:layoutNode>
                  </dgm:layoutNode>
                  <dgm:choose name="Name36">
                    <dgm:if name="Name37" axis="self" ptType="node" func="revPos" op="gte" val="2">
                      <dgm:forEach name="Name38" axis="followSib" ptType="sibTrans" cnt="1">
                        <dgm:layoutNode name="sibSpaceThree">
                          <dgm:alg type="sp"/>
                          <dgm:shape xmlns:r="http://schemas.openxmlformats.org/officeDocument/2006/relationships" r:blip="">
                            <dgm:adjLst/>
                          </dgm:shape>
                          <dgm:presOf/>
                          <dgm:constrLst/>
                          <dgm:ruleLst/>
                        </dgm:layoutNode>
                      </dgm:forEach>
                    </dgm:if>
                    <dgm:else name="Name39"/>
                  </dgm:choose>
                </dgm:forEach>
              </dgm:layoutNode>
            </dgm:layoutNode>
            <dgm:choose name="Name40">
              <dgm:if name="Name41" axis="self" ptType="node" func="revPos" op="gte" val="2">
                <dgm:forEach name="Name42" axis="followSib" ptType="sibTrans" cnt="1">
                  <dgm:layoutNode name="sibSpaceTwo">
                    <dgm:alg type="sp"/>
                    <dgm:shape xmlns:r="http://schemas.openxmlformats.org/officeDocument/2006/relationships" r:blip="">
                      <dgm:adjLst/>
                    </dgm:shape>
                    <dgm:presOf/>
                    <dgm:constrLst/>
                    <dgm:ruleLst/>
                  </dgm:layoutNode>
                </dgm:forEach>
              </dgm:if>
              <dgm:else name="Name43"/>
            </dgm:choose>
          </dgm:forEach>
        </dgm:layoutNode>
      </dgm:layoutNode>
      <dgm:choose name="Name44">
        <dgm:if name="Name45" axis="self" ptType="node" func="revPos" op="gte" val="2">
          <dgm:forEach name="Name46" axis="followSib" ptType="sibTrans" cnt="1">
            <dgm:layoutNode name="sibSpaceOne">
              <dgm:alg type="sp"/>
              <dgm:shape xmlns:r="http://schemas.openxmlformats.org/officeDocument/2006/relationships" r:blip="">
                <dgm:adjLst/>
              </dgm:shape>
              <dgm:presOf/>
              <dgm:constrLst/>
              <dgm:ruleLst/>
            </dgm:layoutNode>
          </dgm:forEach>
        </dgm:if>
        <dgm:else name="Name47"/>
      </dgm:choose>
    </dgm:forEach>
  </dgm:layoutNode>
</dgm:layoutDef>
</file>

<file path=ppt/diagrams/quickStyle1.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16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6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64"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5"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6"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3696BCEA-9FE0-469A-8382-425E6DC418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685800" y="1143000"/>
            <a:ext cx="5486040" cy="3085920"/>
          </a:xfrm>
          <a:prstGeom prst="rect">
            <a:avLst/>
          </a:prstGeom>
          <a:ln w="0">
            <a:noFill/>
          </a:ln>
        </p:spPr>
      </p:sp>
      <p:sp>
        <p:nvSpPr>
          <p:cNvPr id="231"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32" name="PlaceHolder 3"/>
          <p:cNvSpPr>
            <a:spLocks noGrp="1"/>
          </p:cNvSpPr>
          <p:nvPr>
            <p:ph type="sldNum" idx="13"/>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200" spc="-1" strike="noStrike">
                <a:solidFill>
                  <a:srgbClr val="000000"/>
                </a:solidFill>
                <a:latin typeface="Calibri"/>
                <a:ea typeface="+mn-ea"/>
              </a:defRPr>
            </a:lvl1pPr>
          </a:lstStyle>
          <a:p>
            <a:pPr indent="0" algn="r">
              <a:lnSpc>
                <a:spcPct val="100000"/>
              </a:lnSpc>
              <a:buNone/>
              <a:tabLst>
                <a:tab algn="l" pos="0"/>
              </a:tabLst>
            </a:pPr>
            <a:fld id="{33E8C4C9-A269-4575-99F3-275E4A650FAE}"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685800" y="1143000"/>
            <a:ext cx="5486040" cy="3085920"/>
          </a:xfrm>
          <a:prstGeom prst="rect">
            <a:avLst/>
          </a:prstGeom>
          <a:ln w="0">
            <a:noFill/>
          </a:ln>
        </p:spPr>
      </p:sp>
      <p:sp>
        <p:nvSpPr>
          <p:cNvPr id="234"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35" name="PlaceHolder 3"/>
          <p:cNvSpPr>
            <a:spLocks noGrp="1"/>
          </p:cNvSpPr>
          <p:nvPr>
            <p:ph type="sldNum" idx="14"/>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200" spc="-1" strike="noStrike">
                <a:solidFill>
                  <a:srgbClr val="000000"/>
                </a:solidFill>
                <a:latin typeface="Calibri"/>
                <a:ea typeface="+mn-ea"/>
              </a:defRPr>
            </a:lvl1pPr>
          </a:lstStyle>
          <a:p>
            <a:pPr indent="0" algn="r">
              <a:lnSpc>
                <a:spcPct val="100000"/>
              </a:lnSpc>
              <a:buNone/>
              <a:tabLst>
                <a:tab algn="l" pos="0"/>
              </a:tabLst>
            </a:pPr>
            <a:fld id="{45815F8C-AC38-4E9D-9AB9-F974220B6B1E}"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4"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5"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9"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0"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2"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3"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4"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5"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6"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7"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9A195E-7B2C-4CE5-A337-5E28356F66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4"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24CCB9-22C5-4E52-81D5-F4DD5AD3D1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6"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541DF9-30DB-4E62-9C5F-1C2B7BB087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8"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9"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94E092-6444-4213-AB80-D02F7A56BF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4F36E4-51FA-45C9-A3CA-CE237AC45D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523880" y="1122480"/>
            <a:ext cx="9143640" cy="11066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F225B3-FF24-4998-BFDD-67A2FB231F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3"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4"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5"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57A04-F40B-4D0D-B250-0E86F85A25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7"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8"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9"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921DE-95A5-43FF-8D3B-120F8075FC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1"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2"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3"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8B919-CA7A-412B-9755-19B06DE6CA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5"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6"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73F761-904C-47BD-AF59-944BD0EBB4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9"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0"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1"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0AB1CE-DDAE-42A4-BEE3-AD2E8F9EFD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3"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4"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5"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6"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7"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8"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E5987D-1596-4E86-812B-73573D7EF6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9682A4-946B-4D15-AFC3-2C8A9FB6E1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5"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E45119-13DF-4707-A20D-75F6612927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7"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158FCE-5673-4C4F-865F-29CE4BCE54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9"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0"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2A32AE-EFC5-465F-BBDB-EE00518A79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754888-4973-4826-A71C-ADB8E51314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1523880" y="1122480"/>
            <a:ext cx="9143640" cy="11066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58E460-9C35-4281-946D-84155DC7BE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4"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5"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6"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C57FD6-97BB-4A35-A001-8A41E7F651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8"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9"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00"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F925C6-7BDA-46E8-A768-3BC3A9A56B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2"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03"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04"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F84351-31D4-43FD-A910-DA6A053F40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6"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07"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397855-EA75-40B9-8375-55B5D6C10E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9"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0"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1"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2"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74B639-C9F4-4C05-8330-D080F47758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4"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5"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6"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7"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8"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9"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D1E865-57C2-462B-92C7-442546BD9C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21EDB87-D71C-4A19-8096-AA3DCFEBA1A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6"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84BE4F-30CE-445F-8E55-C6EAA56F19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8"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CDD196-9A6F-4267-85D4-500246B16D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0"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31"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81855F-0D15-47C5-97B0-2657CBF9B6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A394A2-7B19-4105-9ABA-4FC9AFA5F2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1523880" y="1122480"/>
            <a:ext cx="9143640" cy="11066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026C74-F400-47F1-B3AB-426574B85E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5"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36"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37"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61F8DA-E7DF-4702-B942-7196A6EEEB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9"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40"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41"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6A1CEB-29FE-4914-88EE-20D4D29345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3"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44"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45"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8D6823-6DD4-4DC6-B2D0-7BEBA85939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7"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48"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93D17F-E17B-41A7-8403-A841AA7175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0"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51"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52"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53"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8D47889-5332-4067-8B6E-4BCB8EDB919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5"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56"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57"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58"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59"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0"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635F979-0FCD-4A22-BB13-0D4028A0050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523880" y="1122480"/>
            <a:ext cx="9143640" cy="11066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3"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4"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8"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2"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1" name="PlaceHolder 2"/>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dt" idx="1"/>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39" name="PlaceHolder 2"/>
          <p:cNvSpPr>
            <a:spLocks noGrp="1"/>
          </p:cNvSpPr>
          <p:nvPr>
            <p:ph type="ftr" idx="2"/>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0" name="PlaceHolder 3"/>
          <p:cNvSpPr>
            <a:spLocks noGrp="1"/>
          </p:cNvSpPr>
          <p:nvPr>
            <p:ph type="sldNum" idx="3"/>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8D4EB2C2-4B77-48F1-A73A-DC1A3B7F7BCD}"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1" name="PlaceHolder 4"/>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2"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Click to edit Master title style</a:t>
            </a:r>
            <a:endParaRPr b="0" lang="en-US" sz="4400" spc="-1" strike="noStrike">
              <a:solidFill>
                <a:srgbClr val="000000"/>
              </a:solidFill>
              <a:latin typeface="Calibri"/>
            </a:endParaRPr>
          </a:p>
        </p:txBody>
      </p:sp>
      <p:sp>
        <p:nvSpPr>
          <p:cNvPr id="80" name="PlaceHolder 2"/>
          <p:cNvSpPr>
            <a:spLocks noGrp="1"/>
          </p:cNvSpPr>
          <p:nvPr>
            <p:ph type="body"/>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Edit Master text styles</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pPr>
            <a:r>
              <a:rPr b="0" lang="en-US" sz="2400" spc="-1" strike="noStrike">
                <a:solidFill>
                  <a:srgbClr val="000000"/>
                </a:solidFill>
                <a:latin typeface="Calibri"/>
              </a:rPr>
              <a:t>Second level</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pPr>
            <a:r>
              <a:rPr b="0" lang="en-US" sz="2000" spc="-1" strike="noStrike">
                <a:solidFill>
                  <a:srgbClr val="000000"/>
                </a:solidFill>
                <a:latin typeface="Calibri"/>
              </a:rPr>
              <a:t>Third level</a:t>
            </a:r>
            <a:endParaRPr b="0" lang="en-US" sz="2000" spc="-1" strike="noStrike">
              <a:solidFill>
                <a:srgbClr val="000000"/>
              </a:solidFill>
              <a:latin typeface="Calibri"/>
            </a:endParaRPr>
          </a:p>
          <a:p>
            <a:pPr lvl="3" marL="1600200" indent="-228600">
              <a:lnSpc>
                <a:spcPct val="90000"/>
              </a:lnSpc>
              <a:spcBef>
                <a:spcPts val="499"/>
              </a:spcBef>
              <a:buClr>
                <a:srgbClr val="000000"/>
              </a:buClr>
              <a:buFont typeface="Arial"/>
              <a:buChar char="•"/>
            </a:pPr>
            <a:r>
              <a:rPr b="0" lang="en-US" sz="1800" spc="-1" strike="noStrike">
                <a:solidFill>
                  <a:srgbClr val="000000"/>
                </a:solidFill>
                <a:latin typeface="Calibri"/>
              </a:rPr>
              <a:t>Fourth level</a:t>
            </a:r>
            <a:endParaRPr b="0" lang="en-US" sz="1800" spc="-1" strike="noStrike">
              <a:solidFill>
                <a:srgbClr val="000000"/>
              </a:solidFill>
              <a:latin typeface="Calibri"/>
            </a:endParaRPr>
          </a:p>
          <a:p>
            <a:pPr lvl="4" marL="2057400" indent="-228600">
              <a:lnSpc>
                <a:spcPct val="90000"/>
              </a:lnSpc>
              <a:spcBef>
                <a:spcPts val="499"/>
              </a:spcBef>
              <a:buClr>
                <a:srgbClr val="000000"/>
              </a:buClr>
              <a:buFont typeface="Arial"/>
              <a:buChar char="•"/>
            </a:pPr>
            <a:r>
              <a:rPr b="0" lang="en-US" sz="1800" spc="-1" strike="noStrike">
                <a:solidFill>
                  <a:srgbClr val="000000"/>
                </a:solidFill>
                <a:latin typeface="Calibri"/>
              </a:rPr>
              <a:t>Fifth level</a:t>
            </a:r>
            <a:endParaRPr b="0" lang="en-US" sz="1800" spc="-1" strike="noStrike">
              <a:solidFill>
                <a:srgbClr val="000000"/>
              </a:solidFill>
              <a:latin typeface="Calibri"/>
            </a:endParaRPr>
          </a:p>
        </p:txBody>
      </p:sp>
      <p:sp>
        <p:nvSpPr>
          <p:cNvPr id="81" name="PlaceHolder 3"/>
          <p:cNvSpPr>
            <a:spLocks noGrp="1"/>
          </p:cNvSpPr>
          <p:nvPr>
            <p:ph type="dt" idx="4"/>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82" name="PlaceHolder 4"/>
          <p:cNvSpPr>
            <a:spLocks noGrp="1"/>
          </p:cNvSpPr>
          <p:nvPr>
            <p:ph type="ftr" idx="5"/>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3" name="PlaceHolder 5"/>
          <p:cNvSpPr>
            <a:spLocks noGrp="1"/>
          </p:cNvSpPr>
          <p:nvPr>
            <p:ph type="sldNum" idx="6"/>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5E28197E-7ED2-4F04-AA48-56BA1559A33E}"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23880" y="1122480"/>
            <a:ext cx="9143640" cy="2387160"/>
          </a:xfrm>
          <a:prstGeom prst="rect">
            <a:avLst/>
          </a:prstGeom>
          <a:noFill/>
          <a:ln w="0">
            <a:noFill/>
          </a:ln>
        </p:spPr>
        <p:txBody>
          <a:bodyPr anchor="b">
            <a:noAutofit/>
          </a:bodyPr>
          <a:p>
            <a:pPr indent="0" algn="ctr">
              <a:lnSpc>
                <a:spcPct val="90000"/>
              </a:lnSpc>
              <a:buNone/>
            </a:pPr>
            <a:r>
              <a:rPr b="0" lang="en-US" sz="6000" spc="-1" strike="noStrike">
                <a:solidFill>
                  <a:srgbClr val="000000"/>
                </a:solidFill>
                <a:latin typeface="Calibri Light"/>
              </a:rPr>
              <a:t>Click to edit Master title style</a:t>
            </a:r>
            <a:endParaRPr b="0" lang="en-US" sz="6000" spc="-1" strike="noStrike">
              <a:solidFill>
                <a:srgbClr val="000000"/>
              </a:solidFill>
              <a:latin typeface="Calibri"/>
            </a:endParaRPr>
          </a:p>
        </p:txBody>
      </p:sp>
      <p:sp>
        <p:nvSpPr>
          <p:cNvPr id="121" name="PlaceHolder 2"/>
          <p:cNvSpPr>
            <a:spLocks noGrp="1"/>
          </p:cNvSpPr>
          <p:nvPr>
            <p:ph type="dt" idx="7"/>
          </p:nvPr>
        </p:nvSpPr>
        <p:spPr>
          <a:xfrm>
            <a:off x="838080" y="6356520"/>
            <a:ext cx="2742840" cy="364680"/>
          </a:xfrm>
          <a:prstGeom prst="rect">
            <a:avLst/>
          </a:prstGeom>
          <a:noFill/>
          <a:ln w="0">
            <a:noFill/>
          </a:ln>
        </p:spPr>
        <p:txBody>
          <a:bodyPr anchor="ctr">
            <a:noAutofit/>
          </a:bodyPr>
          <a:lstStyle>
            <a:lvl1pPr indent="0">
              <a:lnSpc>
                <a:spcPct val="100000"/>
              </a:lnSpc>
              <a:buNone/>
              <a:defRPr b="0" lang="en-AU" sz="1200" spc="-1" strike="noStrike">
                <a:solidFill>
                  <a:srgbClr val="8b8b8b"/>
                </a:solidFill>
                <a:latin typeface="Calibri"/>
              </a:defRPr>
            </a:lvl1pPr>
          </a:lstStyle>
          <a:p>
            <a:pPr indent="0">
              <a:lnSpc>
                <a:spcPct val="100000"/>
              </a:lnSpc>
              <a:buNone/>
            </a:pPr>
            <a:r>
              <a:rPr b="0" lang="en-A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22" name="PlaceHolder 3"/>
          <p:cNvSpPr>
            <a:spLocks noGrp="1"/>
          </p:cNvSpPr>
          <p:nvPr>
            <p:ph type="ftr" idx="8"/>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3" name="PlaceHolder 4"/>
          <p:cNvSpPr>
            <a:spLocks noGrp="1"/>
          </p:cNvSpPr>
          <p:nvPr>
            <p:ph type="sldNum" idx="9"/>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AU" sz="1200" spc="-1" strike="noStrike">
                <a:solidFill>
                  <a:srgbClr val="8b8b8b"/>
                </a:solidFill>
                <a:latin typeface="Calibri"/>
              </a:defRPr>
            </a:lvl1pPr>
          </a:lstStyle>
          <a:p>
            <a:pPr indent="0" algn="r">
              <a:lnSpc>
                <a:spcPct val="100000"/>
              </a:lnSpc>
              <a:buNone/>
            </a:pPr>
            <a:fld id="{C6DAB3A3-6357-4B50-A136-4AF16A97EA45}" type="slidenum">
              <a:rPr b="0" lang="en-AU"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124"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s://afma.org.au/" TargetMode="External"/><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diagramData" Target="../diagrams/data1.xml"/><Relationship Id="rId3" Type="http://schemas.openxmlformats.org/officeDocument/2006/relationships/diagramLayout" Target="../diagrams/layout1.xml"/><Relationship Id="rId4" Type="http://schemas.openxmlformats.org/officeDocument/2006/relationships/diagramQuickStyle" Target="../diagrams/quickStyle1.xml"/><Relationship Id="rId5" Type="http://schemas.openxmlformats.org/officeDocument/2006/relationships/diagramColors" Target="../diagrams/colors1.xml"/><Relationship Id="rId6" Type="http://schemas.microsoft.com/office/2007/relationships/diagramDrawing" Target="../diagrams/drawing1.xml"/><Relationship Id="rId7" Type="http://schemas.openxmlformats.org/officeDocument/2006/relationships/slideLayout" Target="../slideLayouts/slideLayout13.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jpeg"/><Relationship Id="rId7" Type="http://schemas.openxmlformats.org/officeDocument/2006/relationships/image" Target="../media/image12.png"/><Relationship Id="rId8"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8.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2" descr="white and blue plastic tool"/>
          <p:cNvPicPr/>
          <p:nvPr/>
        </p:nvPicPr>
        <p:blipFill>
          <a:blip r:embed="rId1"/>
          <a:srcRect l="30002" t="0" r="4065" b="0"/>
          <a:stretch/>
        </p:blipFill>
        <p:spPr>
          <a:xfrm>
            <a:off x="0" y="0"/>
            <a:ext cx="6798960" cy="6857640"/>
          </a:xfrm>
          <a:prstGeom prst="rect">
            <a:avLst/>
          </a:prstGeom>
          <a:ln w="0">
            <a:noFill/>
          </a:ln>
        </p:spPr>
      </p:pic>
      <p:sp>
        <p:nvSpPr>
          <p:cNvPr id="168" name="Title 1"/>
          <p:cNvSpPr/>
          <p:nvPr/>
        </p:nvSpPr>
        <p:spPr>
          <a:xfrm>
            <a:off x="6792840" y="0"/>
            <a:ext cx="102960" cy="6857640"/>
          </a:xfrm>
          <a:prstGeom prst="rect">
            <a:avLst/>
          </a:prstGeom>
          <a:solidFill>
            <a:schemeClr val="bg1">
              <a:lumMod val="85000"/>
            </a:schemeClr>
          </a:solidFill>
          <a:ln w="0">
            <a:noFill/>
          </a:ln>
        </p:spPr>
        <p:style>
          <a:lnRef idx="0"/>
          <a:fillRef idx="0"/>
          <a:effectRef idx="0"/>
          <a:fontRef idx="minor"/>
        </p:style>
        <p:txBody>
          <a:bodyPr anchor="ctr">
            <a:noAutofit/>
          </a:bodyPr>
          <a:p>
            <a:pPr algn="ctr">
              <a:lnSpc>
                <a:spcPct val="100000"/>
              </a:lnSpc>
              <a:tabLst>
                <a:tab algn="l" pos="0"/>
              </a:tabLst>
            </a:pPr>
            <a:endParaRPr b="0" lang="en-AU" sz="2400" spc="-1" strike="noStrike">
              <a:solidFill>
                <a:srgbClr val="ffffff"/>
              </a:solidFill>
              <a:latin typeface="Calibri Light"/>
            </a:endParaRPr>
          </a:p>
        </p:txBody>
      </p:sp>
      <p:pic>
        <p:nvPicPr>
          <p:cNvPr id="169" name="Picture 9" descr=""/>
          <p:cNvPicPr/>
          <p:nvPr/>
        </p:nvPicPr>
        <p:blipFill>
          <a:blip r:embed="rId2"/>
          <a:stretch/>
        </p:blipFill>
        <p:spPr>
          <a:xfrm>
            <a:off x="10577880" y="6131880"/>
            <a:ext cx="1517040" cy="606600"/>
          </a:xfrm>
          <a:prstGeom prst="rect">
            <a:avLst/>
          </a:prstGeom>
          <a:ln w="0">
            <a:noFill/>
          </a:ln>
        </p:spPr>
      </p:pic>
      <p:grpSp>
        <p:nvGrpSpPr>
          <p:cNvPr id="170" name="Group 33"/>
          <p:cNvGrpSpPr/>
          <p:nvPr/>
        </p:nvGrpSpPr>
        <p:grpSpPr>
          <a:xfrm>
            <a:off x="6635880" y="1134000"/>
            <a:ext cx="416880" cy="3973320"/>
            <a:chOff x="6635880" y="1134000"/>
            <a:chExt cx="416880" cy="3973320"/>
          </a:xfrm>
        </p:grpSpPr>
        <p:sp>
          <p:nvSpPr>
            <p:cNvPr id="171" name="Oval 26"/>
            <p:cNvSpPr/>
            <p:nvPr/>
          </p:nvSpPr>
          <p:spPr>
            <a:xfrm>
              <a:off x="6635880" y="1134000"/>
              <a:ext cx="416880" cy="416880"/>
            </a:xfrm>
            <a:prstGeom prst="ellipse">
              <a:avLst/>
            </a:prstGeom>
            <a:solidFill>
              <a:srgbClr val="4472c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GB" sz="1800" spc="-1" strike="noStrike">
                <a:solidFill>
                  <a:srgbClr val="ffffff"/>
                </a:solidFill>
                <a:latin typeface="Calibri"/>
              </a:endParaRPr>
            </a:p>
          </p:txBody>
        </p:sp>
        <p:sp>
          <p:nvSpPr>
            <p:cNvPr id="172" name="Oval 27"/>
            <p:cNvSpPr/>
            <p:nvPr/>
          </p:nvSpPr>
          <p:spPr>
            <a:xfrm>
              <a:off x="6635880" y="1726560"/>
              <a:ext cx="416880" cy="416880"/>
            </a:xfrm>
            <a:prstGeom prst="ellipse">
              <a:avLst/>
            </a:prstGeom>
            <a:solidFill>
              <a:srgbClr val="4472c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GB" sz="1800" spc="-1" strike="noStrike">
                <a:solidFill>
                  <a:srgbClr val="ffffff"/>
                </a:solidFill>
                <a:latin typeface="Calibri"/>
              </a:endParaRPr>
            </a:p>
          </p:txBody>
        </p:sp>
        <p:sp>
          <p:nvSpPr>
            <p:cNvPr id="173" name="Oval 28"/>
            <p:cNvSpPr/>
            <p:nvPr/>
          </p:nvSpPr>
          <p:spPr>
            <a:xfrm>
              <a:off x="6635880" y="2319480"/>
              <a:ext cx="416880" cy="416880"/>
            </a:xfrm>
            <a:prstGeom prst="ellipse">
              <a:avLst/>
            </a:prstGeom>
            <a:solidFill>
              <a:srgbClr val="4472c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GB" sz="1800" spc="-1" strike="noStrike">
                <a:solidFill>
                  <a:srgbClr val="ffffff"/>
                </a:solidFill>
                <a:latin typeface="Calibri"/>
              </a:endParaRPr>
            </a:p>
          </p:txBody>
        </p:sp>
        <p:sp>
          <p:nvSpPr>
            <p:cNvPr id="174" name="Oval 29"/>
            <p:cNvSpPr/>
            <p:nvPr/>
          </p:nvSpPr>
          <p:spPr>
            <a:xfrm>
              <a:off x="6635880" y="2912040"/>
              <a:ext cx="416880" cy="416880"/>
            </a:xfrm>
            <a:prstGeom prst="ellipse">
              <a:avLst/>
            </a:prstGeom>
            <a:solidFill>
              <a:srgbClr val="4472c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GB" sz="1800" spc="-1" strike="noStrike">
                <a:solidFill>
                  <a:srgbClr val="ffffff"/>
                </a:solidFill>
                <a:latin typeface="Calibri"/>
              </a:endParaRPr>
            </a:p>
          </p:txBody>
        </p:sp>
        <p:sp>
          <p:nvSpPr>
            <p:cNvPr id="175" name="Oval 30"/>
            <p:cNvSpPr/>
            <p:nvPr/>
          </p:nvSpPr>
          <p:spPr>
            <a:xfrm>
              <a:off x="6635880" y="3504960"/>
              <a:ext cx="416880" cy="416880"/>
            </a:xfrm>
            <a:prstGeom prst="ellipse">
              <a:avLst/>
            </a:prstGeom>
            <a:solidFill>
              <a:srgbClr val="4472c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GB" sz="1800" spc="-1" strike="noStrike">
                <a:solidFill>
                  <a:srgbClr val="ffffff"/>
                </a:solidFill>
                <a:latin typeface="Calibri"/>
              </a:endParaRPr>
            </a:p>
          </p:txBody>
        </p:sp>
        <p:sp>
          <p:nvSpPr>
            <p:cNvPr id="176" name="Oval 31"/>
            <p:cNvSpPr/>
            <p:nvPr/>
          </p:nvSpPr>
          <p:spPr>
            <a:xfrm>
              <a:off x="6635880" y="4097880"/>
              <a:ext cx="416880" cy="416880"/>
            </a:xfrm>
            <a:prstGeom prst="ellipse">
              <a:avLst/>
            </a:prstGeom>
            <a:solidFill>
              <a:srgbClr val="4472c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GB" sz="1800" spc="-1" strike="noStrike">
                <a:solidFill>
                  <a:srgbClr val="ffffff"/>
                </a:solidFill>
                <a:latin typeface="Calibri"/>
              </a:endParaRPr>
            </a:p>
          </p:txBody>
        </p:sp>
        <p:sp>
          <p:nvSpPr>
            <p:cNvPr id="177" name="Oval 32"/>
            <p:cNvSpPr/>
            <p:nvPr/>
          </p:nvSpPr>
          <p:spPr>
            <a:xfrm>
              <a:off x="6635880" y="4690440"/>
              <a:ext cx="416880" cy="416880"/>
            </a:xfrm>
            <a:prstGeom prst="ellipse">
              <a:avLst/>
            </a:prstGeom>
            <a:solidFill>
              <a:srgbClr val="4472c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GB" sz="1800" spc="-1" strike="noStrike">
                <a:solidFill>
                  <a:srgbClr val="ffffff"/>
                </a:solidFill>
                <a:latin typeface="Calibri"/>
              </a:endParaRPr>
            </a:p>
          </p:txBody>
        </p:sp>
      </p:grpSp>
      <p:pic>
        <p:nvPicPr>
          <p:cNvPr id="178" name="Picture 2" descr="AfMA">
            <a:hlinkClick r:id="rId3"/>
          </p:cNvPr>
          <p:cNvPicPr/>
          <p:nvPr/>
        </p:nvPicPr>
        <p:blipFill>
          <a:blip r:embed="rId4"/>
          <a:stretch/>
        </p:blipFill>
        <p:spPr>
          <a:xfrm>
            <a:off x="7191000" y="6131880"/>
            <a:ext cx="1052280" cy="608040"/>
          </a:xfrm>
          <a:prstGeom prst="rect">
            <a:avLst/>
          </a:prstGeom>
          <a:ln w="0">
            <a:noFill/>
          </a:ln>
        </p:spPr>
      </p:pic>
      <p:pic>
        <p:nvPicPr>
          <p:cNvPr id="179" name="Picture 3" descr="A picture containing icon&#10;&#10;Description automatically generated"/>
          <p:cNvPicPr/>
          <p:nvPr/>
        </p:nvPicPr>
        <p:blipFill>
          <a:blip r:embed="rId5"/>
          <a:stretch/>
        </p:blipFill>
        <p:spPr>
          <a:xfrm>
            <a:off x="8272440" y="2529000"/>
            <a:ext cx="2543040" cy="1799640"/>
          </a:xfrm>
          <a:prstGeom prst="rect">
            <a:avLst/>
          </a:prstGeom>
          <a:ln w="0">
            <a:noFill/>
          </a:ln>
        </p:spPr>
      </p:pic>
      <p:sp>
        <p:nvSpPr>
          <p:cNvPr id="180" name="Rectangle 5"/>
          <p:cNvSpPr/>
          <p:nvPr/>
        </p:nvSpPr>
        <p:spPr>
          <a:xfrm>
            <a:off x="7227000" y="135360"/>
            <a:ext cx="4633920" cy="1799640"/>
          </a:xfrm>
          <a:prstGeom prst="rect">
            <a:avLst/>
          </a:prstGeom>
          <a:no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r>
              <a:rPr b="0" lang="en-AU" sz="3200" spc="299" strike="noStrike">
                <a:solidFill>
                  <a:srgbClr val="333333"/>
                </a:solidFill>
                <a:latin typeface="Calibri Light"/>
              </a:rPr>
              <a:t>Electric Vehicles in Business Flee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54545"/>
        </a:solidFill>
      </p:bgPr>
    </p:bg>
    <p:spTree>
      <p:nvGrpSpPr>
        <p:cNvPr id="1" name=""/>
        <p:cNvGrpSpPr/>
        <p:nvPr/>
      </p:nvGrpSpPr>
      <p:grpSpPr>
        <a:xfrm>
          <a:off x="0" y="0"/>
          <a:ext cx="0" cy="0"/>
          <a:chOff x="0" y="0"/>
          <a:chExt cx="0" cy="0"/>
        </a:xfrm>
      </p:grpSpPr>
      <p:sp>
        <p:nvSpPr>
          <p:cNvPr id="181" name="Freeform: Shape 22"/>
          <p:cNvSpPr/>
          <p:nvPr/>
        </p:nvSpPr>
        <p:spPr>
          <a:xfrm flipH="1">
            <a:off x="0" y="0"/>
            <a:ext cx="6172560" cy="6857640"/>
          </a:xfrm>
          <a:custGeom>
            <a:avLst/>
            <a:gdLst>
              <a:gd name="textAreaLeft" fmla="*/ 360 w 6172560"/>
              <a:gd name="textAreaRight" fmla="*/ 6173280 w 6172560"/>
              <a:gd name="textAreaTop" fmla="*/ 0 h 6857640"/>
              <a:gd name="textAreaBottom" fmla="*/ 6858000 h 6857640"/>
            </a:gdLst>
            <a:ahLst/>
            <a:rect l="textAreaLeft" t="textAreaTop" r="textAreaRight" b="textAreaBottom"/>
            <a:pathLst>
              <a:path w="6172782" h="6858000">
                <a:moveTo>
                  <a:pt x="6172782" y="0"/>
                </a:moveTo>
                <a:lnTo>
                  <a:pt x="69075" y="0"/>
                </a:lnTo>
                <a:lnTo>
                  <a:pt x="35131" y="267128"/>
                </a:lnTo>
                <a:cubicBezTo>
                  <a:pt x="11901" y="495874"/>
                  <a:pt x="0" y="727970"/>
                  <a:pt x="0" y="962845"/>
                </a:cubicBezTo>
                <a:cubicBezTo>
                  <a:pt x="0" y="3429034"/>
                  <a:pt x="1312002" y="5588789"/>
                  <a:pt x="3276103" y="6782205"/>
                </a:cubicBezTo>
                <a:lnTo>
                  <a:pt x="3407923" y="6858000"/>
                </a:lnTo>
                <a:lnTo>
                  <a:pt x="6172782" y="6858000"/>
                </a:lnTo>
                <a:close/>
              </a:path>
            </a:pathLst>
          </a:custGeom>
          <a:solidFill>
            <a:srgbClr val="ffffff">
              <a:alpha val="8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US" sz="1800" spc="-1" strike="noStrike">
              <a:solidFill>
                <a:srgbClr val="ffffff"/>
              </a:solidFill>
              <a:latin typeface="Calibri"/>
            </a:endParaRPr>
          </a:p>
        </p:txBody>
      </p:sp>
      <p:sp>
        <p:nvSpPr>
          <p:cNvPr id="182" name="Freeform: Shape 24"/>
          <p:cNvSpPr/>
          <p:nvPr/>
        </p:nvSpPr>
        <p:spPr>
          <a:xfrm flipH="1">
            <a:off x="-720" y="0"/>
            <a:ext cx="6023880" cy="6857640"/>
          </a:xfrm>
          <a:custGeom>
            <a:avLst/>
            <a:gdLst>
              <a:gd name="textAreaLeft" fmla="*/ -360 w 6023880"/>
              <a:gd name="textAreaRight" fmla="*/ 6023880 w 6023880"/>
              <a:gd name="textAreaTop" fmla="*/ 0 h 6857640"/>
              <a:gd name="textAreaBottom" fmla="*/ 6858000 h 6857640"/>
            </a:gdLst>
            <a:ahLst/>
            <a:rect l="textAreaLeft" t="textAreaTop" r="textAreaRight" b="textAreaBottom"/>
            <a:pathLst>
              <a:path w="6024154" h="6858000">
                <a:moveTo>
                  <a:pt x="70374" y="0"/>
                </a:moveTo>
                <a:lnTo>
                  <a:pt x="6024154" y="0"/>
                </a:lnTo>
                <a:lnTo>
                  <a:pt x="6024154" y="6858000"/>
                </a:lnTo>
                <a:lnTo>
                  <a:pt x="3587167" y="6858000"/>
                </a:lnTo>
                <a:lnTo>
                  <a:pt x="3474220" y="6800152"/>
                </a:lnTo>
                <a:cubicBezTo>
                  <a:pt x="1404818" y="5675986"/>
                  <a:pt x="0" y="3483472"/>
                  <a:pt x="0" y="962844"/>
                </a:cubicBezTo>
                <a:cubicBezTo>
                  <a:pt x="0" y="733696"/>
                  <a:pt x="11610" y="507260"/>
                  <a:pt x="34274" y="284091"/>
                </a:cubicBezTo>
                <a:close/>
              </a:path>
            </a:pathLst>
          </a:custGeom>
          <a:solidFill>
            <a:schemeClr val="tx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US" sz="1800" spc="-1" strike="noStrike">
              <a:solidFill>
                <a:srgbClr val="ffffff"/>
              </a:solidFill>
              <a:latin typeface="Calibri"/>
            </a:endParaRPr>
          </a:p>
        </p:txBody>
      </p:sp>
      <p:pic>
        <p:nvPicPr>
          <p:cNvPr id="183" name="Picture 9" descr="A picture containing clock, drawing&#10;&#10;Description automatically generated"/>
          <p:cNvPicPr/>
          <p:nvPr/>
        </p:nvPicPr>
        <p:blipFill>
          <a:blip r:embed="rId1"/>
          <a:stretch/>
        </p:blipFill>
        <p:spPr>
          <a:xfrm>
            <a:off x="636840" y="920880"/>
            <a:ext cx="4105080" cy="2380680"/>
          </a:xfrm>
          <a:prstGeom prst="rect">
            <a:avLst/>
          </a:prstGeom>
          <a:ln w="0">
            <a:noFill/>
          </a:ln>
        </p:spPr>
      </p:pic>
      <p:sp>
        <p:nvSpPr>
          <p:cNvPr id="184" name="TextBox 12"/>
          <p:cNvSpPr/>
          <p:nvPr/>
        </p:nvSpPr>
        <p:spPr>
          <a:xfrm>
            <a:off x="6491880" y="4447080"/>
            <a:ext cx="5005800" cy="1014120"/>
          </a:xfrm>
          <a:prstGeom prst="rect">
            <a:avLst/>
          </a:prstGeom>
          <a:noFill/>
          <a:ln w="0">
            <a:noFill/>
          </a:ln>
        </p:spPr>
        <p:style>
          <a:lnRef idx="0"/>
          <a:fillRef idx="0"/>
          <a:effectRef idx="0"/>
          <a:fontRef idx="minor"/>
        </p:style>
        <p:txBody>
          <a:bodyPr anchor="t">
            <a:normAutofit/>
          </a:bodyPr>
          <a:p>
            <a:pPr>
              <a:lnSpc>
                <a:spcPct val="90000"/>
              </a:lnSpc>
              <a:spcAft>
                <a:spcPts val="601"/>
              </a:spcAft>
              <a:tabLst>
                <a:tab algn="l" pos="0"/>
              </a:tabLst>
            </a:pPr>
            <a:endParaRPr b="1" i="1" lang="en-US" sz="1800" spc="-1" strike="noStrike">
              <a:solidFill>
                <a:srgbClr val="ffffff"/>
              </a:solidFill>
              <a:latin typeface="Calibri"/>
            </a:endParaRPr>
          </a:p>
        </p:txBody>
      </p:sp>
      <p:graphicFrame>
        <p:nvGraphicFramePr>
          <p:cNvPr id="1" name="Diagram1"/>
          <p:cNvGraphicFramePr/>
          <p:nvPr>
            <p:extLst>
              <p:ext uri="{D42A27DB-BD31-4B8C-83A1-F6EECF244321}">
                <p14:modId xmlns:p14="http://schemas.microsoft.com/office/powerpoint/2010/main" val="3848356105"/>
              </p:ext>
            </p:extLst>
          </p:nvPr>
        </p:nvGraphicFramePr>
        <p:xfrm>
          <a:off x="6388560" y="2535480"/>
          <a:ext cx="5313960" cy="3873960"/>
        </p:xfrm>
        <a:graphic>
          <a:graphicData uri="http://schemas.openxmlformats.org/drawingml/2006/diagram">
            <dgm:relIds xmlns:dgm="http://schemas.openxmlformats.org/drawingml/2006/diagram" xmlns:r="http://schemas.openxmlformats.org/officeDocument/2006/relationships" r:dm="rId2" r:lo="rId3" r:qs="rId4" r:cs="rId5"/>
          </a:graphicData>
        </a:graphic>
      </p:graphicFrame>
      <p:sp>
        <p:nvSpPr>
          <p:cNvPr id="185" name="TextBox 2"/>
          <p:cNvSpPr/>
          <p:nvPr/>
        </p:nvSpPr>
        <p:spPr>
          <a:xfrm>
            <a:off x="273960" y="4000320"/>
            <a:ext cx="4467600" cy="9428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Lst>
            </a:pPr>
            <a:r>
              <a:rPr b="1" i="1" lang="en-AU" sz="2800" spc="-1" strike="noStrike">
                <a:solidFill>
                  <a:srgbClr val="000000"/>
                </a:solidFill>
                <a:latin typeface="Calibri"/>
              </a:rPr>
              <a:t>linking people &amp; knowledge, creating outcomes</a:t>
            </a:r>
            <a:endParaRPr b="0" lang="en-US" sz="2800" spc="-1" strike="noStrike">
              <a:solidFill>
                <a:srgbClr val="000000"/>
              </a:solidFill>
              <a:latin typeface="Arial"/>
            </a:endParaRPr>
          </a:p>
        </p:txBody>
      </p:sp>
      <p:sp>
        <p:nvSpPr>
          <p:cNvPr id="186" name="TextBox 3"/>
          <p:cNvSpPr/>
          <p:nvPr/>
        </p:nvSpPr>
        <p:spPr>
          <a:xfrm>
            <a:off x="7785360" y="448200"/>
            <a:ext cx="2894040" cy="1551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Lst>
            </a:pPr>
            <a:r>
              <a:rPr b="1" i="1" lang="en-AU" sz="3200" spc="-1" strike="noStrike">
                <a:solidFill>
                  <a:srgbClr val="f2f2f2"/>
                </a:solidFill>
                <a:latin typeface="Calibri"/>
              </a:rPr>
              <a:t>25 years as the peak industry bod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54545"/>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595800" y="2961000"/>
            <a:ext cx="3583080" cy="2594520"/>
          </a:xfrm>
          <a:prstGeom prst="rect">
            <a:avLst/>
          </a:prstGeom>
          <a:noFill/>
          <a:ln w="0">
            <a:noFill/>
          </a:ln>
        </p:spPr>
        <p:txBody>
          <a:bodyPr anchor="ctr">
            <a:normAutofit/>
          </a:bodyPr>
          <a:p>
            <a:pPr indent="0" algn="ctr">
              <a:lnSpc>
                <a:spcPct val="90000"/>
              </a:lnSpc>
              <a:buNone/>
            </a:pPr>
            <a:r>
              <a:rPr b="1" lang="en-AU" sz="4400" spc="-1" strike="noStrike">
                <a:solidFill>
                  <a:srgbClr val="ffffff"/>
                </a:solidFill>
                <a:latin typeface="Calibri Light"/>
              </a:rPr>
              <a:t>Supporting</a:t>
            </a:r>
            <a:br>
              <a:rPr sz="4400"/>
            </a:br>
            <a:r>
              <a:rPr b="1" lang="en-AU" sz="4400" spc="-1" strike="noStrike">
                <a:solidFill>
                  <a:srgbClr val="ffffff"/>
                </a:solidFill>
                <a:latin typeface="Calibri Light"/>
              </a:rPr>
              <a:t>your</a:t>
            </a:r>
            <a:br>
              <a:rPr sz="4400"/>
            </a:br>
            <a:r>
              <a:rPr b="1" lang="en-AU" sz="4400" spc="-1" strike="noStrike">
                <a:solidFill>
                  <a:srgbClr val="ffffff"/>
                </a:solidFill>
                <a:latin typeface="Calibri Light"/>
              </a:rPr>
              <a:t>Fleet Industry</a:t>
            </a:r>
            <a:endParaRPr b="0" lang="en-US" sz="4400" spc="-1" strike="noStrike">
              <a:solidFill>
                <a:srgbClr val="000000"/>
              </a:solidFill>
              <a:latin typeface="Calibri"/>
            </a:endParaRPr>
          </a:p>
        </p:txBody>
      </p:sp>
      <p:sp>
        <p:nvSpPr>
          <p:cNvPr id="188" name="Freeform: Shape 28"/>
          <p:cNvSpPr/>
          <p:nvPr/>
        </p:nvSpPr>
        <p:spPr>
          <a:xfrm>
            <a:off x="4775040" y="475920"/>
            <a:ext cx="7416360" cy="6381720"/>
          </a:xfrm>
          <a:custGeom>
            <a:avLst/>
            <a:gdLst>
              <a:gd name="textAreaLeft" fmla="*/ 0 w 7416360"/>
              <a:gd name="textAreaRight" fmla="*/ 7416720 w 7416360"/>
              <a:gd name="textAreaTop" fmla="*/ 0 h 6381720"/>
              <a:gd name="textAreaBottom" fmla="*/ 6382080 h 6381720"/>
            </a:gdLst>
            <a:ahLst/>
            <a:rect l="textAreaLeft" t="textAreaTop" r="textAreaRight" b="textAreaBottom"/>
            <a:pathLst>
              <a:path w="7416801" h="6382010">
                <a:moveTo>
                  <a:pt x="4443157" y="0"/>
                </a:moveTo>
                <a:cubicBezTo>
                  <a:pt x="5564661" y="0"/>
                  <a:pt x="6589116" y="415514"/>
                  <a:pt x="7370974" y="1100993"/>
                </a:cubicBezTo>
                <a:lnTo>
                  <a:pt x="7416801" y="1143399"/>
                </a:lnTo>
                <a:lnTo>
                  <a:pt x="7416801" y="6382010"/>
                </a:lnTo>
                <a:lnTo>
                  <a:pt x="450028" y="6382010"/>
                </a:lnTo>
                <a:lnTo>
                  <a:pt x="349165" y="6172634"/>
                </a:lnTo>
                <a:cubicBezTo>
                  <a:pt x="124330" y="5641063"/>
                  <a:pt x="0" y="5056630"/>
                  <a:pt x="0" y="4443157"/>
                </a:cubicBezTo>
                <a:cubicBezTo>
                  <a:pt x="0" y="1989269"/>
                  <a:pt x="1989269" y="0"/>
                  <a:pt x="4443157" y="0"/>
                </a:cubicBezTo>
                <a:close/>
              </a:path>
            </a:pathLst>
          </a:custGeom>
          <a:solidFill>
            <a:srgbClr val="ffffff">
              <a:alpha val="8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US" sz="1800" spc="-1" strike="noStrike">
              <a:solidFill>
                <a:srgbClr val="ffffff"/>
              </a:solidFill>
              <a:latin typeface="Calibri"/>
            </a:endParaRPr>
          </a:p>
        </p:txBody>
      </p:sp>
      <p:sp>
        <p:nvSpPr>
          <p:cNvPr id="189" name="Freeform: Shape 30"/>
          <p:cNvSpPr/>
          <p:nvPr/>
        </p:nvSpPr>
        <p:spPr>
          <a:xfrm>
            <a:off x="5043240" y="744120"/>
            <a:ext cx="7148520" cy="6113520"/>
          </a:xfrm>
          <a:custGeom>
            <a:avLst/>
            <a:gdLst>
              <a:gd name="textAreaLeft" fmla="*/ 0 w 7148520"/>
              <a:gd name="textAreaRight" fmla="*/ 7148880 w 7148520"/>
              <a:gd name="textAreaTop" fmla="*/ 0 h 6113520"/>
              <a:gd name="textAreaBottom" fmla="*/ 6113880 h 6113520"/>
            </a:gdLst>
            <a:ahLst/>
            <a:rect l="textAreaLeft" t="textAreaTop" r="textAreaRight" b="textAreaBottom"/>
            <a:pathLst>
              <a:path w="7148847" h="6114057">
                <a:moveTo>
                  <a:pt x="4175203" y="0"/>
                </a:moveTo>
                <a:cubicBezTo>
                  <a:pt x="5256094" y="0"/>
                  <a:pt x="6241052" y="410735"/>
                  <a:pt x="6982515" y="1084642"/>
                </a:cubicBezTo>
                <a:lnTo>
                  <a:pt x="7148847" y="1245129"/>
                </a:lnTo>
                <a:lnTo>
                  <a:pt x="7148847" y="6114057"/>
                </a:lnTo>
                <a:lnTo>
                  <a:pt x="479215" y="6114057"/>
                </a:lnTo>
                <a:lnTo>
                  <a:pt x="328108" y="5800381"/>
                </a:lnTo>
                <a:cubicBezTo>
                  <a:pt x="116832" y="5300866"/>
                  <a:pt x="0" y="4751678"/>
                  <a:pt x="0" y="4175203"/>
                </a:cubicBezTo>
                <a:cubicBezTo>
                  <a:pt x="0" y="1869302"/>
                  <a:pt x="1869302" y="0"/>
                  <a:pt x="4175203" y="0"/>
                </a:cubicBezTo>
                <a:close/>
              </a:path>
            </a:pathLst>
          </a:custGeom>
          <a:solidFill>
            <a:schemeClr val="tx1">
              <a:alpha val="8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US" sz="1800" spc="-1" strike="noStrike">
              <a:solidFill>
                <a:srgbClr val="ffffff"/>
              </a:solidFill>
              <a:latin typeface="Calibri"/>
            </a:endParaRPr>
          </a:p>
        </p:txBody>
      </p:sp>
      <p:grpSp>
        <p:nvGrpSpPr>
          <p:cNvPr id="190" name="Group 7"/>
          <p:cNvGrpSpPr/>
          <p:nvPr/>
        </p:nvGrpSpPr>
        <p:grpSpPr>
          <a:xfrm>
            <a:off x="6758640" y="1396440"/>
            <a:ext cx="4631760" cy="5117040"/>
            <a:chOff x="6758640" y="1396440"/>
            <a:chExt cx="4631760" cy="5117040"/>
          </a:xfrm>
        </p:grpSpPr>
        <p:grpSp>
          <p:nvGrpSpPr>
            <p:cNvPr id="191" name="Group 3"/>
            <p:cNvGrpSpPr/>
            <p:nvPr/>
          </p:nvGrpSpPr>
          <p:grpSpPr>
            <a:xfrm>
              <a:off x="6758640" y="1396440"/>
              <a:ext cx="4631760" cy="5117040"/>
              <a:chOff x="6758640" y="1396440"/>
              <a:chExt cx="4631760" cy="5117040"/>
            </a:xfrm>
          </p:grpSpPr>
          <p:pic>
            <p:nvPicPr>
              <p:cNvPr id="192" name="Picture 5" descr=""/>
              <p:cNvPicPr/>
              <p:nvPr/>
            </p:nvPicPr>
            <p:blipFill>
              <a:blip r:embed="rId1"/>
              <a:stretch/>
            </p:blipFill>
            <p:spPr>
              <a:xfrm>
                <a:off x="10028160" y="2665800"/>
                <a:ext cx="1245240" cy="509760"/>
              </a:xfrm>
              <a:prstGeom prst="rect">
                <a:avLst/>
              </a:prstGeom>
              <a:ln w="0">
                <a:noFill/>
              </a:ln>
            </p:spPr>
          </p:pic>
          <p:grpSp>
            <p:nvGrpSpPr>
              <p:cNvPr id="193" name="Group 6"/>
              <p:cNvGrpSpPr/>
              <p:nvPr/>
            </p:nvGrpSpPr>
            <p:grpSpPr>
              <a:xfrm>
                <a:off x="6758640" y="1396440"/>
                <a:ext cx="4631760" cy="5117040"/>
                <a:chOff x="6758640" y="1396440"/>
                <a:chExt cx="4631760" cy="5117040"/>
              </a:xfrm>
            </p:grpSpPr>
            <p:sp>
              <p:nvSpPr>
                <p:cNvPr id="194" name="Freeform 20399"/>
                <p:cNvSpPr/>
                <p:nvPr/>
              </p:nvSpPr>
              <p:spPr>
                <a:xfrm>
                  <a:off x="8456400" y="2608920"/>
                  <a:ext cx="1224360" cy="690840"/>
                </a:xfrm>
                <a:custGeom>
                  <a:avLst/>
                  <a:gdLst>
                    <a:gd name="textAreaLeft" fmla="*/ 0 w 1224360"/>
                    <a:gd name="textAreaRight" fmla="*/ 1224720 w 1224360"/>
                    <a:gd name="textAreaTop" fmla="*/ 0 h 690840"/>
                    <a:gd name="textAreaBottom" fmla="*/ 691200 h 690840"/>
                  </a:gdLst>
                  <a:ahLst/>
                  <a:rect l="textAreaLeft" t="textAreaTop" r="textAreaRight" b="textAreaBottom"/>
                  <a:pathLst>
                    <a:path w="446" h="251">
                      <a:moveTo>
                        <a:pt x="0" y="74"/>
                      </a:moveTo>
                      <a:lnTo>
                        <a:pt x="0" y="74"/>
                      </a:lnTo>
                      <a:cubicBezTo>
                        <a:pt x="139" y="0"/>
                        <a:pt x="308" y="0"/>
                        <a:pt x="445" y="74"/>
                      </a:cubicBezTo>
                      <a:lnTo>
                        <a:pt x="345" y="250"/>
                      </a:lnTo>
                      <a:cubicBezTo>
                        <a:pt x="269" y="212"/>
                        <a:pt x="177" y="212"/>
                        <a:pt x="100" y="250"/>
                      </a:cubicBezTo>
                      <a:lnTo>
                        <a:pt x="0" y="74"/>
                      </a:lnTo>
                    </a:path>
                  </a:pathLst>
                </a:custGeom>
                <a:solidFill>
                  <a:schemeClr val="accent1"/>
                </a:solidFill>
                <a:ln w="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730" spc="-1" strike="noStrike">
                    <a:solidFill>
                      <a:srgbClr val="ffffff"/>
                    </a:solidFill>
                    <a:latin typeface="Calibri"/>
                  </a:endParaRPr>
                </a:p>
              </p:txBody>
            </p:sp>
            <p:sp>
              <p:nvSpPr>
                <p:cNvPr id="195" name="Freeform 20400"/>
                <p:cNvSpPr/>
                <p:nvPr/>
              </p:nvSpPr>
              <p:spPr>
                <a:xfrm>
                  <a:off x="9474840" y="2851560"/>
                  <a:ext cx="884880" cy="1054800"/>
                </a:xfrm>
                <a:custGeom>
                  <a:avLst/>
                  <a:gdLst>
                    <a:gd name="textAreaLeft" fmla="*/ 0 w 884880"/>
                    <a:gd name="textAreaRight" fmla="*/ 885240 w 884880"/>
                    <a:gd name="textAreaTop" fmla="*/ 0 h 1054800"/>
                    <a:gd name="textAreaBottom" fmla="*/ 1055160 h 1054800"/>
                  </a:gdLst>
                  <a:ahLst/>
                  <a:rect l="textAreaLeft" t="textAreaTop" r="textAreaRight" b="textAreaBottom"/>
                  <a:pathLst>
                    <a:path w="323" h="385">
                      <a:moveTo>
                        <a:pt x="101" y="0"/>
                      </a:moveTo>
                      <a:lnTo>
                        <a:pt x="101" y="0"/>
                      </a:lnTo>
                      <a:cubicBezTo>
                        <a:pt x="229" y="81"/>
                        <a:pt x="317" y="221"/>
                        <a:pt x="322" y="383"/>
                      </a:cubicBezTo>
                      <a:lnTo>
                        <a:pt x="121" y="384"/>
                      </a:lnTo>
                      <a:cubicBezTo>
                        <a:pt x="115" y="297"/>
                        <a:pt x="68" y="220"/>
                        <a:pt x="0" y="176"/>
                      </a:cubicBezTo>
                      <a:lnTo>
                        <a:pt x="101" y="0"/>
                      </a:lnTo>
                    </a:path>
                  </a:pathLst>
                </a:custGeom>
                <a:solidFill>
                  <a:schemeClr val="accent2"/>
                </a:solidFill>
                <a:ln w="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730" spc="-1" strike="noStrike">
                    <a:solidFill>
                      <a:srgbClr val="ffffff"/>
                    </a:solidFill>
                    <a:latin typeface="Calibri"/>
                  </a:endParaRPr>
                </a:p>
              </p:txBody>
            </p:sp>
            <p:sp>
              <p:nvSpPr>
                <p:cNvPr id="196" name="Freeform 20401"/>
                <p:cNvSpPr/>
                <p:nvPr/>
              </p:nvSpPr>
              <p:spPr>
                <a:xfrm>
                  <a:off x="9474840" y="3991320"/>
                  <a:ext cx="897120" cy="1066680"/>
                </a:xfrm>
                <a:custGeom>
                  <a:avLst/>
                  <a:gdLst>
                    <a:gd name="textAreaLeft" fmla="*/ 0 w 897120"/>
                    <a:gd name="textAreaRight" fmla="*/ 897480 w 897120"/>
                    <a:gd name="textAreaTop" fmla="*/ 0 h 1066680"/>
                    <a:gd name="textAreaBottom" fmla="*/ 1067040 h 1066680"/>
                  </a:gdLst>
                  <a:ahLst/>
                  <a:rect l="textAreaLeft" t="textAreaTop" r="textAreaRight" b="textAreaBottom"/>
                  <a:pathLst>
                    <a:path w="325" h="390">
                      <a:moveTo>
                        <a:pt x="324" y="0"/>
                      </a:moveTo>
                      <a:lnTo>
                        <a:pt x="324" y="0"/>
                      </a:lnTo>
                      <a:cubicBezTo>
                        <a:pt x="320" y="165"/>
                        <a:pt x="231" y="309"/>
                        <a:pt x="101" y="389"/>
                      </a:cubicBezTo>
                      <a:lnTo>
                        <a:pt x="0" y="214"/>
                      </a:lnTo>
                      <a:cubicBezTo>
                        <a:pt x="70" y="168"/>
                        <a:pt x="119" y="91"/>
                        <a:pt x="123" y="0"/>
                      </a:cubicBezTo>
                      <a:lnTo>
                        <a:pt x="324" y="0"/>
                      </a:lnTo>
                    </a:path>
                  </a:pathLst>
                </a:custGeom>
                <a:solidFill>
                  <a:schemeClr val="accent3"/>
                </a:solidFill>
                <a:ln w="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730" spc="-1" strike="noStrike">
                    <a:solidFill>
                      <a:srgbClr val="ffffff"/>
                    </a:solidFill>
                    <a:latin typeface="Calibri"/>
                  </a:endParaRPr>
                </a:p>
              </p:txBody>
            </p:sp>
            <p:sp>
              <p:nvSpPr>
                <p:cNvPr id="197" name="Freeform 20402"/>
                <p:cNvSpPr/>
                <p:nvPr/>
              </p:nvSpPr>
              <p:spPr>
                <a:xfrm>
                  <a:off x="7777080" y="3991320"/>
                  <a:ext cx="897120" cy="1078920"/>
                </a:xfrm>
                <a:custGeom>
                  <a:avLst/>
                  <a:gdLst>
                    <a:gd name="textAreaLeft" fmla="*/ 0 w 897120"/>
                    <a:gd name="textAreaRight" fmla="*/ 897480 w 897120"/>
                    <a:gd name="textAreaTop" fmla="*/ 0 h 1078920"/>
                    <a:gd name="textAreaBottom" fmla="*/ 1079280 h 1078920"/>
                  </a:gdLst>
                  <a:ahLst/>
                  <a:rect l="textAreaLeft" t="textAreaTop" r="textAreaRight" b="textAreaBottom"/>
                  <a:pathLst>
                    <a:path w="327" h="391">
                      <a:moveTo>
                        <a:pt x="225" y="390"/>
                      </a:moveTo>
                      <a:lnTo>
                        <a:pt x="225" y="390"/>
                      </a:lnTo>
                      <a:cubicBezTo>
                        <a:pt x="94" y="309"/>
                        <a:pt x="5" y="165"/>
                        <a:pt x="0" y="0"/>
                      </a:cubicBezTo>
                      <a:lnTo>
                        <a:pt x="202" y="0"/>
                      </a:lnTo>
                      <a:cubicBezTo>
                        <a:pt x="206" y="91"/>
                        <a:pt x="253" y="170"/>
                        <a:pt x="326" y="214"/>
                      </a:cubicBezTo>
                      <a:lnTo>
                        <a:pt x="225" y="390"/>
                      </a:lnTo>
                    </a:path>
                  </a:pathLst>
                </a:custGeom>
                <a:solidFill>
                  <a:schemeClr val="accent5"/>
                </a:solidFill>
                <a:ln w="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730" spc="-1" strike="noStrike">
                    <a:solidFill>
                      <a:srgbClr val="ffffff"/>
                    </a:solidFill>
                    <a:latin typeface="Calibri"/>
                  </a:endParaRPr>
                </a:p>
              </p:txBody>
            </p:sp>
            <p:sp>
              <p:nvSpPr>
                <p:cNvPr id="198" name="Freeform 20403"/>
                <p:cNvSpPr/>
                <p:nvPr/>
              </p:nvSpPr>
              <p:spPr>
                <a:xfrm>
                  <a:off x="7777080" y="2851560"/>
                  <a:ext cx="884880" cy="1054800"/>
                </a:xfrm>
                <a:custGeom>
                  <a:avLst/>
                  <a:gdLst>
                    <a:gd name="textAreaLeft" fmla="*/ 0 w 884880"/>
                    <a:gd name="textAreaRight" fmla="*/ 885240 w 884880"/>
                    <a:gd name="textAreaTop" fmla="*/ 0 h 1054800"/>
                    <a:gd name="textAreaBottom" fmla="*/ 1055160 h 1054800"/>
                  </a:gdLst>
                  <a:ahLst/>
                  <a:rect l="textAreaLeft" t="textAreaTop" r="textAreaRight" b="textAreaBottom"/>
                  <a:pathLst>
                    <a:path w="324" h="385">
                      <a:moveTo>
                        <a:pt x="0" y="384"/>
                      </a:moveTo>
                      <a:lnTo>
                        <a:pt x="0" y="384"/>
                      </a:lnTo>
                      <a:cubicBezTo>
                        <a:pt x="5" y="221"/>
                        <a:pt x="94" y="79"/>
                        <a:pt x="222" y="0"/>
                      </a:cubicBezTo>
                      <a:lnTo>
                        <a:pt x="323" y="175"/>
                      </a:lnTo>
                      <a:cubicBezTo>
                        <a:pt x="255" y="220"/>
                        <a:pt x="208" y="296"/>
                        <a:pt x="202" y="384"/>
                      </a:cubicBezTo>
                      <a:lnTo>
                        <a:pt x="0" y="384"/>
                      </a:lnTo>
                    </a:path>
                  </a:pathLst>
                </a:custGeom>
                <a:solidFill>
                  <a:schemeClr val="accent6"/>
                </a:solidFill>
                <a:ln w="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730" spc="-1" strike="noStrike">
                    <a:solidFill>
                      <a:srgbClr val="ffffff"/>
                    </a:solidFill>
                    <a:latin typeface="Calibri"/>
                  </a:endParaRPr>
                </a:p>
              </p:txBody>
            </p:sp>
            <p:sp>
              <p:nvSpPr>
                <p:cNvPr id="199" name="Freeform 20404"/>
                <p:cNvSpPr/>
                <p:nvPr/>
              </p:nvSpPr>
              <p:spPr>
                <a:xfrm>
                  <a:off x="8468280" y="4622040"/>
                  <a:ext cx="1212120" cy="678600"/>
                </a:xfrm>
                <a:custGeom>
                  <a:avLst/>
                  <a:gdLst>
                    <a:gd name="textAreaLeft" fmla="*/ 0 w 1212120"/>
                    <a:gd name="textAreaRight" fmla="*/ 1212480 w 1212120"/>
                    <a:gd name="textAreaTop" fmla="*/ 0 h 678600"/>
                    <a:gd name="textAreaBottom" fmla="*/ 678960 h 678600"/>
                  </a:gdLst>
                  <a:ahLst/>
                  <a:rect l="textAreaLeft" t="textAreaTop" r="textAreaRight" b="textAreaBottom"/>
                  <a:pathLst>
                    <a:path w="443" h="248">
                      <a:moveTo>
                        <a:pt x="442" y="174"/>
                      </a:moveTo>
                      <a:lnTo>
                        <a:pt x="442" y="174"/>
                      </a:lnTo>
                      <a:cubicBezTo>
                        <a:pt x="304" y="247"/>
                        <a:pt x="137" y="247"/>
                        <a:pt x="0" y="174"/>
                      </a:cubicBezTo>
                      <a:lnTo>
                        <a:pt x="101" y="0"/>
                      </a:lnTo>
                      <a:cubicBezTo>
                        <a:pt x="175" y="37"/>
                        <a:pt x="266" y="37"/>
                        <a:pt x="341" y="0"/>
                      </a:cubicBezTo>
                      <a:lnTo>
                        <a:pt x="442" y="174"/>
                      </a:lnTo>
                    </a:path>
                  </a:pathLst>
                </a:custGeom>
                <a:solidFill>
                  <a:schemeClr val="accent4"/>
                </a:solidFill>
                <a:ln w="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730" spc="-1" strike="noStrike">
                    <a:solidFill>
                      <a:srgbClr val="ffffff"/>
                    </a:solidFill>
                    <a:latin typeface="Calibri"/>
                  </a:endParaRPr>
                </a:p>
              </p:txBody>
            </p:sp>
            <p:sp>
              <p:nvSpPr>
                <p:cNvPr id="200" name="Freeform 20405"/>
                <p:cNvSpPr/>
                <p:nvPr/>
              </p:nvSpPr>
              <p:spPr>
                <a:xfrm>
                  <a:off x="8237880" y="1396440"/>
                  <a:ext cx="1672920" cy="1321560"/>
                </a:xfrm>
                <a:custGeom>
                  <a:avLst/>
                  <a:gdLst>
                    <a:gd name="textAreaLeft" fmla="*/ 0 w 1672920"/>
                    <a:gd name="textAreaRight" fmla="*/ 1673280 w 1672920"/>
                    <a:gd name="textAreaTop" fmla="*/ 0 h 1321560"/>
                    <a:gd name="textAreaBottom" fmla="*/ 1321920 h 1321560"/>
                  </a:gdLst>
                  <a:ahLst/>
                  <a:rect l="textAreaLeft" t="textAreaTop" r="textAreaRight" b="textAreaBottom"/>
                  <a:pathLst>
                    <a:path w="607" h="482">
                      <a:moveTo>
                        <a:pt x="371" y="8"/>
                      </a:moveTo>
                      <a:lnTo>
                        <a:pt x="371" y="8"/>
                      </a:lnTo>
                      <a:cubicBezTo>
                        <a:pt x="374" y="9"/>
                        <a:pt x="377" y="12"/>
                        <a:pt x="375" y="17"/>
                      </a:cubicBezTo>
                      <a:cubicBezTo>
                        <a:pt x="375" y="21"/>
                        <a:pt x="371" y="23"/>
                        <a:pt x="368" y="23"/>
                      </a:cubicBezTo>
                      <a:lnTo>
                        <a:pt x="366" y="23"/>
                      </a:lnTo>
                      <a:lnTo>
                        <a:pt x="363" y="21"/>
                      </a:lnTo>
                      <a:lnTo>
                        <a:pt x="362" y="21"/>
                      </a:lnTo>
                      <a:lnTo>
                        <a:pt x="361" y="21"/>
                      </a:lnTo>
                      <a:lnTo>
                        <a:pt x="359" y="21"/>
                      </a:lnTo>
                      <a:lnTo>
                        <a:pt x="358" y="20"/>
                      </a:lnTo>
                      <a:lnTo>
                        <a:pt x="356" y="20"/>
                      </a:lnTo>
                      <a:lnTo>
                        <a:pt x="353" y="20"/>
                      </a:lnTo>
                      <a:cubicBezTo>
                        <a:pt x="350" y="18"/>
                        <a:pt x="347" y="16"/>
                        <a:pt x="347" y="11"/>
                      </a:cubicBezTo>
                      <a:cubicBezTo>
                        <a:pt x="349" y="8"/>
                        <a:pt x="351" y="5"/>
                        <a:pt x="356" y="5"/>
                      </a:cubicBezTo>
                      <a:lnTo>
                        <a:pt x="358" y="5"/>
                      </a:lnTo>
                      <a:lnTo>
                        <a:pt x="359" y="6"/>
                      </a:lnTo>
                      <a:lnTo>
                        <a:pt x="362" y="6"/>
                      </a:lnTo>
                      <a:lnTo>
                        <a:pt x="363" y="6"/>
                      </a:lnTo>
                      <a:lnTo>
                        <a:pt x="365" y="6"/>
                      </a:lnTo>
                      <a:lnTo>
                        <a:pt x="366" y="8"/>
                      </a:lnTo>
                      <a:lnTo>
                        <a:pt x="369" y="8"/>
                      </a:lnTo>
                      <a:lnTo>
                        <a:pt x="371" y="8"/>
                      </a:lnTo>
                      <a:close/>
                      <a:moveTo>
                        <a:pt x="427" y="27"/>
                      </a:moveTo>
                      <a:lnTo>
                        <a:pt x="427" y="27"/>
                      </a:lnTo>
                      <a:cubicBezTo>
                        <a:pt x="430" y="29"/>
                        <a:pt x="431" y="33"/>
                        <a:pt x="430" y="36"/>
                      </a:cubicBezTo>
                      <a:cubicBezTo>
                        <a:pt x="428" y="41"/>
                        <a:pt x="424" y="42"/>
                        <a:pt x="421" y="41"/>
                      </a:cubicBezTo>
                      <a:lnTo>
                        <a:pt x="419" y="39"/>
                      </a:lnTo>
                      <a:lnTo>
                        <a:pt x="418" y="39"/>
                      </a:lnTo>
                      <a:lnTo>
                        <a:pt x="417" y="37"/>
                      </a:lnTo>
                      <a:lnTo>
                        <a:pt x="415" y="37"/>
                      </a:lnTo>
                      <a:lnTo>
                        <a:pt x="412" y="36"/>
                      </a:lnTo>
                      <a:lnTo>
                        <a:pt x="411" y="36"/>
                      </a:lnTo>
                      <a:lnTo>
                        <a:pt x="410" y="36"/>
                      </a:lnTo>
                      <a:lnTo>
                        <a:pt x="407" y="34"/>
                      </a:lnTo>
                      <a:cubicBezTo>
                        <a:pt x="403" y="33"/>
                        <a:pt x="402" y="29"/>
                        <a:pt x="403" y="25"/>
                      </a:cubicBezTo>
                      <a:cubicBezTo>
                        <a:pt x="405" y="21"/>
                        <a:pt x="410" y="20"/>
                        <a:pt x="414" y="21"/>
                      </a:cubicBezTo>
                      <a:lnTo>
                        <a:pt x="415" y="23"/>
                      </a:lnTo>
                      <a:lnTo>
                        <a:pt x="417" y="23"/>
                      </a:lnTo>
                      <a:lnTo>
                        <a:pt x="418" y="23"/>
                      </a:lnTo>
                      <a:lnTo>
                        <a:pt x="419" y="24"/>
                      </a:lnTo>
                      <a:lnTo>
                        <a:pt x="421" y="24"/>
                      </a:lnTo>
                      <a:lnTo>
                        <a:pt x="424" y="25"/>
                      </a:lnTo>
                      <a:lnTo>
                        <a:pt x="426" y="25"/>
                      </a:lnTo>
                      <a:lnTo>
                        <a:pt x="427" y="27"/>
                      </a:lnTo>
                      <a:close/>
                      <a:moveTo>
                        <a:pt x="479" y="57"/>
                      </a:moveTo>
                      <a:lnTo>
                        <a:pt x="479" y="57"/>
                      </a:lnTo>
                      <a:cubicBezTo>
                        <a:pt x="482" y="58"/>
                        <a:pt x="482" y="62"/>
                        <a:pt x="480" y="66"/>
                      </a:cubicBezTo>
                      <a:cubicBezTo>
                        <a:pt x="477" y="70"/>
                        <a:pt x="473" y="70"/>
                        <a:pt x="470" y="69"/>
                      </a:cubicBezTo>
                      <a:lnTo>
                        <a:pt x="470" y="67"/>
                      </a:lnTo>
                      <a:lnTo>
                        <a:pt x="468" y="67"/>
                      </a:lnTo>
                      <a:lnTo>
                        <a:pt x="467" y="66"/>
                      </a:lnTo>
                      <a:lnTo>
                        <a:pt x="465" y="64"/>
                      </a:lnTo>
                      <a:lnTo>
                        <a:pt x="464" y="64"/>
                      </a:lnTo>
                      <a:lnTo>
                        <a:pt x="463" y="62"/>
                      </a:lnTo>
                      <a:lnTo>
                        <a:pt x="461" y="61"/>
                      </a:lnTo>
                      <a:lnTo>
                        <a:pt x="460" y="61"/>
                      </a:lnTo>
                      <a:lnTo>
                        <a:pt x="458" y="60"/>
                      </a:lnTo>
                      <a:cubicBezTo>
                        <a:pt x="455" y="58"/>
                        <a:pt x="454" y="54"/>
                        <a:pt x="456" y="51"/>
                      </a:cubicBezTo>
                      <a:cubicBezTo>
                        <a:pt x="458" y="46"/>
                        <a:pt x="463" y="46"/>
                        <a:pt x="465" y="48"/>
                      </a:cubicBezTo>
                      <a:lnTo>
                        <a:pt x="467" y="49"/>
                      </a:lnTo>
                      <a:lnTo>
                        <a:pt x="468" y="49"/>
                      </a:lnTo>
                      <a:lnTo>
                        <a:pt x="470" y="51"/>
                      </a:lnTo>
                      <a:lnTo>
                        <a:pt x="471" y="52"/>
                      </a:lnTo>
                      <a:lnTo>
                        <a:pt x="473" y="52"/>
                      </a:lnTo>
                      <a:lnTo>
                        <a:pt x="475" y="54"/>
                      </a:lnTo>
                      <a:lnTo>
                        <a:pt x="476" y="55"/>
                      </a:lnTo>
                      <a:lnTo>
                        <a:pt x="477" y="55"/>
                      </a:lnTo>
                      <a:lnTo>
                        <a:pt x="479" y="57"/>
                      </a:lnTo>
                      <a:close/>
                      <a:moveTo>
                        <a:pt x="524" y="95"/>
                      </a:moveTo>
                      <a:lnTo>
                        <a:pt x="524" y="95"/>
                      </a:lnTo>
                      <a:cubicBezTo>
                        <a:pt x="526" y="98"/>
                        <a:pt x="526" y="102"/>
                        <a:pt x="524" y="106"/>
                      </a:cubicBezTo>
                      <a:cubicBezTo>
                        <a:pt x="520" y="109"/>
                        <a:pt x="516" y="109"/>
                        <a:pt x="513" y="106"/>
                      </a:cubicBezTo>
                      <a:lnTo>
                        <a:pt x="512" y="104"/>
                      </a:lnTo>
                      <a:lnTo>
                        <a:pt x="510" y="102"/>
                      </a:lnTo>
                      <a:lnTo>
                        <a:pt x="508" y="101"/>
                      </a:lnTo>
                      <a:lnTo>
                        <a:pt x="507" y="100"/>
                      </a:lnTo>
                      <a:lnTo>
                        <a:pt x="507" y="98"/>
                      </a:lnTo>
                      <a:lnTo>
                        <a:pt x="505" y="98"/>
                      </a:lnTo>
                      <a:lnTo>
                        <a:pt x="504" y="97"/>
                      </a:lnTo>
                      <a:lnTo>
                        <a:pt x="503" y="95"/>
                      </a:lnTo>
                      <a:cubicBezTo>
                        <a:pt x="500" y="93"/>
                        <a:pt x="500" y="88"/>
                        <a:pt x="503" y="85"/>
                      </a:cubicBezTo>
                      <a:cubicBezTo>
                        <a:pt x="505" y="82"/>
                        <a:pt x="510" y="82"/>
                        <a:pt x="513" y="85"/>
                      </a:cubicBezTo>
                      <a:lnTo>
                        <a:pt x="514" y="86"/>
                      </a:lnTo>
                      <a:lnTo>
                        <a:pt x="516" y="88"/>
                      </a:lnTo>
                      <a:lnTo>
                        <a:pt x="517" y="89"/>
                      </a:lnTo>
                      <a:lnTo>
                        <a:pt x="519" y="90"/>
                      </a:lnTo>
                      <a:lnTo>
                        <a:pt x="520" y="93"/>
                      </a:lnTo>
                      <a:lnTo>
                        <a:pt x="521" y="94"/>
                      </a:lnTo>
                      <a:lnTo>
                        <a:pt x="524" y="95"/>
                      </a:lnTo>
                      <a:close/>
                      <a:moveTo>
                        <a:pt x="560" y="141"/>
                      </a:moveTo>
                      <a:lnTo>
                        <a:pt x="560" y="141"/>
                      </a:lnTo>
                      <a:cubicBezTo>
                        <a:pt x="562" y="146"/>
                        <a:pt x="560" y="150"/>
                        <a:pt x="557" y="151"/>
                      </a:cubicBezTo>
                      <a:cubicBezTo>
                        <a:pt x="554" y="155"/>
                        <a:pt x="550" y="153"/>
                        <a:pt x="547" y="150"/>
                      </a:cubicBezTo>
                      <a:lnTo>
                        <a:pt x="547" y="148"/>
                      </a:lnTo>
                      <a:lnTo>
                        <a:pt x="545" y="147"/>
                      </a:lnTo>
                      <a:lnTo>
                        <a:pt x="544" y="146"/>
                      </a:lnTo>
                      <a:lnTo>
                        <a:pt x="544" y="144"/>
                      </a:lnTo>
                      <a:lnTo>
                        <a:pt x="542" y="143"/>
                      </a:lnTo>
                      <a:lnTo>
                        <a:pt x="542" y="141"/>
                      </a:lnTo>
                      <a:lnTo>
                        <a:pt x="541" y="139"/>
                      </a:lnTo>
                      <a:lnTo>
                        <a:pt x="540" y="138"/>
                      </a:lnTo>
                      <a:cubicBezTo>
                        <a:pt x="537" y="135"/>
                        <a:pt x="538" y="131"/>
                        <a:pt x="541" y="127"/>
                      </a:cubicBezTo>
                      <a:cubicBezTo>
                        <a:pt x="544" y="125"/>
                        <a:pt x="549" y="126"/>
                        <a:pt x="552" y="130"/>
                      </a:cubicBezTo>
                      <a:lnTo>
                        <a:pt x="552" y="131"/>
                      </a:lnTo>
                      <a:lnTo>
                        <a:pt x="553" y="132"/>
                      </a:lnTo>
                      <a:lnTo>
                        <a:pt x="554" y="134"/>
                      </a:lnTo>
                      <a:lnTo>
                        <a:pt x="554" y="135"/>
                      </a:lnTo>
                      <a:lnTo>
                        <a:pt x="556" y="137"/>
                      </a:lnTo>
                      <a:lnTo>
                        <a:pt x="557" y="138"/>
                      </a:lnTo>
                      <a:lnTo>
                        <a:pt x="557" y="139"/>
                      </a:lnTo>
                      <a:lnTo>
                        <a:pt x="559" y="141"/>
                      </a:lnTo>
                      <a:lnTo>
                        <a:pt x="560" y="141"/>
                      </a:lnTo>
                      <a:close/>
                      <a:moveTo>
                        <a:pt x="587" y="195"/>
                      </a:moveTo>
                      <a:lnTo>
                        <a:pt x="587" y="195"/>
                      </a:lnTo>
                      <a:cubicBezTo>
                        <a:pt x="589" y="199"/>
                        <a:pt x="585" y="203"/>
                        <a:pt x="582" y="204"/>
                      </a:cubicBezTo>
                      <a:cubicBezTo>
                        <a:pt x="578" y="207"/>
                        <a:pt x="574" y="203"/>
                        <a:pt x="572" y="200"/>
                      </a:cubicBezTo>
                      <a:lnTo>
                        <a:pt x="572" y="199"/>
                      </a:lnTo>
                      <a:lnTo>
                        <a:pt x="570" y="196"/>
                      </a:lnTo>
                      <a:lnTo>
                        <a:pt x="570" y="195"/>
                      </a:lnTo>
                      <a:lnTo>
                        <a:pt x="570" y="193"/>
                      </a:lnTo>
                      <a:lnTo>
                        <a:pt x="569" y="191"/>
                      </a:lnTo>
                      <a:lnTo>
                        <a:pt x="569" y="190"/>
                      </a:lnTo>
                      <a:lnTo>
                        <a:pt x="568" y="188"/>
                      </a:lnTo>
                      <a:lnTo>
                        <a:pt x="568" y="187"/>
                      </a:lnTo>
                      <a:cubicBezTo>
                        <a:pt x="566" y="184"/>
                        <a:pt x="568" y="179"/>
                        <a:pt x="570" y="178"/>
                      </a:cubicBezTo>
                      <a:cubicBezTo>
                        <a:pt x="575" y="175"/>
                        <a:pt x="580" y="178"/>
                        <a:pt x="581" y="181"/>
                      </a:cubicBezTo>
                      <a:lnTo>
                        <a:pt x="581" y="183"/>
                      </a:lnTo>
                      <a:lnTo>
                        <a:pt x="582" y="184"/>
                      </a:lnTo>
                      <a:lnTo>
                        <a:pt x="582" y="186"/>
                      </a:lnTo>
                      <a:lnTo>
                        <a:pt x="584" y="188"/>
                      </a:lnTo>
                      <a:lnTo>
                        <a:pt x="584" y="190"/>
                      </a:lnTo>
                      <a:lnTo>
                        <a:pt x="585" y="191"/>
                      </a:lnTo>
                      <a:lnTo>
                        <a:pt x="585" y="193"/>
                      </a:lnTo>
                      <a:lnTo>
                        <a:pt x="585" y="195"/>
                      </a:lnTo>
                      <a:lnTo>
                        <a:pt x="587" y="195"/>
                      </a:lnTo>
                      <a:close/>
                      <a:moveTo>
                        <a:pt x="599" y="237"/>
                      </a:moveTo>
                      <a:lnTo>
                        <a:pt x="585" y="240"/>
                      </a:lnTo>
                      <a:lnTo>
                        <a:pt x="599" y="237"/>
                      </a:lnTo>
                      <a:close/>
                      <a:moveTo>
                        <a:pt x="602" y="252"/>
                      </a:moveTo>
                      <a:lnTo>
                        <a:pt x="602" y="252"/>
                      </a:lnTo>
                      <a:cubicBezTo>
                        <a:pt x="603" y="257"/>
                        <a:pt x="601" y="260"/>
                        <a:pt x="596" y="261"/>
                      </a:cubicBezTo>
                      <a:cubicBezTo>
                        <a:pt x="591" y="261"/>
                        <a:pt x="589" y="258"/>
                        <a:pt x="587" y="255"/>
                      </a:cubicBezTo>
                      <a:lnTo>
                        <a:pt x="587" y="253"/>
                      </a:lnTo>
                      <a:lnTo>
                        <a:pt x="587" y="251"/>
                      </a:lnTo>
                      <a:lnTo>
                        <a:pt x="587" y="249"/>
                      </a:lnTo>
                      <a:lnTo>
                        <a:pt x="587" y="248"/>
                      </a:lnTo>
                      <a:lnTo>
                        <a:pt x="585" y="246"/>
                      </a:lnTo>
                      <a:lnTo>
                        <a:pt x="585" y="245"/>
                      </a:lnTo>
                      <a:lnTo>
                        <a:pt x="585" y="242"/>
                      </a:lnTo>
                      <a:lnTo>
                        <a:pt x="585" y="240"/>
                      </a:lnTo>
                      <a:cubicBezTo>
                        <a:pt x="584" y="237"/>
                        <a:pt x="587" y="233"/>
                        <a:pt x="590" y="232"/>
                      </a:cubicBezTo>
                      <a:cubicBezTo>
                        <a:pt x="594" y="232"/>
                        <a:pt x="599" y="233"/>
                        <a:pt x="599" y="237"/>
                      </a:cubicBezTo>
                      <a:lnTo>
                        <a:pt x="599" y="239"/>
                      </a:lnTo>
                      <a:lnTo>
                        <a:pt x="601" y="242"/>
                      </a:lnTo>
                      <a:lnTo>
                        <a:pt x="601" y="244"/>
                      </a:lnTo>
                      <a:lnTo>
                        <a:pt x="601" y="245"/>
                      </a:lnTo>
                      <a:lnTo>
                        <a:pt x="601" y="246"/>
                      </a:lnTo>
                      <a:lnTo>
                        <a:pt x="602" y="249"/>
                      </a:lnTo>
                      <a:lnTo>
                        <a:pt x="602" y="251"/>
                      </a:lnTo>
                      <a:lnTo>
                        <a:pt x="602" y="252"/>
                      </a:lnTo>
                      <a:close/>
                      <a:moveTo>
                        <a:pt x="606" y="311"/>
                      </a:moveTo>
                      <a:lnTo>
                        <a:pt x="606" y="311"/>
                      </a:lnTo>
                      <a:cubicBezTo>
                        <a:pt x="606" y="316"/>
                        <a:pt x="603" y="318"/>
                        <a:pt x="599" y="318"/>
                      </a:cubicBezTo>
                      <a:cubicBezTo>
                        <a:pt x="594" y="318"/>
                        <a:pt x="591" y="314"/>
                        <a:pt x="591" y="311"/>
                      </a:cubicBezTo>
                      <a:lnTo>
                        <a:pt x="591" y="310"/>
                      </a:lnTo>
                      <a:lnTo>
                        <a:pt x="591" y="309"/>
                      </a:lnTo>
                      <a:lnTo>
                        <a:pt x="591" y="307"/>
                      </a:lnTo>
                      <a:lnTo>
                        <a:pt x="591" y="304"/>
                      </a:lnTo>
                      <a:lnTo>
                        <a:pt x="591" y="302"/>
                      </a:lnTo>
                      <a:lnTo>
                        <a:pt x="591" y="301"/>
                      </a:lnTo>
                      <a:lnTo>
                        <a:pt x="591" y="298"/>
                      </a:lnTo>
                      <a:lnTo>
                        <a:pt x="591" y="297"/>
                      </a:lnTo>
                      <a:cubicBezTo>
                        <a:pt x="591" y="292"/>
                        <a:pt x="594" y="289"/>
                        <a:pt x="599" y="289"/>
                      </a:cubicBezTo>
                      <a:cubicBezTo>
                        <a:pt x="603" y="289"/>
                        <a:pt x="606" y="292"/>
                        <a:pt x="606" y="297"/>
                      </a:cubicBezTo>
                      <a:lnTo>
                        <a:pt x="606" y="298"/>
                      </a:lnTo>
                      <a:lnTo>
                        <a:pt x="606" y="301"/>
                      </a:lnTo>
                      <a:lnTo>
                        <a:pt x="606" y="302"/>
                      </a:lnTo>
                      <a:lnTo>
                        <a:pt x="606" y="304"/>
                      </a:lnTo>
                      <a:lnTo>
                        <a:pt x="606" y="307"/>
                      </a:lnTo>
                      <a:lnTo>
                        <a:pt x="606" y="309"/>
                      </a:lnTo>
                      <a:lnTo>
                        <a:pt x="606" y="310"/>
                      </a:lnTo>
                      <a:lnTo>
                        <a:pt x="606" y="311"/>
                      </a:lnTo>
                      <a:close/>
                      <a:moveTo>
                        <a:pt x="599" y="371"/>
                      </a:moveTo>
                      <a:lnTo>
                        <a:pt x="599" y="371"/>
                      </a:lnTo>
                      <a:cubicBezTo>
                        <a:pt x="599" y="374"/>
                        <a:pt x="594" y="377"/>
                        <a:pt x="590" y="375"/>
                      </a:cubicBezTo>
                      <a:cubicBezTo>
                        <a:pt x="587" y="375"/>
                        <a:pt x="584" y="371"/>
                        <a:pt x="585" y="367"/>
                      </a:cubicBezTo>
                      <a:lnTo>
                        <a:pt x="585" y="366"/>
                      </a:lnTo>
                      <a:lnTo>
                        <a:pt x="585" y="363"/>
                      </a:lnTo>
                      <a:lnTo>
                        <a:pt x="585" y="362"/>
                      </a:lnTo>
                      <a:lnTo>
                        <a:pt x="585" y="360"/>
                      </a:lnTo>
                      <a:lnTo>
                        <a:pt x="587" y="359"/>
                      </a:lnTo>
                      <a:lnTo>
                        <a:pt x="587" y="357"/>
                      </a:lnTo>
                      <a:lnTo>
                        <a:pt x="587" y="356"/>
                      </a:lnTo>
                      <a:lnTo>
                        <a:pt x="587" y="353"/>
                      </a:lnTo>
                      <a:cubicBezTo>
                        <a:pt x="589" y="350"/>
                        <a:pt x="591" y="347"/>
                        <a:pt x="596" y="347"/>
                      </a:cubicBezTo>
                      <a:cubicBezTo>
                        <a:pt x="601" y="349"/>
                        <a:pt x="603" y="351"/>
                        <a:pt x="602" y="356"/>
                      </a:cubicBezTo>
                      <a:lnTo>
                        <a:pt x="602" y="357"/>
                      </a:lnTo>
                      <a:lnTo>
                        <a:pt x="602" y="360"/>
                      </a:lnTo>
                      <a:lnTo>
                        <a:pt x="601" y="362"/>
                      </a:lnTo>
                      <a:lnTo>
                        <a:pt x="601" y="363"/>
                      </a:lnTo>
                      <a:lnTo>
                        <a:pt x="601" y="365"/>
                      </a:lnTo>
                      <a:lnTo>
                        <a:pt x="601" y="367"/>
                      </a:lnTo>
                      <a:lnTo>
                        <a:pt x="599" y="369"/>
                      </a:lnTo>
                      <a:lnTo>
                        <a:pt x="599" y="371"/>
                      </a:lnTo>
                      <a:close/>
                      <a:moveTo>
                        <a:pt x="580" y="427"/>
                      </a:moveTo>
                      <a:lnTo>
                        <a:pt x="580" y="427"/>
                      </a:lnTo>
                      <a:cubicBezTo>
                        <a:pt x="578" y="430"/>
                        <a:pt x="575" y="431"/>
                        <a:pt x="570" y="430"/>
                      </a:cubicBezTo>
                      <a:cubicBezTo>
                        <a:pt x="568" y="428"/>
                        <a:pt x="565" y="424"/>
                        <a:pt x="568" y="421"/>
                      </a:cubicBezTo>
                      <a:lnTo>
                        <a:pt x="568" y="419"/>
                      </a:lnTo>
                      <a:lnTo>
                        <a:pt x="568" y="418"/>
                      </a:lnTo>
                      <a:lnTo>
                        <a:pt x="569" y="416"/>
                      </a:lnTo>
                      <a:lnTo>
                        <a:pt x="569" y="415"/>
                      </a:lnTo>
                      <a:lnTo>
                        <a:pt x="570" y="414"/>
                      </a:lnTo>
                      <a:lnTo>
                        <a:pt x="570" y="411"/>
                      </a:lnTo>
                      <a:lnTo>
                        <a:pt x="572" y="409"/>
                      </a:lnTo>
                      <a:lnTo>
                        <a:pt x="572" y="407"/>
                      </a:lnTo>
                      <a:cubicBezTo>
                        <a:pt x="574" y="403"/>
                        <a:pt x="578" y="402"/>
                        <a:pt x="582" y="403"/>
                      </a:cubicBezTo>
                      <a:cubicBezTo>
                        <a:pt x="585" y="405"/>
                        <a:pt x="587" y="409"/>
                        <a:pt x="585" y="412"/>
                      </a:cubicBezTo>
                      <a:lnTo>
                        <a:pt x="585" y="414"/>
                      </a:lnTo>
                      <a:lnTo>
                        <a:pt x="585" y="415"/>
                      </a:lnTo>
                      <a:lnTo>
                        <a:pt x="584" y="416"/>
                      </a:lnTo>
                      <a:lnTo>
                        <a:pt x="584" y="418"/>
                      </a:lnTo>
                      <a:lnTo>
                        <a:pt x="582" y="419"/>
                      </a:lnTo>
                      <a:lnTo>
                        <a:pt x="582" y="423"/>
                      </a:lnTo>
                      <a:lnTo>
                        <a:pt x="581" y="424"/>
                      </a:lnTo>
                      <a:lnTo>
                        <a:pt x="581" y="426"/>
                      </a:lnTo>
                      <a:lnTo>
                        <a:pt x="580" y="427"/>
                      </a:lnTo>
                      <a:close/>
                      <a:moveTo>
                        <a:pt x="552" y="479"/>
                      </a:moveTo>
                      <a:lnTo>
                        <a:pt x="552" y="479"/>
                      </a:lnTo>
                      <a:cubicBezTo>
                        <a:pt x="549" y="481"/>
                        <a:pt x="544" y="481"/>
                        <a:pt x="541" y="480"/>
                      </a:cubicBezTo>
                      <a:cubicBezTo>
                        <a:pt x="538" y="477"/>
                        <a:pt x="537" y="473"/>
                        <a:pt x="540" y="470"/>
                      </a:cubicBezTo>
                      <a:lnTo>
                        <a:pt x="541" y="468"/>
                      </a:lnTo>
                      <a:lnTo>
                        <a:pt x="541" y="467"/>
                      </a:lnTo>
                      <a:lnTo>
                        <a:pt x="542" y="465"/>
                      </a:lnTo>
                      <a:lnTo>
                        <a:pt x="544" y="464"/>
                      </a:lnTo>
                      <a:lnTo>
                        <a:pt x="544" y="463"/>
                      </a:lnTo>
                      <a:lnTo>
                        <a:pt x="545" y="461"/>
                      </a:lnTo>
                      <a:lnTo>
                        <a:pt x="545" y="460"/>
                      </a:lnTo>
                      <a:lnTo>
                        <a:pt x="547" y="458"/>
                      </a:lnTo>
                      <a:cubicBezTo>
                        <a:pt x="549" y="455"/>
                        <a:pt x="553" y="454"/>
                        <a:pt x="557" y="456"/>
                      </a:cubicBezTo>
                      <a:cubicBezTo>
                        <a:pt x="560" y="458"/>
                        <a:pt x="562" y="463"/>
                        <a:pt x="559" y="465"/>
                      </a:cubicBezTo>
                      <a:lnTo>
                        <a:pt x="559" y="467"/>
                      </a:lnTo>
                      <a:lnTo>
                        <a:pt x="557" y="468"/>
                      </a:lnTo>
                      <a:lnTo>
                        <a:pt x="556" y="470"/>
                      </a:lnTo>
                      <a:lnTo>
                        <a:pt x="556" y="471"/>
                      </a:lnTo>
                      <a:lnTo>
                        <a:pt x="554" y="473"/>
                      </a:lnTo>
                      <a:lnTo>
                        <a:pt x="553" y="475"/>
                      </a:lnTo>
                      <a:lnTo>
                        <a:pt x="553" y="476"/>
                      </a:lnTo>
                      <a:lnTo>
                        <a:pt x="552" y="477"/>
                      </a:lnTo>
                      <a:lnTo>
                        <a:pt x="552" y="479"/>
                      </a:lnTo>
                      <a:close/>
                      <a:moveTo>
                        <a:pt x="48" y="465"/>
                      </a:moveTo>
                      <a:lnTo>
                        <a:pt x="48" y="465"/>
                      </a:lnTo>
                      <a:cubicBezTo>
                        <a:pt x="45" y="463"/>
                        <a:pt x="46" y="458"/>
                        <a:pt x="49" y="455"/>
                      </a:cubicBezTo>
                      <a:cubicBezTo>
                        <a:pt x="54" y="454"/>
                        <a:pt x="58" y="454"/>
                        <a:pt x="60" y="458"/>
                      </a:cubicBezTo>
                      <a:lnTo>
                        <a:pt x="61" y="460"/>
                      </a:lnTo>
                      <a:lnTo>
                        <a:pt x="62" y="461"/>
                      </a:lnTo>
                      <a:lnTo>
                        <a:pt x="62" y="463"/>
                      </a:lnTo>
                      <a:lnTo>
                        <a:pt x="64" y="464"/>
                      </a:lnTo>
                      <a:lnTo>
                        <a:pt x="66" y="465"/>
                      </a:lnTo>
                      <a:lnTo>
                        <a:pt x="66" y="467"/>
                      </a:lnTo>
                      <a:lnTo>
                        <a:pt x="67" y="468"/>
                      </a:lnTo>
                      <a:lnTo>
                        <a:pt x="67" y="470"/>
                      </a:lnTo>
                      <a:cubicBezTo>
                        <a:pt x="70" y="473"/>
                        <a:pt x="69" y="477"/>
                        <a:pt x="66" y="479"/>
                      </a:cubicBezTo>
                      <a:cubicBezTo>
                        <a:pt x="62" y="481"/>
                        <a:pt x="58" y="481"/>
                        <a:pt x="55" y="477"/>
                      </a:cubicBezTo>
                      <a:lnTo>
                        <a:pt x="54" y="476"/>
                      </a:lnTo>
                      <a:lnTo>
                        <a:pt x="54" y="475"/>
                      </a:lnTo>
                      <a:lnTo>
                        <a:pt x="52" y="473"/>
                      </a:lnTo>
                      <a:lnTo>
                        <a:pt x="51" y="471"/>
                      </a:lnTo>
                      <a:lnTo>
                        <a:pt x="51" y="470"/>
                      </a:lnTo>
                      <a:lnTo>
                        <a:pt x="49" y="468"/>
                      </a:lnTo>
                      <a:lnTo>
                        <a:pt x="48" y="467"/>
                      </a:lnTo>
                      <a:lnTo>
                        <a:pt x="48" y="465"/>
                      </a:lnTo>
                      <a:close/>
                      <a:moveTo>
                        <a:pt x="21" y="412"/>
                      </a:moveTo>
                      <a:lnTo>
                        <a:pt x="21" y="412"/>
                      </a:lnTo>
                      <a:cubicBezTo>
                        <a:pt x="20" y="409"/>
                        <a:pt x="21" y="405"/>
                        <a:pt x="25" y="403"/>
                      </a:cubicBezTo>
                      <a:cubicBezTo>
                        <a:pt x="29" y="402"/>
                        <a:pt x="33" y="403"/>
                        <a:pt x="35" y="407"/>
                      </a:cubicBezTo>
                      <a:lnTo>
                        <a:pt x="35" y="409"/>
                      </a:lnTo>
                      <a:lnTo>
                        <a:pt x="36" y="411"/>
                      </a:lnTo>
                      <a:lnTo>
                        <a:pt x="36" y="412"/>
                      </a:lnTo>
                      <a:lnTo>
                        <a:pt x="37" y="414"/>
                      </a:lnTo>
                      <a:lnTo>
                        <a:pt x="37" y="415"/>
                      </a:lnTo>
                      <a:lnTo>
                        <a:pt x="39" y="416"/>
                      </a:lnTo>
                      <a:lnTo>
                        <a:pt x="39" y="418"/>
                      </a:lnTo>
                      <a:lnTo>
                        <a:pt x="39" y="419"/>
                      </a:lnTo>
                      <a:lnTo>
                        <a:pt x="41" y="419"/>
                      </a:lnTo>
                      <a:cubicBezTo>
                        <a:pt x="42" y="424"/>
                        <a:pt x="41" y="428"/>
                        <a:pt x="36" y="430"/>
                      </a:cubicBezTo>
                      <a:cubicBezTo>
                        <a:pt x="33" y="431"/>
                        <a:pt x="29" y="430"/>
                        <a:pt x="28" y="426"/>
                      </a:cubicBezTo>
                      <a:lnTo>
                        <a:pt x="25" y="424"/>
                      </a:lnTo>
                      <a:lnTo>
                        <a:pt x="25" y="423"/>
                      </a:lnTo>
                      <a:lnTo>
                        <a:pt x="24" y="421"/>
                      </a:lnTo>
                      <a:lnTo>
                        <a:pt x="24" y="419"/>
                      </a:lnTo>
                      <a:lnTo>
                        <a:pt x="23" y="418"/>
                      </a:lnTo>
                      <a:lnTo>
                        <a:pt x="23" y="415"/>
                      </a:lnTo>
                      <a:lnTo>
                        <a:pt x="21" y="414"/>
                      </a:lnTo>
                      <a:lnTo>
                        <a:pt x="21" y="412"/>
                      </a:lnTo>
                      <a:close/>
                      <a:moveTo>
                        <a:pt x="5" y="356"/>
                      </a:moveTo>
                      <a:lnTo>
                        <a:pt x="5" y="356"/>
                      </a:lnTo>
                      <a:cubicBezTo>
                        <a:pt x="5" y="351"/>
                        <a:pt x="7" y="347"/>
                        <a:pt x="11" y="347"/>
                      </a:cubicBezTo>
                      <a:cubicBezTo>
                        <a:pt x="16" y="346"/>
                        <a:pt x="18" y="349"/>
                        <a:pt x="20" y="353"/>
                      </a:cubicBezTo>
                      <a:lnTo>
                        <a:pt x="20" y="354"/>
                      </a:lnTo>
                      <a:lnTo>
                        <a:pt x="20" y="356"/>
                      </a:lnTo>
                      <a:lnTo>
                        <a:pt x="20" y="357"/>
                      </a:lnTo>
                      <a:lnTo>
                        <a:pt x="21" y="359"/>
                      </a:lnTo>
                      <a:lnTo>
                        <a:pt x="21" y="360"/>
                      </a:lnTo>
                      <a:lnTo>
                        <a:pt x="21" y="363"/>
                      </a:lnTo>
                      <a:lnTo>
                        <a:pt x="21" y="365"/>
                      </a:lnTo>
                      <a:lnTo>
                        <a:pt x="23" y="366"/>
                      </a:lnTo>
                      <a:cubicBezTo>
                        <a:pt x="23" y="371"/>
                        <a:pt x="21" y="374"/>
                        <a:pt x="17" y="375"/>
                      </a:cubicBezTo>
                      <a:cubicBezTo>
                        <a:pt x="12" y="377"/>
                        <a:pt x="9" y="374"/>
                        <a:pt x="8" y="369"/>
                      </a:cubicBezTo>
                      <a:lnTo>
                        <a:pt x="8" y="367"/>
                      </a:lnTo>
                      <a:lnTo>
                        <a:pt x="7" y="366"/>
                      </a:lnTo>
                      <a:lnTo>
                        <a:pt x="7" y="363"/>
                      </a:lnTo>
                      <a:lnTo>
                        <a:pt x="7" y="362"/>
                      </a:lnTo>
                      <a:lnTo>
                        <a:pt x="7" y="360"/>
                      </a:lnTo>
                      <a:lnTo>
                        <a:pt x="5" y="359"/>
                      </a:lnTo>
                      <a:lnTo>
                        <a:pt x="5" y="356"/>
                      </a:lnTo>
                      <a:close/>
                      <a:moveTo>
                        <a:pt x="0" y="297"/>
                      </a:moveTo>
                      <a:lnTo>
                        <a:pt x="0" y="297"/>
                      </a:lnTo>
                      <a:cubicBezTo>
                        <a:pt x="0" y="292"/>
                        <a:pt x="4" y="289"/>
                        <a:pt x="8" y="289"/>
                      </a:cubicBezTo>
                      <a:cubicBezTo>
                        <a:pt x="12" y="289"/>
                        <a:pt x="16" y="292"/>
                        <a:pt x="16" y="297"/>
                      </a:cubicBezTo>
                      <a:lnTo>
                        <a:pt x="16" y="300"/>
                      </a:lnTo>
                      <a:lnTo>
                        <a:pt x="16" y="301"/>
                      </a:lnTo>
                      <a:lnTo>
                        <a:pt x="16" y="302"/>
                      </a:lnTo>
                      <a:lnTo>
                        <a:pt x="16" y="304"/>
                      </a:lnTo>
                      <a:lnTo>
                        <a:pt x="16" y="307"/>
                      </a:lnTo>
                      <a:lnTo>
                        <a:pt x="16" y="309"/>
                      </a:lnTo>
                      <a:lnTo>
                        <a:pt x="16" y="310"/>
                      </a:lnTo>
                      <a:cubicBezTo>
                        <a:pt x="16" y="314"/>
                        <a:pt x="12" y="317"/>
                        <a:pt x="8" y="317"/>
                      </a:cubicBezTo>
                      <a:cubicBezTo>
                        <a:pt x="5" y="317"/>
                        <a:pt x="0" y="314"/>
                        <a:pt x="0" y="311"/>
                      </a:cubicBezTo>
                      <a:lnTo>
                        <a:pt x="0" y="310"/>
                      </a:lnTo>
                      <a:lnTo>
                        <a:pt x="0" y="309"/>
                      </a:lnTo>
                      <a:lnTo>
                        <a:pt x="0" y="307"/>
                      </a:lnTo>
                      <a:lnTo>
                        <a:pt x="0" y="304"/>
                      </a:lnTo>
                      <a:lnTo>
                        <a:pt x="0" y="302"/>
                      </a:lnTo>
                      <a:lnTo>
                        <a:pt x="0" y="301"/>
                      </a:lnTo>
                      <a:lnTo>
                        <a:pt x="0" y="298"/>
                      </a:lnTo>
                      <a:lnTo>
                        <a:pt x="0" y="297"/>
                      </a:lnTo>
                      <a:close/>
                      <a:moveTo>
                        <a:pt x="8" y="237"/>
                      </a:moveTo>
                      <a:lnTo>
                        <a:pt x="8" y="237"/>
                      </a:lnTo>
                      <a:cubicBezTo>
                        <a:pt x="9" y="233"/>
                        <a:pt x="12" y="232"/>
                        <a:pt x="17" y="232"/>
                      </a:cubicBezTo>
                      <a:cubicBezTo>
                        <a:pt x="21" y="233"/>
                        <a:pt x="23" y="236"/>
                        <a:pt x="23" y="240"/>
                      </a:cubicBezTo>
                      <a:lnTo>
                        <a:pt x="21" y="242"/>
                      </a:lnTo>
                      <a:lnTo>
                        <a:pt x="21" y="244"/>
                      </a:lnTo>
                      <a:lnTo>
                        <a:pt x="21" y="245"/>
                      </a:lnTo>
                      <a:lnTo>
                        <a:pt x="21" y="246"/>
                      </a:lnTo>
                      <a:lnTo>
                        <a:pt x="20" y="248"/>
                      </a:lnTo>
                      <a:lnTo>
                        <a:pt x="20" y="251"/>
                      </a:lnTo>
                      <a:lnTo>
                        <a:pt x="20" y="252"/>
                      </a:lnTo>
                      <a:lnTo>
                        <a:pt x="20" y="253"/>
                      </a:lnTo>
                      <a:cubicBezTo>
                        <a:pt x="18" y="258"/>
                        <a:pt x="16" y="261"/>
                        <a:pt x="11" y="260"/>
                      </a:cubicBezTo>
                      <a:cubicBezTo>
                        <a:pt x="7" y="260"/>
                        <a:pt x="5" y="255"/>
                        <a:pt x="5" y="252"/>
                      </a:cubicBezTo>
                      <a:lnTo>
                        <a:pt x="5" y="251"/>
                      </a:lnTo>
                      <a:lnTo>
                        <a:pt x="5" y="249"/>
                      </a:lnTo>
                      <a:lnTo>
                        <a:pt x="7" y="248"/>
                      </a:lnTo>
                      <a:lnTo>
                        <a:pt x="7" y="246"/>
                      </a:lnTo>
                      <a:lnTo>
                        <a:pt x="7" y="244"/>
                      </a:lnTo>
                      <a:lnTo>
                        <a:pt x="7" y="242"/>
                      </a:lnTo>
                      <a:lnTo>
                        <a:pt x="8" y="240"/>
                      </a:lnTo>
                      <a:lnTo>
                        <a:pt x="8" y="239"/>
                      </a:lnTo>
                      <a:lnTo>
                        <a:pt x="8" y="237"/>
                      </a:lnTo>
                      <a:close/>
                      <a:moveTo>
                        <a:pt x="28" y="181"/>
                      </a:moveTo>
                      <a:lnTo>
                        <a:pt x="28" y="181"/>
                      </a:lnTo>
                      <a:cubicBezTo>
                        <a:pt x="29" y="176"/>
                        <a:pt x="33" y="175"/>
                        <a:pt x="36" y="176"/>
                      </a:cubicBezTo>
                      <a:cubicBezTo>
                        <a:pt x="41" y="178"/>
                        <a:pt x="42" y="183"/>
                        <a:pt x="41" y="187"/>
                      </a:cubicBezTo>
                      <a:lnTo>
                        <a:pt x="39" y="187"/>
                      </a:lnTo>
                      <a:lnTo>
                        <a:pt x="39" y="190"/>
                      </a:lnTo>
                      <a:lnTo>
                        <a:pt x="37" y="191"/>
                      </a:lnTo>
                      <a:lnTo>
                        <a:pt x="37" y="193"/>
                      </a:lnTo>
                      <a:lnTo>
                        <a:pt x="36" y="195"/>
                      </a:lnTo>
                      <a:lnTo>
                        <a:pt x="36" y="196"/>
                      </a:lnTo>
                      <a:lnTo>
                        <a:pt x="36" y="197"/>
                      </a:lnTo>
                      <a:lnTo>
                        <a:pt x="35" y="199"/>
                      </a:lnTo>
                      <a:lnTo>
                        <a:pt x="35" y="200"/>
                      </a:lnTo>
                      <a:cubicBezTo>
                        <a:pt x="33" y="203"/>
                        <a:pt x="29" y="204"/>
                        <a:pt x="25" y="203"/>
                      </a:cubicBezTo>
                      <a:cubicBezTo>
                        <a:pt x="21" y="202"/>
                        <a:pt x="20" y="199"/>
                        <a:pt x="21" y="195"/>
                      </a:cubicBezTo>
                      <a:lnTo>
                        <a:pt x="21" y="191"/>
                      </a:lnTo>
                      <a:lnTo>
                        <a:pt x="23" y="190"/>
                      </a:lnTo>
                      <a:lnTo>
                        <a:pt x="23" y="188"/>
                      </a:lnTo>
                      <a:lnTo>
                        <a:pt x="24" y="187"/>
                      </a:lnTo>
                      <a:lnTo>
                        <a:pt x="24" y="186"/>
                      </a:lnTo>
                      <a:lnTo>
                        <a:pt x="25" y="184"/>
                      </a:lnTo>
                      <a:lnTo>
                        <a:pt x="25" y="181"/>
                      </a:lnTo>
                      <a:lnTo>
                        <a:pt x="28" y="181"/>
                      </a:lnTo>
                      <a:close/>
                      <a:moveTo>
                        <a:pt x="55" y="130"/>
                      </a:moveTo>
                      <a:lnTo>
                        <a:pt x="55" y="130"/>
                      </a:lnTo>
                      <a:cubicBezTo>
                        <a:pt x="58" y="126"/>
                        <a:pt x="62" y="125"/>
                        <a:pt x="66" y="127"/>
                      </a:cubicBezTo>
                      <a:cubicBezTo>
                        <a:pt x="69" y="130"/>
                        <a:pt x="70" y="134"/>
                        <a:pt x="67" y="138"/>
                      </a:cubicBezTo>
                      <a:lnTo>
                        <a:pt x="67" y="139"/>
                      </a:lnTo>
                      <a:lnTo>
                        <a:pt x="66" y="141"/>
                      </a:lnTo>
                      <a:lnTo>
                        <a:pt x="64" y="143"/>
                      </a:lnTo>
                      <a:lnTo>
                        <a:pt x="64" y="144"/>
                      </a:lnTo>
                      <a:lnTo>
                        <a:pt x="62" y="146"/>
                      </a:lnTo>
                      <a:lnTo>
                        <a:pt x="61" y="147"/>
                      </a:lnTo>
                      <a:lnTo>
                        <a:pt x="61" y="148"/>
                      </a:lnTo>
                      <a:lnTo>
                        <a:pt x="60" y="148"/>
                      </a:lnTo>
                      <a:cubicBezTo>
                        <a:pt x="58" y="153"/>
                        <a:pt x="54" y="153"/>
                        <a:pt x="49" y="151"/>
                      </a:cubicBezTo>
                      <a:cubicBezTo>
                        <a:pt x="46" y="150"/>
                        <a:pt x="45" y="146"/>
                        <a:pt x="48" y="141"/>
                      </a:cubicBezTo>
                      <a:lnTo>
                        <a:pt x="48" y="139"/>
                      </a:lnTo>
                      <a:lnTo>
                        <a:pt x="49" y="138"/>
                      </a:lnTo>
                      <a:lnTo>
                        <a:pt x="51" y="137"/>
                      </a:lnTo>
                      <a:lnTo>
                        <a:pt x="52" y="135"/>
                      </a:lnTo>
                      <a:lnTo>
                        <a:pt x="52" y="134"/>
                      </a:lnTo>
                      <a:lnTo>
                        <a:pt x="54" y="132"/>
                      </a:lnTo>
                      <a:lnTo>
                        <a:pt x="55" y="131"/>
                      </a:lnTo>
                      <a:lnTo>
                        <a:pt x="55" y="130"/>
                      </a:lnTo>
                      <a:close/>
                      <a:moveTo>
                        <a:pt x="95" y="85"/>
                      </a:moveTo>
                      <a:lnTo>
                        <a:pt x="95" y="85"/>
                      </a:lnTo>
                      <a:cubicBezTo>
                        <a:pt x="98" y="82"/>
                        <a:pt x="102" y="82"/>
                        <a:pt x="106" y="85"/>
                      </a:cubicBezTo>
                      <a:cubicBezTo>
                        <a:pt x="107" y="88"/>
                        <a:pt x="107" y="93"/>
                        <a:pt x="104" y="95"/>
                      </a:cubicBezTo>
                      <a:lnTo>
                        <a:pt x="102" y="97"/>
                      </a:lnTo>
                      <a:lnTo>
                        <a:pt x="101" y="98"/>
                      </a:lnTo>
                      <a:lnTo>
                        <a:pt x="100" y="100"/>
                      </a:lnTo>
                      <a:lnTo>
                        <a:pt x="98" y="101"/>
                      </a:lnTo>
                      <a:lnTo>
                        <a:pt x="97" y="101"/>
                      </a:lnTo>
                      <a:lnTo>
                        <a:pt x="97" y="102"/>
                      </a:lnTo>
                      <a:lnTo>
                        <a:pt x="95" y="104"/>
                      </a:lnTo>
                      <a:cubicBezTo>
                        <a:pt x="93" y="107"/>
                        <a:pt x="88" y="107"/>
                        <a:pt x="85" y="106"/>
                      </a:cubicBezTo>
                      <a:cubicBezTo>
                        <a:pt x="82" y="102"/>
                        <a:pt x="82" y="98"/>
                        <a:pt x="85" y="95"/>
                      </a:cubicBezTo>
                      <a:lnTo>
                        <a:pt x="85" y="94"/>
                      </a:lnTo>
                      <a:lnTo>
                        <a:pt x="86" y="94"/>
                      </a:lnTo>
                      <a:lnTo>
                        <a:pt x="86" y="93"/>
                      </a:lnTo>
                      <a:lnTo>
                        <a:pt x="88" y="90"/>
                      </a:lnTo>
                      <a:lnTo>
                        <a:pt x="89" y="89"/>
                      </a:lnTo>
                      <a:lnTo>
                        <a:pt x="91" y="88"/>
                      </a:lnTo>
                      <a:lnTo>
                        <a:pt x="93" y="86"/>
                      </a:lnTo>
                      <a:lnTo>
                        <a:pt x="94" y="85"/>
                      </a:lnTo>
                      <a:lnTo>
                        <a:pt x="95" y="85"/>
                      </a:lnTo>
                      <a:close/>
                      <a:moveTo>
                        <a:pt x="141" y="48"/>
                      </a:moveTo>
                      <a:lnTo>
                        <a:pt x="141" y="48"/>
                      </a:lnTo>
                      <a:cubicBezTo>
                        <a:pt x="144" y="45"/>
                        <a:pt x="149" y="46"/>
                        <a:pt x="151" y="49"/>
                      </a:cubicBezTo>
                      <a:cubicBezTo>
                        <a:pt x="153" y="54"/>
                        <a:pt x="153" y="58"/>
                        <a:pt x="149" y="60"/>
                      </a:cubicBezTo>
                      <a:lnTo>
                        <a:pt x="147" y="61"/>
                      </a:lnTo>
                      <a:lnTo>
                        <a:pt x="146" y="62"/>
                      </a:lnTo>
                      <a:lnTo>
                        <a:pt x="144" y="62"/>
                      </a:lnTo>
                      <a:lnTo>
                        <a:pt x="143" y="64"/>
                      </a:lnTo>
                      <a:lnTo>
                        <a:pt x="141" y="66"/>
                      </a:lnTo>
                      <a:lnTo>
                        <a:pt x="139" y="66"/>
                      </a:lnTo>
                      <a:lnTo>
                        <a:pt x="138" y="67"/>
                      </a:lnTo>
                      <a:cubicBezTo>
                        <a:pt x="134" y="70"/>
                        <a:pt x="130" y="70"/>
                        <a:pt x="128" y="66"/>
                      </a:cubicBezTo>
                      <a:cubicBezTo>
                        <a:pt x="125" y="62"/>
                        <a:pt x="126" y="58"/>
                        <a:pt x="130" y="55"/>
                      </a:cubicBezTo>
                      <a:lnTo>
                        <a:pt x="131" y="54"/>
                      </a:lnTo>
                      <a:lnTo>
                        <a:pt x="132" y="54"/>
                      </a:lnTo>
                      <a:lnTo>
                        <a:pt x="135" y="52"/>
                      </a:lnTo>
                      <a:lnTo>
                        <a:pt x="137" y="51"/>
                      </a:lnTo>
                      <a:lnTo>
                        <a:pt x="138" y="51"/>
                      </a:lnTo>
                      <a:lnTo>
                        <a:pt x="139" y="49"/>
                      </a:lnTo>
                      <a:lnTo>
                        <a:pt x="141" y="48"/>
                      </a:lnTo>
                      <a:close/>
                      <a:moveTo>
                        <a:pt x="195" y="21"/>
                      </a:moveTo>
                      <a:lnTo>
                        <a:pt x="195" y="21"/>
                      </a:lnTo>
                      <a:cubicBezTo>
                        <a:pt x="198" y="20"/>
                        <a:pt x="202" y="21"/>
                        <a:pt x="203" y="25"/>
                      </a:cubicBezTo>
                      <a:cubicBezTo>
                        <a:pt x="205" y="29"/>
                        <a:pt x="203" y="33"/>
                        <a:pt x="200" y="34"/>
                      </a:cubicBezTo>
                      <a:lnTo>
                        <a:pt x="199" y="34"/>
                      </a:lnTo>
                      <a:lnTo>
                        <a:pt x="196" y="36"/>
                      </a:lnTo>
                      <a:lnTo>
                        <a:pt x="195" y="36"/>
                      </a:lnTo>
                      <a:lnTo>
                        <a:pt x="193" y="37"/>
                      </a:lnTo>
                      <a:lnTo>
                        <a:pt x="191" y="37"/>
                      </a:lnTo>
                      <a:lnTo>
                        <a:pt x="190" y="39"/>
                      </a:lnTo>
                      <a:lnTo>
                        <a:pt x="188" y="39"/>
                      </a:lnTo>
                      <a:lnTo>
                        <a:pt x="187" y="41"/>
                      </a:lnTo>
                      <a:cubicBezTo>
                        <a:pt x="183" y="42"/>
                        <a:pt x="178" y="41"/>
                        <a:pt x="177" y="36"/>
                      </a:cubicBezTo>
                      <a:cubicBezTo>
                        <a:pt x="175" y="33"/>
                        <a:pt x="177" y="29"/>
                        <a:pt x="181" y="27"/>
                      </a:cubicBezTo>
                      <a:lnTo>
                        <a:pt x="183" y="25"/>
                      </a:lnTo>
                      <a:lnTo>
                        <a:pt x="184" y="25"/>
                      </a:lnTo>
                      <a:lnTo>
                        <a:pt x="186" y="24"/>
                      </a:lnTo>
                      <a:lnTo>
                        <a:pt x="187" y="24"/>
                      </a:lnTo>
                      <a:lnTo>
                        <a:pt x="190" y="23"/>
                      </a:lnTo>
                      <a:lnTo>
                        <a:pt x="191" y="23"/>
                      </a:lnTo>
                      <a:lnTo>
                        <a:pt x="193" y="21"/>
                      </a:lnTo>
                      <a:lnTo>
                        <a:pt x="195" y="21"/>
                      </a:lnTo>
                      <a:close/>
                      <a:moveTo>
                        <a:pt x="252" y="5"/>
                      </a:moveTo>
                      <a:lnTo>
                        <a:pt x="252" y="5"/>
                      </a:lnTo>
                      <a:cubicBezTo>
                        <a:pt x="255" y="5"/>
                        <a:pt x="260" y="6"/>
                        <a:pt x="260" y="11"/>
                      </a:cubicBezTo>
                      <a:cubicBezTo>
                        <a:pt x="261" y="16"/>
                        <a:pt x="258" y="18"/>
                        <a:pt x="253" y="20"/>
                      </a:cubicBezTo>
                      <a:lnTo>
                        <a:pt x="251" y="20"/>
                      </a:lnTo>
                      <a:lnTo>
                        <a:pt x="249" y="20"/>
                      </a:lnTo>
                      <a:lnTo>
                        <a:pt x="248" y="21"/>
                      </a:lnTo>
                      <a:lnTo>
                        <a:pt x="246" y="21"/>
                      </a:lnTo>
                      <a:lnTo>
                        <a:pt x="245" y="21"/>
                      </a:lnTo>
                      <a:lnTo>
                        <a:pt x="242" y="21"/>
                      </a:lnTo>
                      <a:lnTo>
                        <a:pt x="240" y="23"/>
                      </a:lnTo>
                      <a:cubicBezTo>
                        <a:pt x="236" y="23"/>
                        <a:pt x="233" y="21"/>
                        <a:pt x="232" y="17"/>
                      </a:cubicBezTo>
                      <a:cubicBezTo>
                        <a:pt x="230" y="12"/>
                        <a:pt x="233" y="9"/>
                        <a:pt x="237" y="8"/>
                      </a:cubicBezTo>
                      <a:lnTo>
                        <a:pt x="239" y="8"/>
                      </a:lnTo>
                      <a:lnTo>
                        <a:pt x="242" y="8"/>
                      </a:lnTo>
                      <a:lnTo>
                        <a:pt x="244" y="6"/>
                      </a:lnTo>
                      <a:lnTo>
                        <a:pt x="245" y="6"/>
                      </a:lnTo>
                      <a:lnTo>
                        <a:pt x="246" y="6"/>
                      </a:lnTo>
                      <a:lnTo>
                        <a:pt x="249" y="6"/>
                      </a:lnTo>
                      <a:lnTo>
                        <a:pt x="251" y="5"/>
                      </a:lnTo>
                      <a:lnTo>
                        <a:pt x="252" y="5"/>
                      </a:lnTo>
                      <a:close/>
                      <a:moveTo>
                        <a:pt x="297" y="16"/>
                      </a:moveTo>
                      <a:lnTo>
                        <a:pt x="297" y="16"/>
                      </a:lnTo>
                      <a:cubicBezTo>
                        <a:pt x="292" y="16"/>
                        <a:pt x="289" y="12"/>
                        <a:pt x="289" y="8"/>
                      </a:cubicBezTo>
                      <a:cubicBezTo>
                        <a:pt x="289" y="5"/>
                        <a:pt x="292" y="0"/>
                        <a:pt x="297" y="0"/>
                      </a:cubicBezTo>
                      <a:lnTo>
                        <a:pt x="298" y="0"/>
                      </a:lnTo>
                      <a:lnTo>
                        <a:pt x="301" y="0"/>
                      </a:lnTo>
                      <a:lnTo>
                        <a:pt x="302" y="0"/>
                      </a:lnTo>
                      <a:lnTo>
                        <a:pt x="304" y="0"/>
                      </a:lnTo>
                      <a:lnTo>
                        <a:pt x="307" y="0"/>
                      </a:lnTo>
                      <a:lnTo>
                        <a:pt x="309" y="0"/>
                      </a:lnTo>
                      <a:lnTo>
                        <a:pt x="310" y="0"/>
                      </a:lnTo>
                      <a:lnTo>
                        <a:pt x="312" y="0"/>
                      </a:lnTo>
                      <a:cubicBezTo>
                        <a:pt x="316" y="0"/>
                        <a:pt x="319" y="5"/>
                        <a:pt x="319" y="8"/>
                      </a:cubicBezTo>
                      <a:cubicBezTo>
                        <a:pt x="319" y="12"/>
                        <a:pt x="314" y="16"/>
                        <a:pt x="312" y="16"/>
                      </a:cubicBezTo>
                      <a:lnTo>
                        <a:pt x="310" y="16"/>
                      </a:lnTo>
                      <a:lnTo>
                        <a:pt x="309" y="16"/>
                      </a:lnTo>
                      <a:lnTo>
                        <a:pt x="305" y="16"/>
                      </a:lnTo>
                      <a:lnTo>
                        <a:pt x="304" y="16"/>
                      </a:lnTo>
                      <a:lnTo>
                        <a:pt x="302" y="16"/>
                      </a:lnTo>
                      <a:lnTo>
                        <a:pt x="301" y="16"/>
                      </a:lnTo>
                      <a:lnTo>
                        <a:pt x="298" y="16"/>
                      </a:lnTo>
                      <a:lnTo>
                        <a:pt x="297" y="16"/>
                      </a:lnTo>
                      <a:close/>
                    </a:path>
                  </a:pathLst>
                </a:custGeom>
                <a:solidFill>
                  <a:schemeClr val="accent1"/>
                </a:solidFill>
                <a:ln w="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730" spc="-1" strike="noStrike">
                    <a:solidFill>
                      <a:srgbClr val="ffffff"/>
                    </a:solidFill>
                    <a:latin typeface="Calibri"/>
                  </a:endParaRPr>
                </a:p>
              </p:txBody>
            </p:sp>
            <p:sp>
              <p:nvSpPr>
                <p:cNvPr id="201" name="Freeform 20406"/>
                <p:cNvSpPr/>
                <p:nvPr/>
              </p:nvSpPr>
              <p:spPr>
                <a:xfrm>
                  <a:off x="8237880" y="5191920"/>
                  <a:ext cx="1672920" cy="1321560"/>
                </a:xfrm>
                <a:custGeom>
                  <a:avLst/>
                  <a:gdLst>
                    <a:gd name="textAreaLeft" fmla="*/ 0 w 1672920"/>
                    <a:gd name="textAreaRight" fmla="*/ 1673280 w 1672920"/>
                    <a:gd name="textAreaTop" fmla="*/ 0 h 1321560"/>
                    <a:gd name="textAreaBottom" fmla="*/ 1321920 h 1321560"/>
                  </a:gdLst>
                  <a:ahLst/>
                  <a:rect l="textAreaLeft" t="textAreaTop" r="textAreaRight" b="textAreaBottom"/>
                  <a:pathLst>
                    <a:path w="607" h="482">
                      <a:moveTo>
                        <a:pt x="371" y="473"/>
                      </a:moveTo>
                      <a:lnTo>
                        <a:pt x="371" y="473"/>
                      </a:lnTo>
                      <a:cubicBezTo>
                        <a:pt x="374" y="473"/>
                        <a:pt x="377" y="469"/>
                        <a:pt x="375" y="465"/>
                      </a:cubicBezTo>
                      <a:cubicBezTo>
                        <a:pt x="375" y="461"/>
                        <a:pt x="371" y="459"/>
                        <a:pt x="368" y="460"/>
                      </a:cubicBezTo>
                      <a:lnTo>
                        <a:pt x="366" y="460"/>
                      </a:lnTo>
                      <a:lnTo>
                        <a:pt x="363" y="460"/>
                      </a:lnTo>
                      <a:lnTo>
                        <a:pt x="362" y="460"/>
                      </a:lnTo>
                      <a:lnTo>
                        <a:pt x="361" y="461"/>
                      </a:lnTo>
                      <a:lnTo>
                        <a:pt x="359" y="461"/>
                      </a:lnTo>
                      <a:lnTo>
                        <a:pt x="358" y="461"/>
                      </a:lnTo>
                      <a:lnTo>
                        <a:pt x="356" y="461"/>
                      </a:lnTo>
                      <a:lnTo>
                        <a:pt x="353" y="463"/>
                      </a:lnTo>
                      <a:cubicBezTo>
                        <a:pt x="350" y="463"/>
                        <a:pt x="347" y="468"/>
                        <a:pt x="347" y="471"/>
                      </a:cubicBezTo>
                      <a:cubicBezTo>
                        <a:pt x="349" y="475"/>
                        <a:pt x="351" y="478"/>
                        <a:pt x="356" y="476"/>
                      </a:cubicBezTo>
                      <a:lnTo>
                        <a:pt x="358" y="476"/>
                      </a:lnTo>
                      <a:lnTo>
                        <a:pt x="359" y="476"/>
                      </a:lnTo>
                      <a:lnTo>
                        <a:pt x="362" y="475"/>
                      </a:lnTo>
                      <a:lnTo>
                        <a:pt x="363" y="475"/>
                      </a:lnTo>
                      <a:lnTo>
                        <a:pt x="365" y="475"/>
                      </a:lnTo>
                      <a:lnTo>
                        <a:pt x="366" y="475"/>
                      </a:lnTo>
                      <a:lnTo>
                        <a:pt x="369" y="473"/>
                      </a:lnTo>
                      <a:lnTo>
                        <a:pt x="371" y="473"/>
                      </a:lnTo>
                      <a:close/>
                      <a:moveTo>
                        <a:pt x="427" y="456"/>
                      </a:moveTo>
                      <a:lnTo>
                        <a:pt x="427" y="456"/>
                      </a:lnTo>
                      <a:cubicBezTo>
                        <a:pt x="430" y="454"/>
                        <a:pt x="431" y="450"/>
                        <a:pt x="430" y="445"/>
                      </a:cubicBezTo>
                      <a:cubicBezTo>
                        <a:pt x="428" y="443"/>
                        <a:pt x="424" y="441"/>
                        <a:pt x="421" y="443"/>
                      </a:cubicBezTo>
                      <a:lnTo>
                        <a:pt x="419" y="443"/>
                      </a:lnTo>
                      <a:lnTo>
                        <a:pt x="418" y="444"/>
                      </a:lnTo>
                      <a:lnTo>
                        <a:pt x="417" y="444"/>
                      </a:lnTo>
                      <a:lnTo>
                        <a:pt x="415" y="444"/>
                      </a:lnTo>
                      <a:lnTo>
                        <a:pt x="412" y="445"/>
                      </a:lnTo>
                      <a:lnTo>
                        <a:pt x="411" y="445"/>
                      </a:lnTo>
                      <a:lnTo>
                        <a:pt x="410" y="447"/>
                      </a:lnTo>
                      <a:lnTo>
                        <a:pt x="407" y="447"/>
                      </a:lnTo>
                      <a:cubicBezTo>
                        <a:pt x="403" y="448"/>
                        <a:pt x="402" y="453"/>
                        <a:pt x="403" y="457"/>
                      </a:cubicBezTo>
                      <a:cubicBezTo>
                        <a:pt x="405" y="460"/>
                        <a:pt x="410" y="461"/>
                        <a:pt x="414" y="460"/>
                      </a:cubicBezTo>
                      <a:lnTo>
                        <a:pt x="415" y="460"/>
                      </a:lnTo>
                      <a:lnTo>
                        <a:pt x="417" y="459"/>
                      </a:lnTo>
                      <a:lnTo>
                        <a:pt x="418" y="459"/>
                      </a:lnTo>
                      <a:lnTo>
                        <a:pt x="419" y="457"/>
                      </a:lnTo>
                      <a:lnTo>
                        <a:pt x="421" y="457"/>
                      </a:lnTo>
                      <a:lnTo>
                        <a:pt x="424" y="457"/>
                      </a:lnTo>
                      <a:lnTo>
                        <a:pt x="426" y="456"/>
                      </a:lnTo>
                      <a:lnTo>
                        <a:pt x="427" y="456"/>
                      </a:lnTo>
                      <a:close/>
                      <a:moveTo>
                        <a:pt x="479" y="426"/>
                      </a:moveTo>
                      <a:lnTo>
                        <a:pt x="479" y="426"/>
                      </a:lnTo>
                      <a:cubicBezTo>
                        <a:pt x="482" y="423"/>
                        <a:pt x="482" y="419"/>
                        <a:pt x="480" y="416"/>
                      </a:cubicBezTo>
                      <a:cubicBezTo>
                        <a:pt x="477" y="412"/>
                        <a:pt x="473" y="411"/>
                        <a:pt x="470" y="415"/>
                      </a:cubicBezTo>
                      <a:lnTo>
                        <a:pt x="468" y="416"/>
                      </a:lnTo>
                      <a:lnTo>
                        <a:pt x="467" y="416"/>
                      </a:lnTo>
                      <a:lnTo>
                        <a:pt x="465" y="417"/>
                      </a:lnTo>
                      <a:lnTo>
                        <a:pt x="464" y="419"/>
                      </a:lnTo>
                      <a:lnTo>
                        <a:pt x="463" y="419"/>
                      </a:lnTo>
                      <a:lnTo>
                        <a:pt x="461" y="420"/>
                      </a:lnTo>
                      <a:lnTo>
                        <a:pt x="460" y="422"/>
                      </a:lnTo>
                      <a:lnTo>
                        <a:pt x="458" y="422"/>
                      </a:lnTo>
                      <a:cubicBezTo>
                        <a:pt x="455" y="424"/>
                        <a:pt x="454" y="429"/>
                        <a:pt x="456" y="432"/>
                      </a:cubicBezTo>
                      <a:cubicBezTo>
                        <a:pt x="458" y="435"/>
                        <a:pt x="463" y="436"/>
                        <a:pt x="465" y="433"/>
                      </a:cubicBezTo>
                      <a:lnTo>
                        <a:pt x="467" y="433"/>
                      </a:lnTo>
                      <a:lnTo>
                        <a:pt x="468" y="432"/>
                      </a:lnTo>
                      <a:lnTo>
                        <a:pt x="470" y="431"/>
                      </a:lnTo>
                      <a:lnTo>
                        <a:pt x="471" y="431"/>
                      </a:lnTo>
                      <a:lnTo>
                        <a:pt x="473" y="429"/>
                      </a:lnTo>
                      <a:lnTo>
                        <a:pt x="475" y="428"/>
                      </a:lnTo>
                      <a:lnTo>
                        <a:pt x="476" y="428"/>
                      </a:lnTo>
                      <a:lnTo>
                        <a:pt x="477" y="426"/>
                      </a:lnTo>
                      <a:lnTo>
                        <a:pt x="479" y="426"/>
                      </a:lnTo>
                      <a:close/>
                      <a:moveTo>
                        <a:pt x="524" y="387"/>
                      </a:moveTo>
                      <a:lnTo>
                        <a:pt x="524" y="387"/>
                      </a:lnTo>
                      <a:cubicBezTo>
                        <a:pt x="526" y="385"/>
                        <a:pt x="526" y="379"/>
                        <a:pt x="524" y="378"/>
                      </a:cubicBezTo>
                      <a:cubicBezTo>
                        <a:pt x="520" y="374"/>
                        <a:pt x="516" y="374"/>
                        <a:pt x="513" y="378"/>
                      </a:cubicBezTo>
                      <a:lnTo>
                        <a:pt x="512" y="379"/>
                      </a:lnTo>
                      <a:lnTo>
                        <a:pt x="510" y="380"/>
                      </a:lnTo>
                      <a:lnTo>
                        <a:pt x="508" y="380"/>
                      </a:lnTo>
                      <a:lnTo>
                        <a:pt x="507" y="382"/>
                      </a:lnTo>
                      <a:lnTo>
                        <a:pt x="507" y="383"/>
                      </a:lnTo>
                      <a:lnTo>
                        <a:pt x="505" y="385"/>
                      </a:lnTo>
                      <a:lnTo>
                        <a:pt x="504" y="386"/>
                      </a:lnTo>
                      <a:lnTo>
                        <a:pt x="503" y="386"/>
                      </a:lnTo>
                      <a:lnTo>
                        <a:pt x="503" y="387"/>
                      </a:lnTo>
                      <a:cubicBezTo>
                        <a:pt x="500" y="389"/>
                        <a:pt x="500" y="394"/>
                        <a:pt x="503" y="396"/>
                      </a:cubicBezTo>
                      <a:cubicBezTo>
                        <a:pt x="505" y="399"/>
                        <a:pt x="510" y="399"/>
                        <a:pt x="513" y="398"/>
                      </a:cubicBezTo>
                      <a:lnTo>
                        <a:pt x="514" y="396"/>
                      </a:lnTo>
                      <a:lnTo>
                        <a:pt x="516" y="395"/>
                      </a:lnTo>
                      <a:lnTo>
                        <a:pt x="516" y="394"/>
                      </a:lnTo>
                      <a:lnTo>
                        <a:pt x="517" y="392"/>
                      </a:lnTo>
                      <a:lnTo>
                        <a:pt x="519" y="391"/>
                      </a:lnTo>
                      <a:lnTo>
                        <a:pt x="520" y="389"/>
                      </a:lnTo>
                      <a:lnTo>
                        <a:pt x="521" y="389"/>
                      </a:lnTo>
                      <a:lnTo>
                        <a:pt x="524" y="387"/>
                      </a:lnTo>
                      <a:close/>
                      <a:moveTo>
                        <a:pt x="560" y="340"/>
                      </a:moveTo>
                      <a:lnTo>
                        <a:pt x="560" y="340"/>
                      </a:lnTo>
                      <a:cubicBezTo>
                        <a:pt x="562" y="337"/>
                        <a:pt x="560" y="333"/>
                        <a:pt x="557" y="330"/>
                      </a:cubicBezTo>
                      <a:cubicBezTo>
                        <a:pt x="554" y="329"/>
                        <a:pt x="550" y="329"/>
                        <a:pt x="547" y="333"/>
                      </a:cubicBezTo>
                      <a:lnTo>
                        <a:pt x="545" y="334"/>
                      </a:lnTo>
                      <a:lnTo>
                        <a:pt x="544" y="336"/>
                      </a:lnTo>
                      <a:lnTo>
                        <a:pt x="544" y="337"/>
                      </a:lnTo>
                      <a:lnTo>
                        <a:pt x="542" y="339"/>
                      </a:lnTo>
                      <a:lnTo>
                        <a:pt x="542" y="340"/>
                      </a:lnTo>
                      <a:lnTo>
                        <a:pt x="541" y="342"/>
                      </a:lnTo>
                      <a:lnTo>
                        <a:pt x="540" y="343"/>
                      </a:lnTo>
                      <a:lnTo>
                        <a:pt x="540" y="345"/>
                      </a:lnTo>
                      <a:cubicBezTo>
                        <a:pt x="537" y="347"/>
                        <a:pt x="538" y="352"/>
                        <a:pt x="541" y="354"/>
                      </a:cubicBezTo>
                      <a:cubicBezTo>
                        <a:pt x="544" y="357"/>
                        <a:pt x="549" y="355"/>
                        <a:pt x="552" y="352"/>
                      </a:cubicBezTo>
                      <a:lnTo>
                        <a:pt x="553" y="351"/>
                      </a:lnTo>
                      <a:lnTo>
                        <a:pt x="554" y="349"/>
                      </a:lnTo>
                      <a:lnTo>
                        <a:pt x="554" y="347"/>
                      </a:lnTo>
                      <a:lnTo>
                        <a:pt x="556" y="346"/>
                      </a:lnTo>
                      <a:lnTo>
                        <a:pt x="557" y="345"/>
                      </a:lnTo>
                      <a:lnTo>
                        <a:pt x="557" y="343"/>
                      </a:lnTo>
                      <a:lnTo>
                        <a:pt x="559" y="342"/>
                      </a:lnTo>
                      <a:lnTo>
                        <a:pt x="560" y="340"/>
                      </a:lnTo>
                      <a:close/>
                      <a:moveTo>
                        <a:pt x="587" y="287"/>
                      </a:moveTo>
                      <a:lnTo>
                        <a:pt x="587" y="287"/>
                      </a:lnTo>
                      <a:cubicBezTo>
                        <a:pt x="589" y="284"/>
                        <a:pt x="585" y="280"/>
                        <a:pt x="582" y="278"/>
                      </a:cubicBezTo>
                      <a:cubicBezTo>
                        <a:pt x="578" y="277"/>
                        <a:pt x="574" y="278"/>
                        <a:pt x="572" y="282"/>
                      </a:cubicBezTo>
                      <a:lnTo>
                        <a:pt x="572" y="284"/>
                      </a:lnTo>
                      <a:lnTo>
                        <a:pt x="570" y="285"/>
                      </a:lnTo>
                      <a:lnTo>
                        <a:pt x="570" y="287"/>
                      </a:lnTo>
                      <a:lnTo>
                        <a:pt x="570" y="289"/>
                      </a:lnTo>
                      <a:lnTo>
                        <a:pt x="569" y="290"/>
                      </a:lnTo>
                      <a:lnTo>
                        <a:pt x="569" y="291"/>
                      </a:lnTo>
                      <a:lnTo>
                        <a:pt x="568" y="293"/>
                      </a:lnTo>
                      <a:lnTo>
                        <a:pt x="568" y="294"/>
                      </a:lnTo>
                      <a:cubicBezTo>
                        <a:pt x="566" y="298"/>
                        <a:pt x="568" y="303"/>
                        <a:pt x="570" y="305"/>
                      </a:cubicBezTo>
                      <a:cubicBezTo>
                        <a:pt x="575" y="306"/>
                        <a:pt x="580" y="305"/>
                        <a:pt x="581" y="301"/>
                      </a:cubicBezTo>
                      <a:lnTo>
                        <a:pt x="581" y="298"/>
                      </a:lnTo>
                      <a:lnTo>
                        <a:pt x="582" y="297"/>
                      </a:lnTo>
                      <a:lnTo>
                        <a:pt x="582" y="296"/>
                      </a:lnTo>
                      <a:lnTo>
                        <a:pt x="584" y="294"/>
                      </a:lnTo>
                      <a:lnTo>
                        <a:pt x="584" y="293"/>
                      </a:lnTo>
                      <a:lnTo>
                        <a:pt x="585" y="291"/>
                      </a:lnTo>
                      <a:lnTo>
                        <a:pt x="585" y="289"/>
                      </a:lnTo>
                      <a:lnTo>
                        <a:pt x="585" y="287"/>
                      </a:lnTo>
                      <a:lnTo>
                        <a:pt x="587" y="287"/>
                      </a:lnTo>
                      <a:close/>
                      <a:moveTo>
                        <a:pt x="599" y="244"/>
                      </a:moveTo>
                      <a:lnTo>
                        <a:pt x="585" y="241"/>
                      </a:lnTo>
                      <a:lnTo>
                        <a:pt x="599" y="244"/>
                      </a:lnTo>
                      <a:close/>
                      <a:moveTo>
                        <a:pt x="602" y="229"/>
                      </a:moveTo>
                      <a:lnTo>
                        <a:pt x="602" y="229"/>
                      </a:lnTo>
                      <a:cubicBezTo>
                        <a:pt x="603" y="226"/>
                        <a:pt x="601" y="221"/>
                        <a:pt x="596" y="221"/>
                      </a:cubicBezTo>
                      <a:cubicBezTo>
                        <a:pt x="591" y="220"/>
                        <a:pt x="589" y="224"/>
                        <a:pt x="587" y="228"/>
                      </a:cubicBezTo>
                      <a:lnTo>
                        <a:pt x="587" y="229"/>
                      </a:lnTo>
                      <a:lnTo>
                        <a:pt x="587" y="231"/>
                      </a:lnTo>
                      <a:lnTo>
                        <a:pt x="587" y="232"/>
                      </a:lnTo>
                      <a:lnTo>
                        <a:pt x="587" y="233"/>
                      </a:lnTo>
                      <a:lnTo>
                        <a:pt x="585" y="237"/>
                      </a:lnTo>
                      <a:lnTo>
                        <a:pt x="585" y="238"/>
                      </a:lnTo>
                      <a:lnTo>
                        <a:pt x="585" y="240"/>
                      </a:lnTo>
                      <a:lnTo>
                        <a:pt x="585" y="241"/>
                      </a:lnTo>
                      <a:cubicBezTo>
                        <a:pt x="584" y="245"/>
                        <a:pt x="587" y="248"/>
                        <a:pt x="590" y="250"/>
                      </a:cubicBezTo>
                      <a:cubicBezTo>
                        <a:pt x="594" y="252"/>
                        <a:pt x="599" y="248"/>
                        <a:pt x="599" y="244"/>
                      </a:cubicBezTo>
                      <a:lnTo>
                        <a:pt x="599" y="242"/>
                      </a:lnTo>
                      <a:lnTo>
                        <a:pt x="601" y="241"/>
                      </a:lnTo>
                      <a:lnTo>
                        <a:pt x="601" y="238"/>
                      </a:lnTo>
                      <a:lnTo>
                        <a:pt x="601" y="237"/>
                      </a:lnTo>
                      <a:lnTo>
                        <a:pt x="601" y="235"/>
                      </a:lnTo>
                      <a:lnTo>
                        <a:pt x="602" y="233"/>
                      </a:lnTo>
                      <a:lnTo>
                        <a:pt x="602" y="231"/>
                      </a:lnTo>
                      <a:lnTo>
                        <a:pt x="602" y="229"/>
                      </a:lnTo>
                      <a:close/>
                      <a:moveTo>
                        <a:pt x="606" y="170"/>
                      </a:moveTo>
                      <a:lnTo>
                        <a:pt x="606" y="170"/>
                      </a:lnTo>
                      <a:cubicBezTo>
                        <a:pt x="606" y="167"/>
                        <a:pt x="603" y="164"/>
                        <a:pt x="599" y="164"/>
                      </a:cubicBezTo>
                      <a:cubicBezTo>
                        <a:pt x="594" y="164"/>
                        <a:pt x="591" y="167"/>
                        <a:pt x="591" y="171"/>
                      </a:cubicBezTo>
                      <a:lnTo>
                        <a:pt x="591" y="175"/>
                      </a:lnTo>
                      <a:lnTo>
                        <a:pt x="591" y="176"/>
                      </a:lnTo>
                      <a:lnTo>
                        <a:pt x="591" y="177"/>
                      </a:lnTo>
                      <a:lnTo>
                        <a:pt x="591" y="179"/>
                      </a:lnTo>
                      <a:lnTo>
                        <a:pt x="591" y="182"/>
                      </a:lnTo>
                      <a:lnTo>
                        <a:pt x="591" y="183"/>
                      </a:lnTo>
                      <a:lnTo>
                        <a:pt x="591" y="184"/>
                      </a:lnTo>
                      <a:cubicBezTo>
                        <a:pt x="591" y="189"/>
                        <a:pt x="594" y="192"/>
                        <a:pt x="599" y="192"/>
                      </a:cubicBezTo>
                      <a:cubicBezTo>
                        <a:pt x="603" y="192"/>
                        <a:pt x="606" y="189"/>
                        <a:pt x="606" y="187"/>
                      </a:cubicBezTo>
                      <a:lnTo>
                        <a:pt x="606" y="184"/>
                      </a:lnTo>
                      <a:lnTo>
                        <a:pt x="606" y="183"/>
                      </a:lnTo>
                      <a:lnTo>
                        <a:pt x="606" y="182"/>
                      </a:lnTo>
                      <a:lnTo>
                        <a:pt x="606" y="179"/>
                      </a:lnTo>
                      <a:lnTo>
                        <a:pt x="606" y="177"/>
                      </a:lnTo>
                      <a:lnTo>
                        <a:pt x="606" y="176"/>
                      </a:lnTo>
                      <a:lnTo>
                        <a:pt x="606" y="173"/>
                      </a:lnTo>
                      <a:lnTo>
                        <a:pt x="606" y="171"/>
                      </a:lnTo>
                      <a:lnTo>
                        <a:pt x="606" y="170"/>
                      </a:lnTo>
                      <a:close/>
                      <a:moveTo>
                        <a:pt x="599" y="112"/>
                      </a:moveTo>
                      <a:lnTo>
                        <a:pt x="599" y="112"/>
                      </a:lnTo>
                      <a:cubicBezTo>
                        <a:pt x="599" y="107"/>
                        <a:pt x="594" y="105"/>
                        <a:pt x="590" y="106"/>
                      </a:cubicBezTo>
                      <a:cubicBezTo>
                        <a:pt x="587" y="107"/>
                        <a:pt x="584" y="111"/>
                        <a:pt x="585" y="115"/>
                      </a:cubicBezTo>
                      <a:lnTo>
                        <a:pt x="585" y="117"/>
                      </a:lnTo>
                      <a:lnTo>
                        <a:pt x="585" y="118"/>
                      </a:lnTo>
                      <a:lnTo>
                        <a:pt x="585" y="119"/>
                      </a:lnTo>
                      <a:lnTo>
                        <a:pt x="585" y="121"/>
                      </a:lnTo>
                      <a:lnTo>
                        <a:pt x="587" y="123"/>
                      </a:lnTo>
                      <a:lnTo>
                        <a:pt x="587" y="126"/>
                      </a:lnTo>
                      <a:lnTo>
                        <a:pt x="587" y="127"/>
                      </a:lnTo>
                      <a:lnTo>
                        <a:pt x="587" y="128"/>
                      </a:lnTo>
                      <a:cubicBezTo>
                        <a:pt x="589" y="133"/>
                        <a:pt x="591" y="136"/>
                        <a:pt x="596" y="135"/>
                      </a:cubicBezTo>
                      <a:cubicBezTo>
                        <a:pt x="601" y="135"/>
                        <a:pt x="603" y="130"/>
                        <a:pt x="602" y="127"/>
                      </a:cubicBezTo>
                      <a:lnTo>
                        <a:pt x="602" y="126"/>
                      </a:lnTo>
                      <a:lnTo>
                        <a:pt x="602" y="124"/>
                      </a:lnTo>
                      <a:lnTo>
                        <a:pt x="602" y="123"/>
                      </a:lnTo>
                      <a:lnTo>
                        <a:pt x="601" y="121"/>
                      </a:lnTo>
                      <a:lnTo>
                        <a:pt x="601" y="118"/>
                      </a:lnTo>
                      <a:lnTo>
                        <a:pt x="601" y="117"/>
                      </a:lnTo>
                      <a:lnTo>
                        <a:pt x="601" y="115"/>
                      </a:lnTo>
                      <a:lnTo>
                        <a:pt x="599" y="114"/>
                      </a:lnTo>
                      <a:lnTo>
                        <a:pt x="599" y="112"/>
                      </a:lnTo>
                      <a:close/>
                      <a:moveTo>
                        <a:pt x="580" y="56"/>
                      </a:moveTo>
                      <a:lnTo>
                        <a:pt x="580" y="56"/>
                      </a:lnTo>
                      <a:cubicBezTo>
                        <a:pt x="578" y="51"/>
                        <a:pt x="575" y="50"/>
                        <a:pt x="570" y="51"/>
                      </a:cubicBezTo>
                      <a:cubicBezTo>
                        <a:pt x="568" y="53"/>
                        <a:pt x="565" y="57"/>
                        <a:pt x="568" y="62"/>
                      </a:cubicBezTo>
                      <a:lnTo>
                        <a:pt x="568" y="63"/>
                      </a:lnTo>
                      <a:lnTo>
                        <a:pt x="568" y="65"/>
                      </a:lnTo>
                      <a:lnTo>
                        <a:pt x="569" y="66"/>
                      </a:lnTo>
                      <a:lnTo>
                        <a:pt x="569" y="68"/>
                      </a:lnTo>
                      <a:lnTo>
                        <a:pt x="570" y="69"/>
                      </a:lnTo>
                      <a:lnTo>
                        <a:pt x="570" y="70"/>
                      </a:lnTo>
                      <a:lnTo>
                        <a:pt x="572" y="72"/>
                      </a:lnTo>
                      <a:lnTo>
                        <a:pt x="572" y="74"/>
                      </a:lnTo>
                      <a:cubicBezTo>
                        <a:pt x="574" y="78"/>
                        <a:pt x="578" y="79"/>
                        <a:pt x="582" y="78"/>
                      </a:cubicBezTo>
                      <a:cubicBezTo>
                        <a:pt x="585" y="77"/>
                        <a:pt x="587" y="72"/>
                        <a:pt x="585" y="69"/>
                      </a:cubicBezTo>
                      <a:lnTo>
                        <a:pt x="585" y="66"/>
                      </a:lnTo>
                      <a:lnTo>
                        <a:pt x="584" y="65"/>
                      </a:lnTo>
                      <a:lnTo>
                        <a:pt x="584" y="63"/>
                      </a:lnTo>
                      <a:lnTo>
                        <a:pt x="582" y="62"/>
                      </a:lnTo>
                      <a:lnTo>
                        <a:pt x="582" y="61"/>
                      </a:lnTo>
                      <a:lnTo>
                        <a:pt x="581" y="59"/>
                      </a:lnTo>
                      <a:lnTo>
                        <a:pt x="581" y="57"/>
                      </a:lnTo>
                      <a:lnTo>
                        <a:pt x="580" y="56"/>
                      </a:lnTo>
                      <a:close/>
                      <a:moveTo>
                        <a:pt x="552" y="4"/>
                      </a:moveTo>
                      <a:lnTo>
                        <a:pt x="552" y="4"/>
                      </a:lnTo>
                      <a:cubicBezTo>
                        <a:pt x="549" y="1"/>
                        <a:pt x="544" y="0"/>
                        <a:pt x="541" y="3"/>
                      </a:cubicBezTo>
                      <a:cubicBezTo>
                        <a:pt x="538" y="4"/>
                        <a:pt x="537" y="9"/>
                        <a:pt x="540" y="12"/>
                      </a:cubicBezTo>
                      <a:lnTo>
                        <a:pt x="540" y="13"/>
                      </a:lnTo>
                      <a:lnTo>
                        <a:pt x="541" y="14"/>
                      </a:lnTo>
                      <a:lnTo>
                        <a:pt x="541" y="16"/>
                      </a:lnTo>
                      <a:lnTo>
                        <a:pt x="542" y="17"/>
                      </a:lnTo>
                      <a:lnTo>
                        <a:pt x="544" y="19"/>
                      </a:lnTo>
                      <a:lnTo>
                        <a:pt x="544" y="21"/>
                      </a:lnTo>
                      <a:lnTo>
                        <a:pt x="545" y="22"/>
                      </a:lnTo>
                      <a:lnTo>
                        <a:pt x="545" y="24"/>
                      </a:lnTo>
                      <a:lnTo>
                        <a:pt x="547" y="24"/>
                      </a:lnTo>
                      <a:cubicBezTo>
                        <a:pt x="549" y="28"/>
                        <a:pt x="553" y="28"/>
                        <a:pt x="557" y="26"/>
                      </a:cubicBezTo>
                      <a:cubicBezTo>
                        <a:pt x="560" y="24"/>
                        <a:pt x="562" y="19"/>
                        <a:pt x="559" y="16"/>
                      </a:cubicBezTo>
                      <a:lnTo>
                        <a:pt x="559" y="14"/>
                      </a:lnTo>
                      <a:lnTo>
                        <a:pt x="557" y="13"/>
                      </a:lnTo>
                      <a:lnTo>
                        <a:pt x="556" y="12"/>
                      </a:lnTo>
                      <a:lnTo>
                        <a:pt x="556" y="10"/>
                      </a:lnTo>
                      <a:lnTo>
                        <a:pt x="554" y="9"/>
                      </a:lnTo>
                      <a:lnTo>
                        <a:pt x="553" y="7"/>
                      </a:lnTo>
                      <a:lnTo>
                        <a:pt x="553" y="5"/>
                      </a:lnTo>
                      <a:lnTo>
                        <a:pt x="552" y="4"/>
                      </a:lnTo>
                      <a:close/>
                      <a:moveTo>
                        <a:pt x="48" y="16"/>
                      </a:moveTo>
                      <a:lnTo>
                        <a:pt x="48" y="16"/>
                      </a:lnTo>
                      <a:cubicBezTo>
                        <a:pt x="45" y="21"/>
                        <a:pt x="46" y="25"/>
                        <a:pt x="49" y="26"/>
                      </a:cubicBezTo>
                      <a:cubicBezTo>
                        <a:pt x="54" y="29"/>
                        <a:pt x="58" y="28"/>
                        <a:pt x="60" y="25"/>
                      </a:cubicBezTo>
                      <a:lnTo>
                        <a:pt x="60" y="24"/>
                      </a:lnTo>
                      <a:lnTo>
                        <a:pt x="61" y="22"/>
                      </a:lnTo>
                      <a:lnTo>
                        <a:pt x="62" y="21"/>
                      </a:lnTo>
                      <a:lnTo>
                        <a:pt x="62" y="19"/>
                      </a:lnTo>
                      <a:lnTo>
                        <a:pt x="64" y="17"/>
                      </a:lnTo>
                      <a:lnTo>
                        <a:pt x="66" y="16"/>
                      </a:lnTo>
                      <a:lnTo>
                        <a:pt x="66" y="14"/>
                      </a:lnTo>
                      <a:lnTo>
                        <a:pt x="67" y="13"/>
                      </a:lnTo>
                      <a:cubicBezTo>
                        <a:pt x="70" y="10"/>
                        <a:pt x="69" y="4"/>
                        <a:pt x="66" y="3"/>
                      </a:cubicBezTo>
                      <a:cubicBezTo>
                        <a:pt x="62" y="0"/>
                        <a:pt x="58" y="1"/>
                        <a:pt x="55" y="4"/>
                      </a:cubicBezTo>
                      <a:lnTo>
                        <a:pt x="55" y="5"/>
                      </a:lnTo>
                      <a:lnTo>
                        <a:pt x="54" y="7"/>
                      </a:lnTo>
                      <a:lnTo>
                        <a:pt x="54" y="9"/>
                      </a:lnTo>
                      <a:lnTo>
                        <a:pt x="52" y="10"/>
                      </a:lnTo>
                      <a:lnTo>
                        <a:pt x="51" y="12"/>
                      </a:lnTo>
                      <a:lnTo>
                        <a:pt x="51" y="13"/>
                      </a:lnTo>
                      <a:lnTo>
                        <a:pt x="49" y="14"/>
                      </a:lnTo>
                      <a:lnTo>
                        <a:pt x="48" y="16"/>
                      </a:lnTo>
                      <a:close/>
                      <a:moveTo>
                        <a:pt x="21" y="69"/>
                      </a:moveTo>
                      <a:lnTo>
                        <a:pt x="21" y="69"/>
                      </a:lnTo>
                      <a:cubicBezTo>
                        <a:pt x="20" y="74"/>
                        <a:pt x="21" y="78"/>
                        <a:pt x="25" y="79"/>
                      </a:cubicBezTo>
                      <a:cubicBezTo>
                        <a:pt x="29" y="81"/>
                        <a:pt x="33" y="78"/>
                        <a:pt x="35" y="75"/>
                      </a:cubicBezTo>
                      <a:lnTo>
                        <a:pt x="35" y="74"/>
                      </a:lnTo>
                      <a:lnTo>
                        <a:pt x="36" y="72"/>
                      </a:lnTo>
                      <a:lnTo>
                        <a:pt x="36" y="69"/>
                      </a:lnTo>
                      <a:lnTo>
                        <a:pt x="37" y="68"/>
                      </a:lnTo>
                      <a:lnTo>
                        <a:pt x="37" y="66"/>
                      </a:lnTo>
                      <a:lnTo>
                        <a:pt x="39" y="65"/>
                      </a:lnTo>
                      <a:lnTo>
                        <a:pt x="39" y="63"/>
                      </a:lnTo>
                      <a:lnTo>
                        <a:pt x="39" y="62"/>
                      </a:lnTo>
                      <a:lnTo>
                        <a:pt x="41" y="62"/>
                      </a:lnTo>
                      <a:cubicBezTo>
                        <a:pt x="42" y="57"/>
                        <a:pt x="41" y="54"/>
                        <a:pt x="36" y="51"/>
                      </a:cubicBezTo>
                      <a:cubicBezTo>
                        <a:pt x="33" y="50"/>
                        <a:pt x="29" y="51"/>
                        <a:pt x="28" y="56"/>
                      </a:cubicBezTo>
                      <a:lnTo>
                        <a:pt x="25" y="57"/>
                      </a:lnTo>
                      <a:lnTo>
                        <a:pt x="25" y="59"/>
                      </a:lnTo>
                      <a:lnTo>
                        <a:pt x="24" y="61"/>
                      </a:lnTo>
                      <a:lnTo>
                        <a:pt x="24" y="63"/>
                      </a:lnTo>
                      <a:lnTo>
                        <a:pt x="23" y="65"/>
                      </a:lnTo>
                      <a:lnTo>
                        <a:pt x="23" y="66"/>
                      </a:lnTo>
                      <a:lnTo>
                        <a:pt x="21" y="68"/>
                      </a:lnTo>
                      <a:lnTo>
                        <a:pt x="21" y="69"/>
                      </a:lnTo>
                      <a:close/>
                      <a:moveTo>
                        <a:pt x="5" y="127"/>
                      </a:moveTo>
                      <a:lnTo>
                        <a:pt x="5" y="127"/>
                      </a:lnTo>
                      <a:cubicBezTo>
                        <a:pt x="5" y="131"/>
                        <a:pt x="7" y="135"/>
                        <a:pt x="11" y="136"/>
                      </a:cubicBezTo>
                      <a:cubicBezTo>
                        <a:pt x="16" y="136"/>
                        <a:pt x="18" y="133"/>
                        <a:pt x="20" y="130"/>
                      </a:cubicBezTo>
                      <a:lnTo>
                        <a:pt x="20" y="128"/>
                      </a:lnTo>
                      <a:lnTo>
                        <a:pt x="20" y="127"/>
                      </a:lnTo>
                      <a:lnTo>
                        <a:pt x="20" y="124"/>
                      </a:lnTo>
                      <a:lnTo>
                        <a:pt x="21" y="123"/>
                      </a:lnTo>
                      <a:lnTo>
                        <a:pt x="21" y="121"/>
                      </a:lnTo>
                      <a:lnTo>
                        <a:pt x="21" y="119"/>
                      </a:lnTo>
                      <a:lnTo>
                        <a:pt x="21" y="118"/>
                      </a:lnTo>
                      <a:lnTo>
                        <a:pt x="23" y="115"/>
                      </a:lnTo>
                      <a:cubicBezTo>
                        <a:pt x="23" y="112"/>
                        <a:pt x="21" y="107"/>
                        <a:pt x="17" y="106"/>
                      </a:cubicBezTo>
                      <a:cubicBezTo>
                        <a:pt x="12" y="106"/>
                        <a:pt x="9" y="107"/>
                        <a:pt x="8" y="112"/>
                      </a:cubicBezTo>
                      <a:lnTo>
                        <a:pt x="8" y="115"/>
                      </a:lnTo>
                      <a:lnTo>
                        <a:pt x="7" y="117"/>
                      </a:lnTo>
                      <a:lnTo>
                        <a:pt x="7" y="118"/>
                      </a:lnTo>
                      <a:lnTo>
                        <a:pt x="7" y="119"/>
                      </a:lnTo>
                      <a:lnTo>
                        <a:pt x="7" y="123"/>
                      </a:lnTo>
                      <a:lnTo>
                        <a:pt x="5" y="124"/>
                      </a:lnTo>
                      <a:lnTo>
                        <a:pt x="5" y="126"/>
                      </a:lnTo>
                      <a:lnTo>
                        <a:pt x="5" y="127"/>
                      </a:lnTo>
                      <a:close/>
                      <a:moveTo>
                        <a:pt x="0" y="187"/>
                      </a:moveTo>
                      <a:lnTo>
                        <a:pt x="0" y="187"/>
                      </a:lnTo>
                      <a:cubicBezTo>
                        <a:pt x="0" y="191"/>
                        <a:pt x="4" y="194"/>
                        <a:pt x="8" y="194"/>
                      </a:cubicBezTo>
                      <a:cubicBezTo>
                        <a:pt x="12" y="194"/>
                        <a:pt x="16" y="189"/>
                        <a:pt x="16" y="187"/>
                      </a:cubicBezTo>
                      <a:lnTo>
                        <a:pt x="16" y="184"/>
                      </a:lnTo>
                      <a:lnTo>
                        <a:pt x="16" y="183"/>
                      </a:lnTo>
                      <a:lnTo>
                        <a:pt x="16" y="182"/>
                      </a:lnTo>
                      <a:lnTo>
                        <a:pt x="16" y="179"/>
                      </a:lnTo>
                      <a:lnTo>
                        <a:pt x="16" y="177"/>
                      </a:lnTo>
                      <a:lnTo>
                        <a:pt x="16" y="176"/>
                      </a:lnTo>
                      <a:lnTo>
                        <a:pt x="16" y="175"/>
                      </a:lnTo>
                      <a:lnTo>
                        <a:pt x="16" y="171"/>
                      </a:lnTo>
                      <a:cubicBezTo>
                        <a:pt x="16" y="167"/>
                        <a:pt x="12" y="164"/>
                        <a:pt x="8" y="164"/>
                      </a:cubicBezTo>
                      <a:cubicBezTo>
                        <a:pt x="5" y="164"/>
                        <a:pt x="0" y="167"/>
                        <a:pt x="0" y="171"/>
                      </a:cubicBezTo>
                      <a:lnTo>
                        <a:pt x="0" y="173"/>
                      </a:lnTo>
                      <a:lnTo>
                        <a:pt x="0" y="176"/>
                      </a:lnTo>
                      <a:lnTo>
                        <a:pt x="0" y="177"/>
                      </a:lnTo>
                      <a:lnTo>
                        <a:pt x="0" y="179"/>
                      </a:lnTo>
                      <a:lnTo>
                        <a:pt x="0" y="182"/>
                      </a:lnTo>
                      <a:lnTo>
                        <a:pt x="0" y="183"/>
                      </a:lnTo>
                      <a:lnTo>
                        <a:pt x="0" y="184"/>
                      </a:lnTo>
                      <a:lnTo>
                        <a:pt x="0" y="187"/>
                      </a:lnTo>
                      <a:close/>
                      <a:moveTo>
                        <a:pt x="8" y="245"/>
                      </a:moveTo>
                      <a:lnTo>
                        <a:pt x="8" y="245"/>
                      </a:lnTo>
                      <a:cubicBezTo>
                        <a:pt x="9" y="248"/>
                        <a:pt x="12" y="252"/>
                        <a:pt x="17" y="250"/>
                      </a:cubicBezTo>
                      <a:cubicBezTo>
                        <a:pt x="21" y="250"/>
                        <a:pt x="23" y="245"/>
                        <a:pt x="23" y="241"/>
                      </a:cubicBezTo>
                      <a:lnTo>
                        <a:pt x="21" y="241"/>
                      </a:lnTo>
                      <a:lnTo>
                        <a:pt x="21" y="240"/>
                      </a:lnTo>
                      <a:lnTo>
                        <a:pt x="21" y="237"/>
                      </a:lnTo>
                      <a:lnTo>
                        <a:pt x="21" y="235"/>
                      </a:lnTo>
                      <a:lnTo>
                        <a:pt x="20" y="233"/>
                      </a:lnTo>
                      <a:lnTo>
                        <a:pt x="20" y="232"/>
                      </a:lnTo>
                      <a:lnTo>
                        <a:pt x="20" y="231"/>
                      </a:lnTo>
                      <a:lnTo>
                        <a:pt x="20" y="228"/>
                      </a:lnTo>
                      <a:cubicBezTo>
                        <a:pt x="18" y="224"/>
                        <a:pt x="16" y="221"/>
                        <a:pt x="11" y="221"/>
                      </a:cubicBezTo>
                      <a:cubicBezTo>
                        <a:pt x="7" y="224"/>
                        <a:pt x="5" y="226"/>
                        <a:pt x="5" y="231"/>
                      </a:cubicBezTo>
                      <a:lnTo>
                        <a:pt x="5" y="232"/>
                      </a:lnTo>
                      <a:lnTo>
                        <a:pt x="7" y="235"/>
                      </a:lnTo>
                      <a:lnTo>
                        <a:pt x="7" y="237"/>
                      </a:lnTo>
                      <a:lnTo>
                        <a:pt x="7" y="238"/>
                      </a:lnTo>
                      <a:lnTo>
                        <a:pt x="7" y="240"/>
                      </a:lnTo>
                      <a:lnTo>
                        <a:pt x="8" y="242"/>
                      </a:lnTo>
                      <a:lnTo>
                        <a:pt x="8" y="244"/>
                      </a:lnTo>
                      <a:lnTo>
                        <a:pt x="8" y="245"/>
                      </a:lnTo>
                      <a:close/>
                      <a:moveTo>
                        <a:pt x="28" y="302"/>
                      </a:moveTo>
                      <a:lnTo>
                        <a:pt x="28" y="302"/>
                      </a:lnTo>
                      <a:cubicBezTo>
                        <a:pt x="29" y="305"/>
                        <a:pt x="33" y="306"/>
                        <a:pt x="36" y="305"/>
                      </a:cubicBezTo>
                      <a:cubicBezTo>
                        <a:pt x="41" y="303"/>
                        <a:pt x="42" y="298"/>
                        <a:pt x="41" y="296"/>
                      </a:cubicBezTo>
                      <a:lnTo>
                        <a:pt x="39" y="294"/>
                      </a:lnTo>
                      <a:lnTo>
                        <a:pt x="39" y="293"/>
                      </a:lnTo>
                      <a:lnTo>
                        <a:pt x="37" y="291"/>
                      </a:lnTo>
                      <a:lnTo>
                        <a:pt x="37" y="290"/>
                      </a:lnTo>
                      <a:lnTo>
                        <a:pt x="36" y="289"/>
                      </a:lnTo>
                      <a:lnTo>
                        <a:pt x="36" y="287"/>
                      </a:lnTo>
                      <a:lnTo>
                        <a:pt x="36" y="284"/>
                      </a:lnTo>
                      <a:lnTo>
                        <a:pt x="35" y="282"/>
                      </a:lnTo>
                      <a:cubicBezTo>
                        <a:pt x="33" y="278"/>
                        <a:pt x="29" y="277"/>
                        <a:pt x="25" y="278"/>
                      </a:cubicBezTo>
                      <a:cubicBezTo>
                        <a:pt x="21" y="280"/>
                        <a:pt x="20" y="284"/>
                        <a:pt x="21" y="287"/>
                      </a:cubicBezTo>
                      <a:lnTo>
                        <a:pt x="21" y="289"/>
                      </a:lnTo>
                      <a:lnTo>
                        <a:pt x="21" y="290"/>
                      </a:lnTo>
                      <a:lnTo>
                        <a:pt x="23" y="291"/>
                      </a:lnTo>
                      <a:lnTo>
                        <a:pt x="23" y="293"/>
                      </a:lnTo>
                      <a:lnTo>
                        <a:pt x="24" y="296"/>
                      </a:lnTo>
                      <a:lnTo>
                        <a:pt x="24" y="297"/>
                      </a:lnTo>
                      <a:lnTo>
                        <a:pt x="25" y="298"/>
                      </a:lnTo>
                      <a:lnTo>
                        <a:pt x="25" y="301"/>
                      </a:lnTo>
                      <a:lnTo>
                        <a:pt x="28" y="302"/>
                      </a:lnTo>
                      <a:close/>
                      <a:moveTo>
                        <a:pt x="55" y="354"/>
                      </a:moveTo>
                      <a:lnTo>
                        <a:pt x="55" y="354"/>
                      </a:lnTo>
                      <a:cubicBezTo>
                        <a:pt x="58" y="357"/>
                        <a:pt x="62" y="357"/>
                        <a:pt x="66" y="355"/>
                      </a:cubicBezTo>
                      <a:cubicBezTo>
                        <a:pt x="69" y="352"/>
                        <a:pt x="70" y="347"/>
                        <a:pt x="67" y="345"/>
                      </a:cubicBezTo>
                      <a:lnTo>
                        <a:pt x="67" y="343"/>
                      </a:lnTo>
                      <a:lnTo>
                        <a:pt x="66" y="342"/>
                      </a:lnTo>
                      <a:lnTo>
                        <a:pt x="64" y="340"/>
                      </a:lnTo>
                      <a:lnTo>
                        <a:pt x="64" y="339"/>
                      </a:lnTo>
                      <a:lnTo>
                        <a:pt x="62" y="337"/>
                      </a:lnTo>
                      <a:lnTo>
                        <a:pt x="61" y="336"/>
                      </a:lnTo>
                      <a:lnTo>
                        <a:pt x="61" y="334"/>
                      </a:lnTo>
                      <a:lnTo>
                        <a:pt x="60" y="333"/>
                      </a:lnTo>
                      <a:cubicBezTo>
                        <a:pt x="58" y="330"/>
                        <a:pt x="54" y="329"/>
                        <a:pt x="49" y="330"/>
                      </a:cubicBezTo>
                      <a:cubicBezTo>
                        <a:pt x="46" y="333"/>
                        <a:pt x="45" y="337"/>
                        <a:pt x="48" y="340"/>
                      </a:cubicBezTo>
                      <a:lnTo>
                        <a:pt x="48" y="342"/>
                      </a:lnTo>
                      <a:lnTo>
                        <a:pt x="49" y="343"/>
                      </a:lnTo>
                      <a:lnTo>
                        <a:pt x="51" y="345"/>
                      </a:lnTo>
                      <a:lnTo>
                        <a:pt x="52" y="346"/>
                      </a:lnTo>
                      <a:lnTo>
                        <a:pt x="52" y="347"/>
                      </a:lnTo>
                      <a:lnTo>
                        <a:pt x="54" y="349"/>
                      </a:lnTo>
                      <a:lnTo>
                        <a:pt x="55" y="351"/>
                      </a:lnTo>
                      <a:lnTo>
                        <a:pt x="55" y="352"/>
                      </a:lnTo>
                      <a:lnTo>
                        <a:pt x="55" y="354"/>
                      </a:lnTo>
                      <a:close/>
                      <a:moveTo>
                        <a:pt x="95" y="398"/>
                      </a:moveTo>
                      <a:lnTo>
                        <a:pt x="95" y="398"/>
                      </a:lnTo>
                      <a:cubicBezTo>
                        <a:pt x="98" y="401"/>
                        <a:pt x="102" y="401"/>
                        <a:pt x="106" y="398"/>
                      </a:cubicBezTo>
                      <a:cubicBezTo>
                        <a:pt x="107" y="395"/>
                        <a:pt x="107" y="391"/>
                        <a:pt x="104" y="387"/>
                      </a:cubicBezTo>
                      <a:lnTo>
                        <a:pt x="104" y="386"/>
                      </a:lnTo>
                      <a:lnTo>
                        <a:pt x="102" y="385"/>
                      </a:lnTo>
                      <a:lnTo>
                        <a:pt x="101" y="383"/>
                      </a:lnTo>
                      <a:lnTo>
                        <a:pt x="100" y="383"/>
                      </a:lnTo>
                      <a:lnTo>
                        <a:pt x="98" y="382"/>
                      </a:lnTo>
                      <a:lnTo>
                        <a:pt x="97" y="380"/>
                      </a:lnTo>
                      <a:lnTo>
                        <a:pt x="97" y="379"/>
                      </a:lnTo>
                      <a:lnTo>
                        <a:pt x="95" y="378"/>
                      </a:lnTo>
                      <a:cubicBezTo>
                        <a:pt x="93" y="374"/>
                        <a:pt x="88" y="374"/>
                        <a:pt x="85" y="378"/>
                      </a:cubicBezTo>
                      <a:cubicBezTo>
                        <a:pt x="82" y="380"/>
                        <a:pt x="82" y="385"/>
                        <a:pt x="85" y="387"/>
                      </a:cubicBezTo>
                      <a:lnTo>
                        <a:pt x="86" y="389"/>
                      </a:lnTo>
                      <a:lnTo>
                        <a:pt x="86" y="391"/>
                      </a:lnTo>
                      <a:lnTo>
                        <a:pt x="88" y="392"/>
                      </a:lnTo>
                      <a:lnTo>
                        <a:pt x="89" y="394"/>
                      </a:lnTo>
                      <a:lnTo>
                        <a:pt x="91" y="394"/>
                      </a:lnTo>
                      <a:lnTo>
                        <a:pt x="93" y="395"/>
                      </a:lnTo>
                      <a:lnTo>
                        <a:pt x="94" y="396"/>
                      </a:lnTo>
                      <a:lnTo>
                        <a:pt x="95" y="398"/>
                      </a:lnTo>
                      <a:close/>
                      <a:moveTo>
                        <a:pt x="141" y="435"/>
                      </a:moveTo>
                      <a:lnTo>
                        <a:pt x="141" y="435"/>
                      </a:lnTo>
                      <a:cubicBezTo>
                        <a:pt x="144" y="436"/>
                        <a:pt x="149" y="435"/>
                        <a:pt x="151" y="432"/>
                      </a:cubicBezTo>
                      <a:cubicBezTo>
                        <a:pt x="153" y="429"/>
                        <a:pt x="153" y="424"/>
                        <a:pt x="149" y="422"/>
                      </a:cubicBezTo>
                      <a:lnTo>
                        <a:pt x="147" y="420"/>
                      </a:lnTo>
                      <a:lnTo>
                        <a:pt x="146" y="420"/>
                      </a:lnTo>
                      <a:lnTo>
                        <a:pt x="144" y="419"/>
                      </a:lnTo>
                      <a:lnTo>
                        <a:pt x="143" y="417"/>
                      </a:lnTo>
                      <a:lnTo>
                        <a:pt x="141" y="417"/>
                      </a:lnTo>
                      <a:lnTo>
                        <a:pt x="139" y="416"/>
                      </a:lnTo>
                      <a:lnTo>
                        <a:pt x="138" y="415"/>
                      </a:lnTo>
                      <a:cubicBezTo>
                        <a:pt x="134" y="411"/>
                        <a:pt x="130" y="412"/>
                        <a:pt x="128" y="416"/>
                      </a:cubicBezTo>
                      <a:cubicBezTo>
                        <a:pt x="125" y="419"/>
                        <a:pt x="126" y="423"/>
                        <a:pt x="130" y="426"/>
                      </a:cubicBezTo>
                      <a:lnTo>
                        <a:pt x="131" y="428"/>
                      </a:lnTo>
                      <a:lnTo>
                        <a:pt x="132" y="429"/>
                      </a:lnTo>
                      <a:lnTo>
                        <a:pt x="135" y="429"/>
                      </a:lnTo>
                      <a:lnTo>
                        <a:pt x="137" y="431"/>
                      </a:lnTo>
                      <a:lnTo>
                        <a:pt x="138" y="432"/>
                      </a:lnTo>
                      <a:lnTo>
                        <a:pt x="139" y="432"/>
                      </a:lnTo>
                      <a:lnTo>
                        <a:pt x="141" y="433"/>
                      </a:lnTo>
                      <a:lnTo>
                        <a:pt x="141" y="435"/>
                      </a:lnTo>
                      <a:close/>
                      <a:moveTo>
                        <a:pt x="195" y="461"/>
                      </a:moveTo>
                      <a:lnTo>
                        <a:pt x="195" y="461"/>
                      </a:lnTo>
                      <a:cubicBezTo>
                        <a:pt x="198" y="463"/>
                        <a:pt x="202" y="460"/>
                        <a:pt x="203" y="457"/>
                      </a:cubicBezTo>
                      <a:cubicBezTo>
                        <a:pt x="205" y="453"/>
                        <a:pt x="203" y="448"/>
                        <a:pt x="200" y="447"/>
                      </a:cubicBezTo>
                      <a:lnTo>
                        <a:pt x="199" y="447"/>
                      </a:lnTo>
                      <a:lnTo>
                        <a:pt x="196" y="447"/>
                      </a:lnTo>
                      <a:lnTo>
                        <a:pt x="195" y="445"/>
                      </a:lnTo>
                      <a:lnTo>
                        <a:pt x="193" y="445"/>
                      </a:lnTo>
                      <a:lnTo>
                        <a:pt x="191" y="444"/>
                      </a:lnTo>
                      <a:lnTo>
                        <a:pt x="190" y="444"/>
                      </a:lnTo>
                      <a:lnTo>
                        <a:pt x="188" y="443"/>
                      </a:lnTo>
                      <a:lnTo>
                        <a:pt x="187" y="443"/>
                      </a:lnTo>
                      <a:cubicBezTo>
                        <a:pt x="183" y="441"/>
                        <a:pt x="178" y="443"/>
                        <a:pt x="177" y="445"/>
                      </a:cubicBezTo>
                      <a:cubicBezTo>
                        <a:pt x="175" y="450"/>
                        <a:pt x="177" y="454"/>
                        <a:pt x="181" y="456"/>
                      </a:cubicBezTo>
                      <a:lnTo>
                        <a:pt x="183" y="456"/>
                      </a:lnTo>
                      <a:lnTo>
                        <a:pt x="184" y="457"/>
                      </a:lnTo>
                      <a:lnTo>
                        <a:pt x="186" y="457"/>
                      </a:lnTo>
                      <a:lnTo>
                        <a:pt x="187" y="459"/>
                      </a:lnTo>
                      <a:lnTo>
                        <a:pt x="190" y="459"/>
                      </a:lnTo>
                      <a:lnTo>
                        <a:pt x="191" y="460"/>
                      </a:lnTo>
                      <a:lnTo>
                        <a:pt x="193" y="460"/>
                      </a:lnTo>
                      <a:lnTo>
                        <a:pt x="195" y="461"/>
                      </a:lnTo>
                      <a:close/>
                      <a:moveTo>
                        <a:pt x="252" y="476"/>
                      </a:moveTo>
                      <a:lnTo>
                        <a:pt x="252" y="476"/>
                      </a:lnTo>
                      <a:cubicBezTo>
                        <a:pt x="255" y="478"/>
                        <a:pt x="260" y="475"/>
                        <a:pt x="260" y="471"/>
                      </a:cubicBezTo>
                      <a:cubicBezTo>
                        <a:pt x="261" y="468"/>
                        <a:pt x="258" y="463"/>
                        <a:pt x="253" y="463"/>
                      </a:cubicBezTo>
                      <a:lnTo>
                        <a:pt x="253" y="461"/>
                      </a:lnTo>
                      <a:lnTo>
                        <a:pt x="251" y="461"/>
                      </a:lnTo>
                      <a:lnTo>
                        <a:pt x="249" y="461"/>
                      </a:lnTo>
                      <a:lnTo>
                        <a:pt x="248" y="461"/>
                      </a:lnTo>
                      <a:lnTo>
                        <a:pt x="246" y="461"/>
                      </a:lnTo>
                      <a:lnTo>
                        <a:pt x="245" y="460"/>
                      </a:lnTo>
                      <a:lnTo>
                        <a:pt x="242" y="460"/>
                      </a:lnTo>
                      <a:lnTo>
                        <a:pt x="240" y="460"/>
                      </a:lnTo>
                      <a:cubicBezTo>
                        <a:pt x="236" y="459"/>
                        <a:pt x="233" y="461"/>
                        <a:pt x="232" y="465"/>
                      </a:cubicBezTo>
                      <a:cubicBezTo>
                        <a:pt x="230" y="469"/>
                        <a:pt x="233" y="473"/>
                        <a:pt x="237" y="473"/>
                      </a:cubicBezTo>
                      <a:lnTo>
                        <a:pt x="239" y="475"/>
                      </a:lnTo>
                      <a:lnTo>
                        <a:pt x="242" y="475"/>
                      </a:lnTo>
                      <a:lnTo>
                        <a:pt x="244" y="475"/>
                      </a:lnTo>
                      <a:lnTo>
                        <a:pt x="245" y="475"/>
                      </a:lnTo>
                      <a:lnTo>
                        <a:pt x="246" y="476"/>
                      </a:lnTo>
                      <a:lnTo>
                        <a:pt x="249" y="476"/>
                      </a:lnTo>
                      <a:lnTo>
                        <a:pt x="251" y="476"/>
                      </a:lnTo>
                      <a:lnTo>
                        <a:pt x="252" y="476"/>
                      </a:lnTo>
                      <a:close/>
                      <a:moveTo>
                        <a:pt x="297" y="466"/>
                      </a:moveTo>
                      <a:lnTo>
                        <a:pt x="297" y="466"/>
                      </a:lnTo>
                      <a:cubicBezTo>
                        <a:pt x="292" y="466"/>
                        <a:pt x="289" y="469"/>
                        <a:pt x="289" y="473"/>
                      </a:cubicBezTo>
                      <a:cubicBezTo>
                        <a:pt x="289" y="478"/>
                        <a:pt x="292" y="481"/>
                        <a:pt x="297" y="481"/>
                      </a:cubicBezTo>
                      <a:lnTo>
                        <a:pt x="298" y="481"/>
                      </a:lnTo>
                      <a:lnTo>
                        <a:pt x="301" y="481"/>
                      </a:lnTo>
                      <a:lnTo>
                        <a:pt x="302" y="481"/>
                      </a:lnTo>
                      <a:lnTo>
                        <a:pt x="304" y="481"/>
                      </a:lnTo>
                      <a:lnTo>
                        <a:pt x="307" y="481"/>
                      </a:lnTo>
                      <a:lnTo>
                        <a:pt x="309" y="481"/>
                      </a:lnTo>
                      <a:lnTo>
                        <a:pt x="310" y="481"/>
                      </a:lnTo>
                      <a:lnTo>
                        <a:pt x="312" y="481"/>
                      </a:lnTo>
                      <a:cubicBezTo>
                        <a:pt x="316" y="481"/>
                        <a:pt x="319" y="478"/>
                        <a:pt x="319" y="473"/>
                      </a:cubicBezTo>
                      <a:cubicBezTo>
                        <a:pt x="319" y="469"/>
                        <a:pt x="314" y="466"/>
                        <a:pt x="312" y="466"/>
                      </a:cubicBezTo>
                      <a:lnTo>
                        <a:pt x="310" y="466"/>
                      </a:lnTo>
                      <a:lnTo>
                        <a:pt x="309" y="466"/>
                      </a:lnTo>
                      <a:lnTo>
                        <a:pt x="305" y="466"/>
                      </a:lnTo>
                      <a:lnTo>
                        <a:pt x="304" y="466"/>
                      </a:lnTo>
                      <a:lnTo>
                        <a:pt x="302" y="466"/>
                      </a:lnTo>
                      <a:lnTo>
                        <a:pt x="301" y="466"/>
                      </a:lnTo>
                      <a:lnTo>
                        <a:pt x="298" y="466"/>
                      </a:lnTo>
                      <a:lnTo>
                        <a:pt x="297" y="466"/>
                      </a:lnTo>
                      <a:close/>
                    </a:path>
                  </a:pathLst>
                </a:custGeom>
                <a:solidFill>
                  <a:schemeClr val="accent4"/>
                </a:solidFill>
                <a:ln w="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730" spc="-1" strike="noStrike">
                    <a:solidFill>
                      <a:srgbClr val="ffffff"/>
                    </a:solidFill>
                    <a:latin typeface="Calibri"/>
                  </a:endParaRPr>
                </a:p>
              </p:txBody>
            </p:sp>
            <p:sp>
              <p:nvSpPr>
                <p:cNvPr id="202" name="Freeform 20407"/>
                <p:cNvSpPr/>
                <p:nvPr/>
              </p:nvSpPr>
              <p:spPr>
                <a:xfrm>
                  <a:off x="9790200" y="3991320"/>
                  <a:ext cx="1588320" cy="1661040"/>
                </a:xfrm>
                <a:custGeom>
                  <a:avLst/>
                  <a:gdLst>
                    <a:gd name="textAreaLeft" fmla="*/ 0 w 1588320"/>
                    <a:gd name="textAreaRight" fmla="*/ 1588680 w 1588320"/>
                    <a:gd name="textAreaTop" fmla="*/ 0 h 1661040"/>
                    <a:gd name="textAreaBottom" fmla="*/ 1661400 h 1661040"/>
                  </a:gdLst>
                  <a:ahLst/>
                  <a:rect l="textAreaLeft" t="textAreaTop" r="textAreaRight" b="textAreaBottom"/>
                  <a:pathLst>
                    <a:path w="579" h="606">
                      <a:moveTo>
                        <a:pt x="565" y="393"/>
                      </a:moveTo>
                      <a:lnTo>
                        <a:pt x="565" y="393"/>
                      </a:lnTo>
                      <a:cubicBezTo>
                        <a:pt x="567" y="389"/>
                        <a:pt x="564" y="385"/>
                        <a:pt x="561" y="385"/>
                      </a:cubicBezTo>
                      <a:cubicBezTo>
                        <a:pt x="557" y="383"/>
                        <a:pt x="552" y="385"/>
                        <a:pt x="552" y="389"/>
                      </a:cubicBezTo>
                      <a:lnTo>
                        <a:pt x="550" y="390"/>
                      </a:lnTo>
                      <a:lnTo>
                        <a:pt x="550" y="392"/>
                      </a:lnTo>
                      <a:lnTo>
                        <a:pt x="550" y="393"/>
                      </a:lnTo>
                      <a:lnTo>
                        <a:pt x="549" y="394"/>
                      </a:lnTo>
                      <a:lnTo>
                        <a:pt x="549" y="396"/>
                      </a:lnTo>
                      <a:lnTo>
                        <a:pt x="548" y="398"/>
                      </a:lnTo>
                      <a:lnTo>
                        <a:pt x="548" y="401"/>
                      </a:lnTo>
                      <a:lnTo>
                        <a:pt x="548" y="402"/>
                      </a:lnTo>
                      <a:cubicBezTo>
                        <a:pt x="546" y="405"/>
                        <a:pt x="548" y="410"/>
                        <a:pt x="550" y="411"/>
                      </a:cubicBezTo>
                      <a:cubicBezTo>
                        <a:pt x="555" y="413"/>
                        <a:pt x="560" y="411"/>
                        <a:pt x="561" y="406"/>
                      </a:cubicBezTo>
                      <a:lnTo>
                        <a:pt x="561" y="405"/>
                      </a:lnTo>
                      <a:lnTo>
                        <a:pt x="562" y="403"/>
                      </a:lnTo>
                      <a:lnTo>
                        <a:pt x="562" y="402"/>
                      </a:lnTo>
                      <a:lnTo>
                        <a:pt x="562" y="399"/>
                      </a:lnTo>
                      <a:lnTo>
                        <a:pt x="564" y="398"/>
                      </a:lnTo>
                      <a:lnTo>
                        <a:pt x="564" y="396"/>
                      </a:lnTo>
                      <a:lnTo>
                        <a:pt x="565" y="394"/>
                      </a:lnTo>
                      <a:lnTo>
                        <a:pt x="565" y="393"/>
                      </a:lnTo>
                      <a:close/>
                      <a:moveTo>
                        <a:pt x="577" y="334"/>
                      </a:moveTo>
                      <a:lnTo>
                        <a:pt x="577" y="334"/>
                      </a:lnTo>
                      <a:cubicBezTo>
                        <a:pt x="577" y="331"/>
                        <a:pt x="574" y="326"/>
                        <a:pt x="571" y="326"/>
                      </a:cubicBezTo>
                      <a:cubicBezTo>
                        <a:pt x="567" y="326"/>
                        <a:pt x="564" y="329"/>
                        <a:pt x="562" y="333"/>
                      </a:cubicBezTo>
                      <a:lnTo>
                        <a:pt x="562" y="334"/>
                      </a:lnTo>
                      <a:lnTo>
                        <a:pt x="562" y="337"/>
                      </a:lnTo>
                      <a:lnTo>
                        <a:pt x="562" y="338"/>
                      </a:lnTo>
                      <a:lnTo>
                        <a:pt x="562" y="340"/>
                      </a:lnTo>
                      <a:lnTo>
                        <a:pt x="562" y="341"/>
                      </a:lnTo>
                      <a:lnTo>
                        <a:pt x="561" y="343"/>
                      </a:lnTo>
                      <a:lnTo>
                        <a:pt x="561" y="345"/>
                      </a:lnTo>
                      <a:lnTo>
                        <a:pt x="561" y="347"/>
                      </a:lnTo>
                      <a:cubicBezTo>
                        <a:pt x="561" y="352"/>
                        <a:pt x="562" y="354"/>
                        <a:pt x="567" y="354"/>
                      </a:cubicBezTo>
                      <a:cubicBezTo>
                        <a:pt x="571" y="356"/>
                        <a:pt x="574" y="353"/>
                        <a:pt x="576" y="349"/>
                      </a:cubicBezTo>
                      <a:lnTo>
                        <a:pt x="576" y="347"/>
                      </a:lnTo>
                      <a:lnTo>
                        <a:pt x="576" y="346"/>
                      </a:lnTo>
                      <a:lnTo>
                        <a:pt x="576" y="343"/>
                      </a:lnTo>
                      <a:lnTo>
                        <a:pt x="576" y="341"/>
                      </a:lnTo>
                      <a:lnTo>
                        <a:pt x="577" y="340"/>
                      </a:lnTo>
                      <a:lnTo>
                        <a:pt x="577" y="338"/>
                      </a:lnTo>
                      <a:lnTo>
                        <a:pt x="577" y="337"/>
                      </a:lnTo>
                      <a:lnTo>
                        <a:pt x="577" y="334"/>
                      </a:lnTo>
                      <a:close/>
                      <a:moveTo>
                        <a:pt x="577" y="275"/>
                      </a:moveTo>
                      <a:lnTo>
                        <a:pt x="577" y="275"/>
                      </a:lnTo>
                      <a:cubicBezTo>
                        <a:pt x="577" y="272"/>
                        <a:pt x="574" y="269"/>
                        <a:pt x="570" y="269"/>
                      </a:cubicBezTo>
                      <a:cubicBezTo>
                        <a:pt x="565" y="269"/>
                        <a:pt x="562" y="273"/>
                        <a:pt x="562" y="276"/>
                      </a:cubicBezTo>
                      <a:lnTo>
                        <a:pt x="564" y="278"/>
                      </a:lnTo>
                      <a:lnTo>
                        <a:pt x="564" y="279"/>
                      </a:lnTo>
                      <a:lnTo>
                        <a:pt x="564" y="281"/>
                      </a:lnTo>
                      <a:lnTo>
                        <a:pt x="564" y="282"/>
                      </a:lnTo>
                      <a:lnTo>
                        <a:pt x="564" y="284"/>
                      </a:lnTo>
                      <a:lnTo>
                        <a:pt x="564" y="287"/>
                      </a:lnTo>
                      <a:lnTo>
                        <a:pt x="564" y="288"/>
                      </a:lnTo>
                      <a:lnTo>
                        <a:pt x="564" y="289"/>
                      </a:lnTo>
                      <a:lnTo>
                        <a:pt x="564" y="291"/>
                      </a:lnTo>
                      <a:cubicBezTo>
                        <a:pt x="564" y="294"/>
                        <a:pt x="569" y="298"/>
                        <a:pt x="571" y="297"/>
                      </a:cubicBezTo>
                      <a:cubicBezTo>
                        <a:pt x="576" y="297"/>
                        <a:pt x="578" y="294"/>
                        <a:pt x="578" y="289"/>
                      </a:cubicBezTo>
                      <a:lnTo>
                        <a:pt x="578" y="288"/>
                      </a:lnTo>
                      <a:lnTo>
                        <a:pt x="578" y="287"/>
                      </a:lnTo>
                      <a:lnTo>
                        <a:pt x="578" y="285"/>
                      </a:lnTo>
                      <a:lnTo>
                        <a:pt x="578" y="284"/>
                      </a:lnTo>
                      <a:lnTo>
                        <a:pt x="578" y="282"/>
                      </a:lnTo>
                      <a:lnTo>
                        <a:pt x="577" y="279"/>
                      </a:lnTo>
                      <a:lnTo>
                        <a:pt x="577" y="278"/>
                      </a:lnTo>
                      <a:lnTo>
                        <a:pt x="577" y="276"/>
                      </a:lnTo>
                      <a:lnTo>
                        <a:pt x="577" y="275"/>
                      </a:lnTo>
                      <a:close/>
                      <a:moveTo>
                        <a:pt x="567" y="217"/>
                      </a:moveTo>
                      <a:lnTo>
                        <a:pt x="567" y="217"/>
                      </a:lnTo>
                      <a:cubicBezTo>
                        <a:pt x="565" y="212"/>
                        <a:pt x="561" y="211"/>
                        <a:pt x="558" y="212"/>
                      </a:cubicBezTo>
                      <a:cubicBezTo>
                        <a:pt x="553" y="212"/>
                        <a:pt x="550" y="217"/>
                        <a:pt x="552" y="222"/>
                      </a:cubicBezTo>
                      <a:lnTo>
                        <a:pt x="553" y="223"/>
                      </a:lnTo>
                      <a:lnTo>
                        <a:pt x="553" y="224"/>
                      </a:lnTo>
                      <a:lnTo>
                        <a:pt x="553" y="226"/>
                      </a:lnTo>
                      <a:lnTo>
                        <a:pt x="555" y="227"/>
                      </a:lnTo>
                      <a:lnTo>
                        <a:pt x="555" y="231"/>
                      </a:lnTo>
                      <a:lnTo>
                        <a:pt x="555" y="232"/>
                      </a:lnTo>
                      <a:lnTo>
                        <a:pt x="555" y="233"/>
                      </a:lnTo>
                      <a:lnTo>
                        <a:pt x="557" y="235"/>
                      </a:lnTo>
                      <a:cubicBezTo>
                        <a:pt x="557" y="239"/>
                        <a:pt x="561" y="240"/>
                        <a:pt x="565" y="240"/>
                      </a:cubicBezTo>
                      <a:cubicBezTo>
                        <a:pt x="569" y="239"/>
                        <a:pt x="571" y="235"/>
                        <a:pt x="570" y="232"/>
                      </a:cubicBezTo>
                      <a:lnTo>
                        <a:pt x="570" y="229"/>
                      </a:lnTo>
                      <a:lnTo>
                        <a:pt x="570" y="227"/>
                      </a:lnTo>
                      <a:lnTo>
                        <a:pt x="569" y="226"/>
                      </a:lnTo>
                      <a:lnTo>
                        <a:pt x="569" y="224"/>
                      </a:lnTo>
                      <a:lnTo>
                        <a:pt x="569" y="223"/>
                      </a:lnTo>
                      <a:lnTo>
                        <a:pt x="567" y="220"/>
                      </a:lnTo>
                      <a:lnTo>
                        <a:pt x="567" y="219"/>
                      </a:lnTo>
                      <a:lnTo>
                        <a:pt x="567" y="217"/>
                      </a:lnTo>
                      <a:close/>
                      <a:moveTo>
                        <a:pt x="545" y="162"/>
                      </a:moveTo>
                      <a:lnTo>
                        <a:pt x="545" y="162"/>
                      </a:lnTo>
                      <a:cubicBezTo>
                        <a:pt x="542" y="158"/>
                        <a:pt x="537" y="158"/>
                        <a:pt x="534" y="159"/>
                      </a:cubicBezTo>
                      <a:cubicBezTo>
                        <a:pt x="532" y="161"/>
                        <a:pt x="530" y="165"/>
                        <a:pt x="532" y="168"/>
                      </a:cubicBezTo>
                      <a:lnTo>
                        <a:pt x="532" y="170"/>
                      </a:lnTo>
                      <a:lnTo>
                        <a:pt x="533" y="171"/>
                      </a:lnTo>
                      <a:lnTo>
                        <a:pt x="533" y="173"/>
                      </a:lnTo>
                      <a:lnTo>
                        <a:pt x="534" y="174"/>
                      </a:lnTo>
                      <a:lnTo>
                        <a:pt x="534" y="175"/>
                      </a:lnTo>
                      <a:lnTo>
                        <a:pt x="536" y="177"/>
                      </a:lnTo>
                      <a:lnTo>
                        <a:pt x="536" y="180"/>
                      </a:lnTo>
                      <a:lnTo>
                        <a:pt x="537" y="182"/>
                      </a:lnTo>
                      <a:cubicBezTo>
                        <a:pt x="539" y="184"/>
                        <a:pt x="543" y="186"/>
                        <a:pt x="548" y="184"/>
                      </a:cubicBezTo>
                      <a:cubicBezTo>
                        <a:pt x="550" y="183"/>
                        <a:pt x="552" y="178"/>
                        <a:pt x="550" y="175"/>
                      </a:cubicBezTo>
                      <a:lnTo>
                        <a:pt x="550" y="174"/>
                      </a:lnTo>
                      <a:lnTo>
                        <a:pt x="549" y="173"/>
                      </a:lnTo>
                      <a:lnTo>
                        <a:pt x="549" y="171"/>
                      </a:lnTo>
                      <a:lnTo>
                        <a:pt x="548" y="170"/>
                      </a:lnTo>
                      <a:lnTo>
                        <a:pt x="548" y="168"/>
                      </a:lnTo>
                      <a:lnTo>
                        <a:pt x="546" y="167"/>
                      </a:lnTo>
                      <a:lnTo>
                        <a:pt x="546" y="165"/>
                      </a:lnTo>
                      <a:lnTo>
                        <a:pt x="545" y="163"/>
                      </a:lnTo>
                      <a:lnTo>
                        <a:pt x="545" y="162"/>
                      </a:lnTo>
                      <a:close/>
                      <a:moveTo>
                        <a:pt x="512" y="112"/>
                      </a:moveTo>
                      <a:lnTo>
                        <a:pt x="512" y="112"/>
                      </a:lnTo>
                      <a:cubicBezTo>
                        <a:pt x="509" y="109"/>
                        <a:pt x="505" y="109"/>
                        <a:pt x="501" y="112"/>
                      </a:cubicBezTo>
                      <a:cubicBezTo>
                        <a:pt x="499" y="113"/>
                        <a:pt x="497" y="118"/>
                        <a:pt x="500" y="122"/>
                      </a:cubicBezTo>
                      <a:lnTo>
                        <a:pt x="501" y="124"/>
                      </a:lnTo>
                      <a:lnTo>
                        <a:pt x="503" y="124"/>
                      </a:lnTo>
                      <a:lnTo>
                        <a:pt x="503" y="125"/>
                      </a:lnTo>
                      <a:lnTo>
                        <a:pt x="505" y="126"/>
                      </a:lnTo>
                      <a:lnTo>
                        <a:pt x="506" y="128"/>
                      </a:lnTo>
                      <a:lnTo>
                        <a:pt x="506" y="130"/>
                      </a:lnTo>
                      <a:lnTo>
                        <a:pt x="508" y="131"/>
                      </a:lnTo>
                      <a:lnTo>
                        <a:pt x="509" y="133"/>
                      </a:lnTo>
                      <a:cubicBezTo>
                        <a:pt x="511" y="135"/>
                        <a:pt x="515" y="137"/>
                        <a:pt x="520" y="134"/>
                      </a:cubicBezTo>
                      <a:cubicBezTo>
                        <a:pt x="522" y="133"/>
                        <a:pt x="522" y="126"/>
                        <a:pt x="521" y="124"/>
                      </a:cubicBezTo>
                      <a:lnTo>
                        <a:pt x="520" y="122"/>
                      </a:lnTo>
                      <a:lnTo>
                        <a:pt x="518" y="121"/>
                      </a:lnTo>
                      <a:lnTo>
                        <a:pt x="518" y="119"/>
                      </a:lnTo>
                      <a:lnTo>
                        <a:pt x="517" y="118"/>
                      </a:lnTo>
                      <a:lnTo>
                        <a:pt x="515" y="117"/>
                      </a:lnTo>
                      <a:lnTo>
                        <a:pt x="513" y="114"/>
                      </a:lnTo>
                      <a:lnTo>
                        <a:pt x="512" y="113"/>
                      </a:lnTo>
                      <a:lnTo>
                        <a:pt x="512" y="112"/>
                      </a:lnTo>
                      <a:close/>
                      <a:moveTo>
                        <a:pt x="481" y="80"/>
                      </a:moveTo>
                      <a:lnTo>
                        <a:pt x="471" y="91"/>
                      </a:lnTo>
                      <a:lnTo>
                        <a:pt x="481" y="80"/>
                      </a:lnTo>
                      <a:close/>
                      <a:moveTo>
                        <a:pt x="469" y="70"/>
                      </a:moveTo>
                      <a:lnTo>
                        <a:pt x="469" y="70"/>
                      </a:lnTo>
                      <a:cubicBezTo>
                        <a:pt x="466" y="68"/>
                        <a:pt x="462" y="68"/>
                        <a:pt x="459" y="70"/>
                      </a:cubicBezTo>
                      <a:cubicBezTo>
                        <a:pt x="457" y="75"/>
                        <a:pt x="457" y="80"/>
                        <a:pt x="460" y="81"/>
                      </a:cubicBezTo>
                      <a:lnTo>
                        <a:pt x="462" y="82"/>
                      </a:lnTo>
                      <a:lnTo>
                        <a:pt x="463" y="84"/>
                      </a:lnTo>
                      <a:lnTo>
                        <a:pt x="464" y="85"/>
                      </a:lnTo>
                      <a:lnTo>
                        <a:pt x="466" y="85"/>
                      </a:lnTo>
                      <a:lnTo>
                        <a:pt x="468" y="87"/>
                      </a:lnTo>
                      <a:lnTo>
                        <a:pt x="469" y="88"/>
                      </a:lnTo>
                      <a:lnTo>
                        <a:pt x="469" y="89"/>
                      </a:lnTo>
                      <a:lnTo>
                        <a:pt x="471" y="91"/>
                      </a:lnTo>
                      <a:cubicBezTo>
                        <a:pt x="473" y="93"/>
                        <a:pt x="478" y="93"/>
                        <a:pt x="481" y="89"/>
                      </a:cubicBezTo>
                      <a:cubicBezTo>
                        <a:pt x="484" y="87"/>
                        <a:pt x="484" y="82"/>
                        <a:pt x="481" y="80"/>
                      </a:cubicBezTo>
                      <a:lnTo>
                        <a:pt x="480" y="80"/>
                      </a:lnTo>
                      <a:lnTo>
                        <a:pt x="478" y="78"/>
                      </a:lnTo>
                      <a:lnTo>
                        <a:pt x="476" y="76"/>
                      </a:lnTo>
                      <a:lnTo>
                        <a:pt x="475" y="75"/>
                      </a:lnTo>
                      <a:lnTo>
                        <a:pt x="473" y="73"/>
                      </a:lnTo>
                      <a:lnTo>
                        <a:pt x="472" y="72"/>
                      </a:lnTo>
                      <a:lnTo>
                        <a:pt x="471" y="72"/>
                      </a:lnTo>
                      <a:lnTo>
                        <a:pt x="469" y="70"/>
                      </a:lnTo>
                      <a:close/>
                      <a:moveTo>
                        <a:pt x="420" y="36"/>
                      </a:moveTo>
                      <a:lnTo>
                        <a:pt x="420" y="36"/>
                      </a:lnTo>
                      <a:cubicBezTo>
                        <a:pt x="418" y="35"/>
                        <a:pt x="413" y="36"/>
                        <a:pt x="411" y="39"/>
                      </a:cubicBezTo>
                      <a:cubicBezTo>
                        <a:pt x="408" y="44"/>
                        <a:pt x="410" y="48"/>
                        <a:pt x="414" y="49"/>
                      </a:cubicBezTo>
                      <a:lnTo>
                        <a:pt x="416" y="51"/>
                      </a:lnTo>
                      <a:lnTo>
                        <a:pt x="418" y="53"/>
                      </a:lnTo>
                      <a:lnTo>
                        <a:pt x="419" y="53"/>
                      </a:lnTo>
                      <a:lnTo>
                        <a:pt x="420" y="54"/>
                      </a:lnTo>
                      <a:lnTo>
                        <a:pt x="423" y="54"/>
                      </a:lnTo>
                      <a:lnTo>
                        <a:pt x="425" y="56"/>
                      </a:lnTo>
                      <a:lnTo>
                        <a:pt x="426" y="57"/>
                      </a:lnTo>
                      <a:cubicBezTo>
                        <a:pt x="429" y="59"/>
                        <a:pt x="434" y="57"/>
                        <a:pt x="436" y="54"/>
                      </a:cubicBezTo>
                      <a:cubicBezTo>
                        <a:pt x="438" y="51"/>
                        <a:pt x="436" y="47"/>
                        <a:pt x="434" y="44"/>
                      </a:cubicBezTo>
                      <a:lnTo>
                        <a:pt x="432" y="44"/>
                      </a:lnTo>
                      <a:lnTo>
                        <a:pt x="431" y="42"/>
                      </a:lnTo>
                      <a:lnTo>
                        <a:pt x="428" y="41"/>
                      </a:lnTo>
                      <a:lnTo>
                        <a:pt x="426" y="41"/>
                      </a:lnTo>
                      <a:lnTo>
                        <a:pt x="425" y="39"/>
                      </a:lnTo>
                      <a:lnTo>
                        <a:pt x="423" y="38"/>
                      </a:lnTo>
                      <a:lnTo>
                        <a:pt x="422" y="38"/>
                      </a:lnTo>
                      <a:lnTo>
                        <a:pt x="420" y="36"/>
                      </a:lnTo>
                      <a:close/>
                      <a:moveTo>
                        <a:pt x="366" y="14"/>
                      </a:moveTo>
                      <a:lnTo>
                        <a:pt x="366" y="14"/>
                      </a:lnTo>
                      <a:cubicBezTo>
                        <a:pt x="362" y="12"/>
                        <a:pt x="358" y="14"/>
                        <a:pt x="357" y="19"/>
                      </a:cubicBezTo>
                      <a:cubicBezTo>
                        <a:pt x="355" y="23"/>
                        <a:pt x="358" y="26"/>
                        <a:pt x="361" y="28"/>
                      </a:cubicBezTo>
                      <a:lnTo>
                        <a:pt x="362" y="28"/>
                      </a:lnTo>
                      <a:lnTo>
                        <a:pt x="364" y="29"/>
                      </a:lnTo>
                      <a:lnTo>
                        <a:pt x="367" y="29"/>
                      </a:lnTo>
                      <a:lnTo>
                        <a:pt x="369" y="29"/>
                      </a:lnTo>
                      <a:lnTo>
                        <a:pt x="370" y="31"/>
                      </a:lnTo>
                      <a:lnTo>
                        <a:pt x="371" y="31"/>
                      </a:lnTo>
                      <a:lnTo>
                        <a:pt x="373" y="32"/>
                      </a:lnTo>
                      <a:lnTo>
                        <a:pt x="374" y="32"/>
                      </a:lnTo>
                      <a:cubicBezTo>
                        <a:pt x="379" y="33"/>
                        <a:pt x="383" y="32"/>
                        <a:pt x="385" y="28"/>
                      </a:cubicBezTo>
                      <a:cubicBezTo>
                        <a:pt x="386" y="24"/>
                        <a:pt x="383" y="20"/>
                        <a:pt x="380" y="19"/>
                      </a:cubicBezTo>
                      <a:lnTo>
                        <a:pt x="378" y="17"/>
                      </a:lnTo>
                      <a:lnTo>
                        <a:pt x="376" y="17"/>
                      </a:lnTo>
                      <a:lnTo>
                        <a:pt x="374" y="17"/>
                      </a:lnTo>
                      <a:lnTo>
                        <a:pt x="373" y="16"/>
                      </a:lnTo>
                      <a:lnTo>
                        <a:pt x="371" y="16"/>
                      </a:lnTo>
                      <a:lnTo>
                        <a:pt x="369" y="14"/>
                      </a:lnTo>
                      <a:lnTo>
                        <a:pt x="367" y="14"/>
                      </a:lnTo>
                      <a:lnTo>
                        <a:pt x="366" y="14"/>
                      </a:lnTo>
                      <a:close/>
                      <a:moveTo>
                        <a:pt x="308" y="3"/>
                      </a:moveTo>
                      <a:lnTo>
                        <a:pt x="308" y="3"/>
                      </a:lnTo>
                      <a:cubicBezTo>
                        <a:pt x="303" y="0"/>
                        <a:pt x="301" y="4"/>
                        <a:pt x="301" y="8"/>
                      </a:cubicBezTo>
                      <a:cubicBezTo>
                        <a:pt x="299" y="12"/>
                        <a:pt x="302" y="16"/>
                        <a:pt x="306" y="16"/>
                      </a:cubicBezTo>
                      <a:lnTo>
                        <a:pt x="308" y="16"/>
                      </a:lnTo>
                      <a:lnTo>
                        <a:pt x="309" y="17"/>
                      </a:lnTo>
                      <a:lnTo>
                        <a:pt x="310" y="17"/>
                      </a:lnTo>
                      <a:lnTo>
                        <a:pt x="314" y="17"/>
                      </a:lnTo>
                      <a:lnTo>
                        <a:pt x="315" y="17"/>
                      </a:lnTo>
                      <a:lnTo>
                        <a:pt x="317" y="17"/>
                      </a:lnTo>
                      <a:lnTo>
                        <a:pt x="318" y="17"/>
                      </a:lnTo>
                      <a:lnTo>
                        <a:pt x="320" y="19"/>
                      </a:lnTo>
                      <a:cubicBezTo>
                        <a:pt x="324" y="19"/>
                        <a:pt x="329" y="16"/>
                        <a:pt x="329" y="12"/>
                      </a:cubicBezTo>
                      <a:cubicBezTo>
                        <a:pt x="330" y="8"/>
                        <a:pt x="327" y="4"/>
                        <a:pt x="322" y="4"/>
                      </a:cubicBezTo>
                      <a:lnTo>
                        <a:pt x="320" y="4"/>
                      </a:lnTo>
                      <a:lnTo>
                        <a:pt x="318" y="4"/>
                      </a:lnTo>
                      <a:lnTo>
                        <a:pt x="317" y="3"/>
                      </a:lnTo>
                      <a:lnTo>
                        <a:pt x="315" y="3"/>
                      </a:lnTo>
                      <a:lnTo>
                        <a:pt x="314" y="3"/>
                      </a:lnTo>
                      <a:lnTo>
                        <a:pt x="310" y="3"/>
                      </a:lnTo>
                      <a:lnTo>
                        <a:pt x="309" y="3"/>
                      </a:lnTo>
                      <a:lnTo>
                        <a:pt x="308" y="3"/>
                      </a:lnTo>
                      <a:close/>
                      <a:moveTo>
                        <a:pt x="248" y="0"/>
                      </a:moveTo>
                      <a:lnTo>
                        <a:pt x="248" y="0"/>
                      </a:lnTo>
                      <a:cubicBezTo>
                        <a:pt x="244" y="3"/>
                        <a:pt x="241" y="5"/>
                        <a:pt x="243" y="10"/>
                      </a:cubicBezTo>
                      <a:cubicBezTo>
                        <a:pt x="243" y="12"/>
                        <a:pt x="245" y="16"/>
                        <a:pt x="250" y="16"/>
                      </a:cubicBezTo>
                      <a:lnTo>
                        <a:pt x="252" y="16"/>
                      </a:lnTo>
                      <a:lnTo>
                        <a:pt x="255" y="16"/>
                      </a:lnTo>
                      <a:lnTo>
                        <a:pt x="256" y="16"/>
                      </a:lnTo>
                      <a:lnTo>
                        <a:pt x="257" y="16"/>
                      </a:lnTo>
                      <a:lnTo>
                        <a:pt x="259" y="16"/>
                      </a:lnTo>
                      <a:lnTo>
                        <a:pt x="260" y="16"/>
                      </a:lnTo>
                      <a:lnTo>
                        <a:pt x="261" y="16"/>
                      </a:lnTo>
                      <a:lnTo>
                        <a:pt x="264" y="14"/>
                      </a:lnTo>
                      <a:cubicBezTo>
                        <a:pt x="268" y="14"/>
                        <a:pt x="271" y="11"/>
                        <a:pt x="271" y="7"/>
                      </a:cubicBezTo>
                      <a:cubicBezTo>
                        <a:pt x="271" y="4"/>
                        <a:pt x="268" y="0"/>
                        <a:pt x="264" y="0"/>
                      </a:cubicBezTo>
                      <a:lnTo>
                        <a:pt x="261" y="0"/>
                      </a:lnTo>
                      <a:lnTo>
                        <a:pt x="260" y="0"/>
                      </a:lnTo>
                      <a:lnTo>
                        <a:pt x="259" y="0"/>
                      </a:lnTo>
                      <a:lnTo>
                        <a:pt x="256" y="0"/>
                      </a:lnTo>
                      <a:lnTo>
                        <a:pt x="255" y="0"/>
                      </a:lnTo>
                      <a:lnTo>
                        <a:pt x="253" y="0"/>
                      </a:lnTo>
                      <a:lnTo>
                        <a:pt x="252" y="0"/>
                      </a:lnTo>
                      <a:lnTo>
                        <a:pt x="248" y="0"/>
                      </a:lnTo>
                      <a:close/>
                      <a:moveTo>
                        <a:pt x="7" y="443"/>
                      </a:moveTo>
                      <a:lnTo>
                        <a:pt x="7" y="443"/>
                      </a:lnTo>
                      <a:cubicBezTo>
                        <a:pt x="10" y="447"/>
                        <a:pt x="15" y="448"/>
                        <a:pt x="17" y="447"/>
                      </a:cubicBezTo>
                      <a:cubicBezTo>
                        <a:pt x="20" y="445"/>
                        <a:pt x="22" y="441"/>
                        <a:pt x="20" y="438"/>
                      </a:cubicBezTo>
                      <a:lnTo>
                        <a:pt x="20" y="436"/>
                      </a:lnTo>
                      <a:lnTo>
                        <a:pt x="19" y="435"/>
                      </a:lnTo>
                      <a:lnTo>
                        <a:pt x="19" y="434"/>
                      </a:lnTo>
                      <a:lnTo>
                        <a:pt x="17" y="431"/>
                      </a:lnTo>
                      <a:lnTo>
                        <a:pt x="17" y="430"/>
                      </a:lnTo>
                      <a:lnTo>
                        <a:pt x="16" y="429"/>
                      </a:lnTo>
                      <a:lnTo>
                        <a:pt x="16" y="427"/>
                      </a:lnTo>
                      <a:lnTo>
                        <a:pt x="15" y="424"/>
                      </a:lnTo>
                      <a:cubicBezTo>
                        <a:pt x="13" y="420"/>
                        <a:pt x="9" y="418"/>
                        <a:pt x="4" y="422"/>
                      </a:cubicBezTo>
                      <a:cubicBezTo>
                        <a:pt x="1" y="423"/>
                        <a:pt x="0" y="427"/>
                        <a:pt x="1" y="430"/>
                      </a:cubicBezTo>
                      <a:lnTo>
                        <a:pt x="1" y="431"/>
                      </a:lnTo>
                      <a:lnTo>
                        <a:pt x="3" y="434"/>
                      </a:lnTo>
                      <a:lnTo>
                        <a:pt x="3" y="435"/>
                      </a:lnTo>
                      <a:lnTo>
                        <a:pt x="4" y="436"/>
                      </a:lnTo>
                      <a:lnTo>
                        <a:pt x="4" y="438"/>
                      </a:lnTo>
                      <a:lnTo>
                        <a:pt x="5" y="439"/>
                      </a:lnTo>
                      <a:lnTo>
                        <a:pt x="7" y="441"/>
                      </a:lnTo>
                      <a:lnTo>
                        <a:pt x="7" y="442"/>
                      </a:lnTo>
                      <a:lnTo>
                        <a:pt x="7" y="443"/>
                      </a:lnTo>
                      <a:close/>
                      <a:moveTo>
                        <a:pt x="40" y="494"/>
                      </a:moveTo>
                      <a:lnTo>
                        <a:pt x="40" y="494"/>
                      </a:lnTo>
                      <a:cubicBezTo>
                        <a:pt x="43" y="497"/>
                        <a:pt x="47" y="497"/>
                        <a:pt x="50" y="494"/>
                      </a:cubicBezTo>
                      <a:cubicBezTo>
                        <a:pt x="53" y="492"/>
                        <a:pt x="54" y="488"/>
                        <a:pt x="52" y="483"/>
                      </a:cubicBezTo>
                      <a:lnTo>
                        <a:pt x="50" y="483"/>
                      </a:lnTo>
                      <a:lnTo>
                        <a:pt x="50" y="482"/>
                      </a:lnTo>
                      <a:lnTo>
                        <a:pt x="49" y="480"/>
                      </a:lnTo>
                      <a:lnTo>
                        <a:pt x="47" y="479"/>
                      </a:lnTo>
                      <a:lnTo>
                        <a:pt x="45" y="478"/>
                      </a:lnTo>
                      <a:lnTo>
                        <a:pt x="45" y="476"/>
                      </a:lnTo>
                      <a:lnTo>
                        <a:pt x="44" y="475"/>
                      </a:lnTo>
                      <a:lnTo>
                        <a:pt x="43" y="473"/>
                      </a:lnTo>
                      <a:cubicBezTo>
                        <a:pt x="41" y="470"/>
                        <a:pt x="37" y="468"/>
                        <a:pt x="32" y="472"/>
                      </a:cubicBezTo>
                      <a:cubicBezTo>
                        <a:pt x="29" y="473"/>
                        <a:pt x="29" y="478"/>
                        <a:pt x="31" y="482"/>
                      </a:cubicBezTo>
                      <a:lnTo>
                        <a:pt x="32" y="483"/>
                      </a:lnTo>
                      <a:lnTo>
                        <a:pt x="34" y="485"/>
                      </a:lnTo>
                      <a:lnTo>
                        <a:pt x="36" y="487"/>
                      </a:lnTo>
                      <a:lnTo>
                        <a:pt x="36" y="488"/>
                      </a:lnTo>
                      <a:lnTo>
                        <a:pt x="37" y="489"/>
                      </a:lnTo>
                      <a:lnTo>
                        <a:pt x="38" y="491"/>
                      </a:lnTo>
                      <a:lnTo>
                        <a:pt x="40" y="492"/>
                      </a:lnTo>
                      <a:lnTo>
                        <a:pt x="40" y="494"/>
                      </a:lnTo>
                      <a:close/>
                      <a:moveTo>
                        <a:pt x="82" y="536"/>
                      </a:moveTo>
                      <a:lnTo>
                        <a:pt x="82" y="536"/>
                      </a:lnTo>
                      <a:cubicBezTo>
                        <a:pt x="86" y="538"/>
                        <a:pt x="90" y="538"/>
                        <a:pt x="93" y="534"/>
                      </a:cubicBezTo>
                      <a:cubicBezTo>
                        <a:pt x="94" y="531"/>
                        <a:pt x="94" y="527"/>
                        <a:pt x="91" y="525"/>
                      </a:cubicBezTo>
                      <a:lnTo>
                        <a:pt x="90" y="524"/>
                      </a:lnTo>
                      <a:lnTo>
                        <a:pt x="89" y="522"/>
                      </a:lnTo>
                      <a:lnTo>
                        <a:pt x="87" y="520"/>
                      </a:lnTo>
                      <a:lnTo>
                        <a:pt x="86" y="520"/>
                      </a:lnTo>
                      <a:lnTo>
                        <a:pt x="86" y="519"/>
                      </a:lnTo>
                      <a:lnTo>
                        <a:pt x="84" y="517"/>
                      </a:lnTo>
                      <a:lnTo>
                        <a:pt x="82" y="516"/>
                      </a:lnTo>
                      <a:lnTo>
                        <a:pt x="81" y="515"/>
                      </a:lnTo>
                      <a:cubicBezTo>
                        <a:pt x="78" y="512"/>
                        <a:pt x="74" y="513"/>
                        <a:pt x="70" y="516"/>
                      </a:cubicBezTo>
                      <a:cubicBezTo>
                        <a:pt x="68" y="519"/>
                        <a:pt x="68" y="524"/>
                        <a:pt x="70" y="525"/>
                      </a:cubicBezTo>
                      <a:lnTo>
                        <a:pt x="70" y="527"/>
                      </a:lnTo>
                      <a:lnTo>
                        <a:pt x="73" y="528"/>
                      </a:lnTo>
                      <a:lnTo>
                        <a:pt x="74" y="528"/>
                      </a:lnTo>
                      <a:lnTo>
                        <a:pt x="75" y="529"/>
                      </a:lnTo>
                      <a:lnTo>
                        <a:pt x="77" y="531"/>
                      </a:lnTo>
                      <a:lnTo>
                        <a:pt x="78" y="532"/>
                      </a:lnTo>
                      <a:lnTo>
                        <a:pt x="80" y="534"/>
                      </a:lnTo>
                      <a:lnTo>
                        <a:pt x="81" y="536"/>
                      </a:lnTo>
                      <a:lnTo>
                        <a:pt x="82" y="536"/>
                      </a:lnTo>
                      <a:close/>
                      <a:moveTo>
                        <a:pt x="131" y="569"/>
                      </a:moveTo>
                      <a:lnTo>
                        <a:pt x="131" y="569"/>
                      </a:lnTo>
                      <a:cubicBezTo>
                        <a:pt x="134" y="571"/>
                        <a:pt x="139" y="569"/>
                        <a:pt x="140" y="566"/>
                      </a:cubicBezTo>
                      <a:cubicBezTo>
                        <a:pt x="143" y="562"/>
                        <a:pt x="142" y="557"/>
                        <a:pt x="138" y="556"/>
                      </a:cubicBezTo>
                      <a:lnTo>
                        <a:pt x="136" y="555"/>
                      </a:lnTo>
                      <a:lnTo>
                        <a:pt x="134" y="555"/>
                      </a:lnTo>
                      <a:lnTo>
                        <a:pt x="133" y="553"/>
                      </a:lnTo>
                      <a:lnTo>
                        <a:pt x="131" y="552"/>
                      </a:lnTo>
                      <a:lnTo>
                        <a:pt x="130" y="552"/>
                      </a:lnTo>
                      <a:lnTo>
                        <a:pt x="129" y="550"/>
                      </a:lnTo>
                      <a:lnTo>
                        <a:pt x="126" y="549"/>
                      </a:lnTo>
                      <a:cubicBezTo>
                        <a:pt x="123" y="548"/>
                        <a:pt x="118" y="549"/>
                        <a:pt x="115" y="552"/>
                      </a:cubicBezTo>
                      <a:cubicBezTo>
                        <a:pt x="114" y="555"/>
                        <a:pt x="115" y="559"/>
                        <a:pt x="118" y="562"/>
                      </a:cubicBezTo>
                      <a:lnTo>
                        <a:pt x="119" y="562"/>
                      </a:lnTo>
                      <a:lnTo>
                        <a:pt x="123" y="564"/>
                      </a:lnTo>
                      <a:lnTo>
                        <a:pt x="124" y="565"/>
                      </a:lnTo>
                      <a:lnTo>
                        <a:pt x="126" y="565"/>
                      </a:lnTo>
                      <a:lnTo>
                        <a:pt x="127" y="566"/>
                      </a:lnTo>
                      <a:lnTo>
                        <a:pt x="129" y="568"/>
                      </a:lnTo>
                      <a:lnTo>
                        <a:pt x="130" y="568"/>
                      </a:lnTo>
                      <a:lnTo>
                        <a:pt x="131" y="569"/>
                      </a:lnTo>
                      <a:close/>
                      <a:moveTo>
                        <a:pt x="187" y="592"/>
                      </a:moveTo>
                      <a:lnTo>
                        <a:pt x="187" y="592"/>
                      </a:lnTo>
                      <a:cubicBezTo>
                        <a:pt x="189" y="593"/>
                        <a:pt x="194" y="592"/>
                        <a:pt x="195" y="587"/>
                      </a:cubicBezTo>
                      <a:cubicBezTo>
                        <a:pt x="196" y="583"/>
                        <a:pt x="194" y="580"/>
                        <a:pt x="191" y="578"/>
                      </a:cubicBezTo>
                      <a:lnTo>
                        <a:pt x="189" y="578"/>
                      </a:lnTo>
                      <a:lnTo>
                        <a:pt x="188" y="577"/>
                      </a:lnTo>
                      <a:lnTo>
                        <a:pt x="187" y="577"/>
                      </a:lnTo>
                      <a:lnTo>
                        <a:pt x="183" y="577"/>
                      </a:lnTo>
                      <a:lnTo>
                        <a:pt x="182" y="576"/>
                      </a:lnTo>
                      <a:lnTo>
                        <a:pt x="180" y="576"/>
                      </a:lnTo>
                      <a:lnTo>
                        <a:pt x="179" y="574"/>
                      </a:lnTo>
                      <a:lnTo>
                        <a:pt x="178" y="574"/>
                      </a:lnTo>
                      <a:cubicBezTo>
                        <a:pt x="173" y="573"/>
                        <a:pt x="168" y="574"/>
                        <a:pt x="167" y="578"/>
                      </a:cubicBezTo>
                      <a:cubicBezTo>
                        <a:pt x="166" y="581"/>
                        <a:pt x="168" y="586"/>
                        <a:pt x="171" y="587"/>
                      </a:cubicBezTo>
                      <a:lnTo>
                        <a:pt x="173" y="587"/>
                      </a:lnTo>
                      <a:lnTo>
                        <a:pt x="175" y="589"/>
                      </a:lnTo>
                      <a:lnTo>
                        <a:pt x="176" y="589"/>
                      </a:lnTo>
                      <a:lnTo>
                        <a:pt x="178" y="589"/>
                      </a:lnTo>
                      <a:lnTo>
                        <a:pt x="179" y="590"/>
                      </a:lnTo>
                      <a:lnTo>
                        <a:pt x="182" y="590"/>
                      </a:lnTo>
                      <a:lnTo>
                        <a:pt x="183" y="592"/>
                      </a:lnTo>
                      <a:lnTo>
                        <a:pt x="185" y="592"/>
                      </a:lnTo>
                      <a:lnTo>
                        <a:pt x="187" y="592"/>
                      </a:lnTo>
                      <a:close/>
                      <a:moveTo>
                        <a:pt x="244" y="604"/>
                      </a:moveTo>
                      <a:lnTo>
                        <a:pt x="244" y="604"/>
                      </a:lnTo>
                      <a:cubicBezTo>
                        <a:pt x="248" y="605"/>
                        <a:pt x="252" y="602"/>
                        <a:pt x="252" y="597"/>
                      </a:cubicBezTo>
                      <a:cubicBezTo>
                        <a:pt x="253" y="593"/>
                        <a:pt x="250" y="590"/>
                        <a:pt x="245" y="590"/>
                      </a:cubicBezTo>
                      <a:lnTo>
                        <a:pt x="244" y="590"/>
                      </a:lnTo>
                      <a:lnTo>
                        <a:pt x="243" y="589"/>
                      </a:lnTo>
                      <a:lnTo>
                        <a:pt x="241" y="589"/>
                      </a:lnTo>
                      <a:lnTo>
                        <a:pt x="240" y="589"/>
                      </a:lnTo>
                      <a:lnTo>
                        <a:pt x="237" y="589"/>
                      </a:lnTo>
                      <a:lnTo>
                        <a:pt x="235" y="589"/>
                      </a:lnTo>
                      <a:lnTo>
                        <a:pt x="234" y="589"/>
                      </a:lnTo>
                      <a:lnTo>
                        <a:pt x="232" y="587"/>
                      </a:lnTo>
                      <a:cubicBezTo>
                        <a:pt x="228" y="587"/>
                        <a:pt x="223" y="590"/>
                        <a:pt x="223" y="593"/>
                      </a:cubicBezTo>
                      <a:cubicBezTo>
                        <a:pt x="222" y="597"/>
                        <a:pt x="225" y="602"/>
                        <a:pt x="229" y="602"/>
                      </a:cubicBezTo>
                      <a:lnTo>
                        <a:pt x="232" y="602"/>
                      </a:lnTo>
                      <a:lnTo>
                        <a:pt x="234" y="604"/>
                      </a:lnTo>
                      <a:lnTo>
                        <a:pt x="235" y="604"/>
                      </a:lnTo>
                      <a:lnTo>
                        <a:pt x="237" y="604"/>
                      </a:lnTo>
                      <a:lnTo>
                        <a:pt x="240" y="604"/>
                      </a:lnTo>
                      <a:lnTo>
                        <a:pt x="241" y="604"/>
                      </a:lnTo>
                      <a:lnTo>
                        <a:pt x="243" y="604"/>
                      </a:lnTo>
                      <a:lnTo>
                        <a:pt x="244" y="604"/>
                      </a:lnTo>
                      <a:close/>
                      <a:moveTo>
                        <a:pt x="303" y="605"/>
                      </a:moveTo>
                      <a:lnTo>
                        <a:pt x="303" y="605"/>
                      </a:lnTo>
                      <a:cubicBezTo>
                        <a:pt x="308" y="604"/>
                        <a:pt x="310" y="601"/>
                        <a:pt x="309" y="596"/>
                      </a:cubicBezTo>
                      <a:cubicBezTo>
                        <a:pt x="309" y="593"/>
                        <a:pt x="306" y="590"/>
                        <a:pt x="302" y="590"/>
                      </a:cubicBezTo>
                      <a:lnTo>
                        <a:pt x="301" y="590"/>
                      </a:lnTo>
                      <a:lnTo>
                        <a:pt x="299" y="590"/>
                      </a:lnTo>
                      <a:lnTo>
                        <a:pt x="296" y="590"/>
                      </a:lnTo>
                      <a:lnTo>
                        <a:pt x="294" y="590"/>
                      </a:lnTo>
                      <a:lnTo>
                        <a:pt x="293" y="590"/>
                      </a:lnTo>
                      <a:lnTo>
                        <a:pt x="292" y="590"/>
                      </a:lnTo>
                      <a:lnTo>
                        <a:pt x="290" y="592"/>
                      </a:lnTo>
                      <a:lnTo>
                        <a:pt x="289" y="592"/>
                      </a:lnTo>
                      <a:cubicBezTo>
                        <a:pt x="284" y="592"/>
                        <a:pt x="281" y="594"/>
                        <a:pt x="281" y="599"/>
                      </a:cubicBezTo>
                      <a:cubicBezTo>
                        <a:pt x="281" y="602"/>
                        <a:pt x="284" y="605"/>
                        <a:pt x="289" y="605"/>
                      </a:cubicBezTo>
                      <a:lnTo>
                        <a:pt x="290" y="605"/>
                      </a:lnTo>
                      <a:lnTo>
                        <a:pt x="292" y="605"/>
                      </a:lnTo>
                      <a:lnTo>
                        <a:pt x="294" y="605"/>
                      </a:lnTo>
                      <a:lnTo>
                        <a:pt x="296" y="605"/>
                      </a:lnTo>
                      <a:lnTo>
                        <a:pt x="297" y="605"/>
                      </a:lnTo>
                      <a:lnTo>
                        <a:pt x="299" y="605"/>
                      </a:lnTo>
                      <a:lnTo>
                        <a:pt x="302" y="605"/>
                      </a:lnTo>
                      <a:lnTo>
                        <a:pt x="303" y="605"/>
                      </a:lnTo>
                      <a:close/>
                      <a:moveTo>
                        <a:pt x="361" y="593"/>
                      </a:moveTo>
                      <a:lnTo>
                        <a:pt x="361" y="593"/>
                      </a:lnTo>
                      <a:cubicBezTo>
                        <a:pt x="366" y="592"/>
                        <a:pt x="367" y="589"/>
                        <a:pt x="367" y="584"/>
                      </a:cubicBezTo>
                      <a:cubicBezTo>
                        <a:pt x="366" y="581"/>
                        <a:pt x="361" y="578"/>
                        <a:pt x="358" y="580"/>
                      </a:cubicBezTo>
                      <a:lnTo>
                        <a:pt x="357" y="580"/>
                      </a:lnTo>
                      <a:lnTo>
                        <a:pt x="354" y="580"/>
                      </a:lnTo>
                      <a:lnTo>
                        <a:pt x="352" y="581"/>
                      </a:lnTo>
                      <a:lnTo>
                        <a:pt x="350" y="581"/>
                      </a:lnTo>
                      <a:lnTo>
                        <a:pt x="349" y="581"/>
                      </a:lnTo>
                      <a:lnTo>
                        <a:pt x="348" y="583"/>
                      </a:lnTo>
                      <a:lnTo>
                        <a:pt x="346" y="583"/>
                      </a:lnTo>
                      <a:lnTo>
                        <a:pt x="345" y="583"/>
                      </a:lnTo>
                      <a:lnTo>
                        <a:pt x="343" y="583"/>
                      </a:lnTo>
                      <a:cubicBezTo>
                        <a:pt x="341" y="584"/>
                        <a:pt x="337" y="589"/>
                        <a:pt x="339" y="592"/>
                      </a:cubicBezTo>
                      <a:cubicBezTo>
                        <a:pt x="339" y="596"/>
                        <a:pt x="343" y="597"/>
                        <a:pt x="348" y="597"/>
                      </a:cubicBezTo>
                      <a:lnTo>
                        <a:pt x="349" y="596"/>
                      </a:lnTo>
                      <a:lnTo>
                        <a:pt x="350" y="596"/>
                      </a:lnTo>
                      <a:lnTo>
                        <a:pt x="354" y="596"/>
                      </a:lnTo>
                      <a:lnTo>
                        <a:pt x="355" y="594"/>
                      </a:lnTo>
                      <a:lnTo>
                        <a:pt x="357" y="594"/>
                      </a:lnTo>
                      <a:lnTo>
                        <a:pt x="358" y="594"/>
                      </a:lnTo>
                      <a:lnTo>
                        <a:pt x="359" y="593"/>
                      </a:lnTo>
                      <a:lnTo>
                        <a:pt x="361" y="593"/>
                      </a:lnTo>
                      <a:close/>
                      <a:moveTo>
                        <a:pt x="418" y="571"/>
                      </a:moveTo>
                      <a:lnTo>
                        <a:pt x="418" y="571"/>
                      </a:lnTo>
                      <a:cubicBezTo>
                        <a:pt x="420" y="569"/>
                        <a:pt x="422" y="565"/>
                        <a:pt x="420" y="562"/>
                      </a:cubicBezTo>
                      <a:cubicBezTo>
                        <a:pt x="418" y="557"/>
                        <a:pt x="413" y="556"/>
                        <a:pt x="410" y="557"/>
                      </a:cubicBezTo>
                      <a:lnTo>
                        <a:pt x="408" y="559"/>
                      </a:lnTo>
                      <a:lnTo>
                        <a:pt x="407" y="559"/>
                      </a:lnTo>
                      <a:lnTo>
                        <a:pt x="406" y="561"/>
                      </a:lnTo>
                      <a:lnTo>
                        <a:pt x="404" y="561"/>
                      </a:lnTo>
                      <a:lnTo>
                        <a:pt x="403" y="562"/>
                      </a:lnTo>
                      <a:lnTo>
                        <a:pt x="401" y="562"/>
                      </a:lnTo>
                      <a:lnTo>
                        <a:pt x="399" y="564"/>
                      </a:lnTo>
                      <a:lnTo>
                        <a:pt x="398" y="564"/>
                      </a:lnTo>
                      <a:lnTo>
                        <a:pt x="397" y="565"/>
                      </a:lnTo>
                      <a:cubicBezTo>
                        <a:pt x="394" y="566"/>
                        <a:pt x="392" y="571"/>
                        <a:pt x="394" y="574"/>
                      </a:cubicBezTo>
                      <a:cubicBezTo>
                        <a:pt x="395" y="578"/>
                        <a:pt x="399" y="580"/>
                        <a:pt x="404" y="578"/>
                      </a:cubicBezTo>
                      <a:lnTo>
                        <a:pt x="404" y="577"/>
                      </a:lnTo>
                      <a:lnTo>
                        <a:pt x="406" y="577"/>
                      </a:lnTo>
                      <a:lnTo>
                        <a:pt x="407" y="576"/>
                      </a:lnTo>
                      <a:lnTo>
                        <a:pt x="410" y="576"/>
                      </a:lnTo>
                      <a:lnTo>
                        <a:pt x="411" y="574"/>
                      </a:lnTo>
                      <a:lnTo>
                        <a:pt x="413" y="574"/>
                      </a:lnTo>
                      <a:lnTo>
                        <a:pt x="414" y="573"/>
                      </a:lnTo>
                      <a:lnTo>
                        <a:pt x="416" y="571"/>
                      </a:lnTo>
                      <a:lnTo>
                        <a:pt x="418" y="571"/>
                      </a:lnTo>
                      <a:close/>
                      <a:moveTo>
                        <a:pt x="466" y="538"/>
                      </a:moveTo>
                      <a:lnTo>
                        <a:pt x="466" y="538"/>
                      </a:lnTo>
                      <a:cubicBezTo>
                        <a:pt x="469" y="537"/>
                        <a:pt x="469" y="531"/>
                        <a:pt x="468" y="528"/>
                      </a:cubicBezTo>
                      <a:cubicBezTo>
                        <a:pt x="464" y="525"/>
                        <a:pt x="460" y="525"/>
                        <a:pt x="457" y="528"/>
                      </a:cubicBezTo>
                      <a:lnTo>
                        <a:pt x="456" y="528"/>
                      </a:lnTo>
                      <a:lnTo>
                        <a:pt x="455" y="529"/>
                      </a:lnTo>
                      <a:lnTo>
                        <a:pt x="453" y="531"/>
                      </a:lnTo>
                      <a:lnTo>
                        <a:pt x="451" y="531"/>
                      </a:lnTo>
                      <a:lnTo>
                        <a:pt x="450" y="532"/>
                      </a:lnTo>
                      <a:lnTo>
                        <a:pt x="448" y="534"/>
                      </a:lnTo>
                      <a:lnTo>
                        <a:pt x="447" y="536"/>
                      </a:lnTo>
                      <a:lnTo>
                        <a:pt x="446" y="536"/>
                      </a:lnTo>
                      <a:cubicBezTo>
                        <a:pt x="443" y="538"/>
                        <a:pt x="443" y="543"/>
                        <a:pt x="444" y="545"/>
                      </a:cubicBezTo>
                      <a:cubicBezTo>
                        <a:pt x="447" y="549"/>
                        <a:pt x="451" y="550"/>
                        <a:pt x="455" y="548"/>
                      </a:cubicBezTo>
                      <a:lnTo>
                        <a:pt x="456" y="545"/>
                      </a:lnTo>
                      <a:lnTo>
                        <a:pt x="457" y="545"/>
                      </a:lnTo>
                      <a:lnTo>
                        <a:pt x="459" y="544"/>
                      </a:lnTo>
                      <a:lnTo>
                        <a:pt x="460" y="543"/>
                      </a:lnTo>
                      <a:lnTo>
                        <a:pt x="462" y="541"/>
                      </a:lnTo>
                      <a:lnTo>
                        <a:pt x="463" y="541"/>
                      </a:lnTo>
                      <a:lnTo>
                        <a:pt x="464" y="540"/>
                      </a:lnTo>
                      <a:lnTo>
                        <a:pt x="466" y="538"/>
                      </a:lnTo>
                      <a:close/>
                      <a:moveTo>
                        <a:pt x="509" y="497"/>
                      </a:moveTo>
                      <a:lnTo>
                        <a:pt x="509" y="497"/>
                      </a:lnTo>
                      <a:cubicBezTo>
                        <a:pt x="511" y="494"/>
                        <a:pt x="511" y="489"/>
                        <a:pt x="508" y="487"/>
                      </a:cubicBezTo>
                      <a:cubicBezTo>
                        <a:pt x="505" y="483"/>
                        <a:pt x="500" y="485"/>
                        <a:pt x="497" y="488"/>
                      </a:cubicBezTo>
                      <a:lnTo>
                        <a:pt x="496" y="489"/>
                      </a:lnTo>
                      <a:lnTo>
                        <a:pt x="494" y="491"/>
                      </a:lnTo>
                      <a:lnTo>
                        <a:pt x="493" y="492"/>
                      </a:lnTo>
                      <a:lnTo>
                        <a:pt x="492" y="494"/>
                      </a:lnTo>
                      <a:lnTo>
                        <a:pt x="492" y="495"/>
                      </a:lnTo>
                      <a:lnTo>
                        <a:pt x="490" y="497"/>
                      </a:lnTo>
                      <a:lnTo>
                        <a:pt x="488" y="499"/>
                      </a:lnTo>
                      <a:cubicBezTo>
                        <a:pt x="485" y="501"/>
                        <a:pt x="485" y="506"/>
                        <a:pt x="488" y="508"/>
                      </a:cubicBezTo>
                      <a:cubicBezTo>
                        <a:pt x="492" y="512"/>
                        <a:pt x="496" y="512"/>
                        <a:pt x="499" y="508"/>
                      </a:cubicBezTo>
                      <a:lnTo>
                        <a:pt x="499" y="507"/>
                      </a:lnTo>
                      <a:lnTo>
                        <a:pt x="500" y="506"/>
                      </a:lnTo>
                      <a:lnTo>
                        <a:pt x="501" y="504"/>
                      </a:lnTo>
                      <a:lnTo>
                        <a:pt x="503" y="504"/>
                      </a:lnTo>
                      <a:lnTo>
                        <a:pt x="505" y="503"/>
                      </a:lnTo>
                      <a:lnTo>
                        <a:pt x="505" y="501"/>
                      </a:lnTo>
                      <a:lnTo>
                        <a:pt x="506" y="500"/>
                      </a:lnTo>
                      <a:lnTo>
                        <a:pt x="508" y="499"/>
                      </a:lnTo>
                      <a:lnTo>
                        <a:pt x="509" y="497"/>
                      </a:lnTo>
                      <a:close/>
                      <a:moveTo>
                        <a:pt x="522" y="452"/>
                      </a:moveTo>
                      <a:lnTo>
                        <a:pt x="522" y="452"/>
                      </a:lnTo>
                      <a:cubicBezTo>
                        <a:pt x="520" y="457"/>
                        <a:pt x="521" y="462"/>
                        <a:pt x="524" y="463"/>
                      </a:cubicBezTo>
                      <a:cubicBezTo>
                        <a:pt x="528" y="466"/>
                        <a:pt x="533" y="464"/>
                        <a:pt x="534" y="462"/>
                      </a:cubicBezTo>
                      <a:lnTo>
                        <a:pt x="534" y="460"/>
                      </a:lnTo>
                      <a:lnTo>
                        <a:pt x="536" y="459"/>
                      </a:lnTo>
                      <a:lnTo>
                        <a:pt x="537" y="457"/>
                      </a:lnTo>
                      <a:lnTo>
                        <a:pt x="537" y="455"/>
                      </a:lnTo>
                      <a:lnTo>
                        <a:pt x="539" y="454"/>
                      </a:lnTo>
                      <a:lnTo>
                        <a:pt x="540" y="452"/>
                      </a:lnTo>
                      <a:lnTo>
                        <a:pt x="540" y="450"/>
                      </a:lnTo>
                      <a:lnTo>
                        <a:pt x="542" y="448"/>
                      </a:lnTo>
                      <a:cubicBezTo>
                        <a:pt x="545" y="443"/>
                        <a:pt x="543" y="439"/>
                        <a:pt x="539" y="438"/>
                      </a:cubicBezTo>
                      <a:cubicBezTo>
                        <a:pt x="536" y="436"/>
                        <a:pt x="532" y="438"/>
                        <a:pt x="530" y="441"/>
                      </a:cubicBezTo>
                      <a:lnTo>
                        <a:pt x="528" y="442"/>
                      </a:lnTo>
                      <a:lnTo>
                        <a:pt x="528" y="443"/>
                      </a:lnTo>
                      <a:lnTo>
                        <a:pt x="527" y="445"/>
                      </a:lnTo>
                      <a:lnTo>
                        <a:pt x="525" y="447"/>
                      </a:lnTo>
                      <a:lnTo>
                        <a:pt x="525" y="448"/>
                      </a:lnTo>
                      <a:lnTo>
                        <a:pt x="524" y="450"/>
                      </a:lnTo>
                      <a:lnTo>
                        <a:pt x="524" y="451"/>
                      </a:lnTo>
                      <a:lnTo>
                        <a:pt x="522" y="452"/>
                      </a:lnTo>
                      <a:close/>
                    </a:path>
                  </a:pathLst>
                </a:custGeom>
                <a:solidFill>
                  <a:schemeClr val="accent3"/>
                </a:solidFill>
                <a:ln w="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730" spc="-1" strike="noStrike">
                    <a:solidFill>
                      <a:srgbClr val="ffffff"/>
                    </a:solidFill>
                    <a:latin typeface="Calibri"/>
                  </a:endParaRPr>
                </a:p>
              </p:txBody>
            </p:sp>
            <p:sp>
              <p:nvSpPr>
                <p:cNvPr id="203" name="Freeform 20408"/>
                <p:cNvSpPr/>
                <p:nvPr/>
              </p:nvSpPr>
              <p:spPr>
                <a:xfrm>
                  <a:off x="9790200" y="2257200"/>
                  <a:ext cx="1600200" cy="1672920"/>
                </a:xfrm>
                <a:custGeom>
                  <a:avLst/>
                  <a:gdLst>
                    <a:gd name="textAreaLeft" fmla="*/ 0 w 1600200"/>
                    <a:gd name="textAreaRight" fmla="*/ 1600560 w 1600200"/>
                    <a:gd name="textAreaTop" fmla="*/ 0 h 1672920"/>
                    <a:gd name="textAreaBottom" fmla="*/ 1673280 h 1672920"/>
                  </a:gdLst>
                  <a:ahLst/>
                  <a:rect l="textAreaLeft" t="textAreaTop" r="textAreaRight" b="textAreaBottom"/>
                  <a:pathLst>
                    <a:path w="582" h="607">
                      <a:moveTo>
                        <a:pt x="499" y="98"/>
                      </a:moveTo>
                      <a:lnTo>
                        <a:pt x="499" y="98"/>
                      </a:lnTo>
                      <a:cubicBezTo>
                        <a:pt x="497" y="95"/>
                        <a:pt x="493" y="95"/>
                        <a:pt x="490" y="96"/>
                      </a:cubicBezTo>
                      <a:cubicBezTo>
                        <a:pt x="487" y="100"/>
                        <a:pt x="485" y="104"/>
                        <a:pt x="488" y="107"/>
                      </a:cubicBezTo>
                      <a:lnTo>
                        <a:pt x="490" y="108"/>
                      </a:lnTo>
                      <a:lnTo>
                        <a:pt x="492" y="110"/>
                      </a:lnTo>
                      <a:lnTo>
                        <a:pt x="493" y="112"/>
                      </a:lnTo>
                      <a:lnTo>
                        <a:pt x="493" y="113"/>
                      </a:lnTo>
                      <a:lnTo>
                        <a:pt x="494" y="115"/>
                      </a:lnTo>
                      <a:lnTo>
                        <a:pt x="496" y="116"/>
                      </a:lnTo>
                      <a:lnTo>
                        <a:pt x="497" y="117"/>
                      </a:lnTo>
                      <a:lnTo>
                        <a:pt x="499" y="117"/>
                      </a:lnTo>
                      <a:lnTo>
                        <a:pt x="499" y="119"/>
                      </a:lnTo>
                      <a:cubicBezTo>
                        <a:pt x="500" y="122"/>
                        <a:pt x="505" y="122"/>
                        <a:pt x="508" y="119"/>
                      </a:cubicBezTo>
                      <a:cubicBezTo>
                        <a:pt x="512" y="116"/>
                        <a:pt x="512" y="112"/>
                        <a:pt x="509" y="108"/>
                      </a:cubicBezTo>
                      <a:lnTo>
                        <a:pt x="508" y="107"/>
                      </a:lnTo>
                      <a:lnTo>
                        <a:pt x="506" y="105"/>
                      </a:lnTo>
                      <a:lnTo>
                        <a:pt x="506" y="104"/>
                      </a:lnTo>
                      <a:lnTo>
                        <a:pt x="505" y="103"/>
                      </a:lnTo>
                      <a:lnTo>
                        <a:pt x="503" y="101"/>
                      </a:lnTo>
                      <a:lnTo>
                        <a:pt x="501" y="100"/>
                      </a:lnTo>
                      <a:lnTo>
                        <a:pt x="500" y="100"/>
                      </a:lnTo>
                      <a:lnTo>
                        <a:pt x="499" y="98"/>
                      </a:lnTo>
                      <a:close/>
                      <a:moveTo>
                        <a:pt x="456" y="58"/>
                      </a:moveTo>
                      <a:lnTo>
                        <a:pt x="456" y="58"/>
                      </a:lnTo>
                      <a:cubicBezTo>
                        <a:pt x="451" y="56"/>
                        <a:pt x="447" y="56"/>
                        <a:pt x="446" y="60"/>
                      </a:cubicBezTo>
                      <a:cubicBezTo>
                        <a:pt x="443" y="63"/>
                        <a:pt x="444" y="67"/>
                        <a:pt x="447" y="70"/>
                      </a:cubicBezTo>
                      <a:lnTo>
                        <a:pt x="448" y="71"/>
                      </a:lnTo>
                      <a:lnTo>
                        <a:pt x="450" y="71"/>
                      </a:lnTo>
                      <a:lnTo>
                        <a:pt x="450" y="73"/>
                      </a:lnTo>
                      <a:lnTo>
                        <a:pt x="451" y="75"/>
                      </a:lnTo>
                      <a:lnTo>
                        <a:pt x="453" y="76"/>
                      </a:lnTo>
                      <a:lnTo>
                        <a:pt x="455" y="76"/>
                      </a:lnTo>
                      <a:lnTo>
                        <a:pt x="456" y="77"/>
                      </a:lnTo>
                      <a:lnTo>
                        <a:pt x="457" y="79"/>
                      </a:lnTo>
                      <a:cubicBezTo>
                        <a:pt x="460" y="82"/>
                        <a:pt x="464" y="80"/>
                        <a:pt x="468" y="77"/>
                      </a:cubicBezTo>
                      <a:cubicBezTo>
                        <a:pt x="471" y="75"/>
                        <a:pt x="471" y="70"/>
                        <a:pt x="466" y="67"/>
                      </a:cubicBezTo>
                      <a:lnTo>
                        <a:pt x="464" y="66"/>
                      </a:lnTo>
                      <a:lnTo>
                        <a:pt x="463" y="66"/>
                      </a:lnTo>
                      <a:lnTo>
                        <a:pt x="462" y="64"/>
                      </a:lnTo>
                      <a:lnTo>
                        <a:pt x="460" y="63"/>
                      </a:lnTo>
                      <a:lnTo>
                        <a:pt x="459" y="61"/>
                      </a:lnTo>
                      <a:lnTo>
                        <a:pt x="457" y="60"/>
                      </a:lnTo>
                      <a:lnTo>
                        <a:pt x="456" y="60"/>
                      </a:lnTo>
                      <a:lnTo>
                        <a:pt x="456" y="58"/>
                      </a:lnTo>
                      <a:close/>
                      <a:moveTo>
                        <a:pt x="404" y="28"/>
                      </a:moveTo>
                      <a:lnTo>
                        <a:pt x="404" y="28"/>
                      </a:lnTo>
                      <a:cubicBezTo>
                        <a:pt x="399" y="27"/>
                        <a:pt x="397" y="28"/>
                        <a:pt x="394" y="31"/>
                      </a:cubicBezTo>
                      <a:cubicBezTo>
                        <a:pt x="392" y="36"/>
                        <a:pt x="394" y="40"/>
                        <a:pt x="398" y="42"/>
                      </a:cubicBezTo>
                      <a:lnTo>
                        <a:pt x="399" y="42"/>
                      </a:lnTo>
                      <a:lnTo>
                        <a:pt x="401" y="43"/>
                      </a:lnTo>
                      <a:lnTo>
                        <a:pt x="403" y="43"/>
                      </a:lnTo>
                      <a:lnTo>
                        <a:pt x="404" y="45"/>
                      </a:lnTo>
                      <a:lnTo>
                        <a:pt x="407" y="46"/>
                      </a:lnTo>
                      <a:lnTo>
                        <a:pt x="408" y="46"/>
                      </a:lnTo>
                      <a:lnTo>
                        <a:pt x="410" y="48"/>
                      </a:lnTo>
                      <a:cubicBezTo>
                        <a:pt x="414" y="49"/>
                        <a:pt x="419" y="48"/>
                        <a:pt x="420" y="45"/>
                      </a:cubicBezTo>
                      <a:cubicBezTo>
                        <a:pt x="422" y="40"/>
                        <a:pt x="420" y="38"/>
                        <a:pt x="418" y="35"/>
                      </a:cubicBezTo>
                      <a:lnTo>
                        <a:pt x="416" y="35"/>
                      </a:lnTo>
                      <a:lnTo>
                        <a:pt x="414" y="33"/>
                      </a:lnTo>
                      <a:lnTo>
                        <a:pt x="413" y="33"/>
                      </a:lnTo>
                      <a:lnTo>
                        <a:pt x="411" y="31"/>
                      </a:lnTo>
                      <a:lnTo>
                        <a:pt x="410" y="31"/>
                      </a:lnTo>
                      <a:lnTo>
                        <a:pt x="408" y="30"/>
                      </a:lnTo>
                      <a:lnTo>
                        <a:pt x="406" y="30"/>
                      </a:lnTo>
                      <a:lnTo>
                        <a:pt x="404" y="28"/>
                      </a:lnTo>
                      <a:close/>
                      <a:moveTo>
                        <a:pt x="348" y="10"/>
                      </a:moveTo>
                      <a:lnTo>
                        <a:pt x="348" y="10"/>
                      </a:lnTo>
                      <a:cubicBezTo>
                        <a:pt x="343" y="7"/>
                        <a:pt x="341" y="11"/>
                        <a:pt x="339" y="14"/>
                      </a:cubicBezTo>
                      <a:cubicBezTo>
                        <a:pt x="337" y="18"/>
                        <a:pt x="341" y="23"/>
                        <a:pt x="345" y="23"/>
                      </a:cubicBezTo>
                      <a:lnTo>
                        <a:pt x="346" y="24"/>
                      </a:lnTo>
                      <a:lnTo>
                        <a:pt x="348" y="24"/>
                      </a:lnTo>
                      <a:lnTo>
                        <a:pt x="349" y="24"/>
                      </a:lnTo>
                      <a:lnTo>
                        <a:pt x="350" y="24"/>
                      </a:lnTo>
                      <a:lnTo>
                        <a:pt x="354" y="26"/>
                      </a:lnTo>
                      <a:lnTo>
                        <a:pt x="355" y="26"/>
                      </a:lnTo>
                      <a:lnTo>
                        <a:pt x="357" y="26"/>
                      </a:lnTo>
                      <a:lnTo>
                        <a:pt x="358" y="27"/>
                      </a:lnTo>
                      <a:cubicBezTo>
                        <a:pt x="362" y="27"/>
                        <a:pt x="366" y="26"/>
                        <a:pt x="367" y="21"/>
                      </a:cubicBezTo>
                      <a:cubicBezTo>
                        <a:pt x="369" y="18"/>
                        <a:pt x="366" y="14"/>
                        <a:pt x="362" y="12"/>
                      </a:cubicBezTo>
                      <a:lnTo>
                        <a:pt x="359" y="12"/>
                      </a:lnTo>
                      <a:lnTo>
                        <a:pt x="358" y="12"/>
                      </a:lnTo>
                      <a:lnTo>
                        <a:pt x="357" y="11"/>
                      </a:lnTo>
                      <a:lnTo>
                        <a:pt x="355" y="11"/>
                      </a:lnTo>
                      <a:lnTo>
                        <a:pt x="354" y="11"/>
                      </a:lnTo>
                      <a:lnTo>
                        <a:pt x="352" y="10"/>
                      </a:lnTo>
                      <a:lnTo>
                        <a:pt x="349" y="10"/>
                      </a:lnTo>
                      <a:lnTo>
                        <a:pt x="348" y="10"/>
                      </a:lnTo>
                      <a:close/>
                      <a:moveTo>
                        <a:pt x="289" y="0"/>
                      </a:moveTo>
                      <a:lnTo>
                        <a:pt x="289" y="0"/>
                      </a:lnTo>
                      <a:cubicBezTo>
                        <a:pt x="285" y="0"/>
                        <a:pt x="281" y="3"/>
                        <a:pt x="281" y="7"/>
                      </a:cubicBezTo>
                      <a:cubicBezTo>
                        <a:pt x="281" y="12"/>
                        <a:pt x="284" y="15"/>
                        <a:pt x="289" y="15"/>
                      </a:cubicBezTo>
                      <a:lnTo>
                        <a:pt x="290" y="15"/>
                      </a:lnTo>
                      <a:lnTo>
                        <a:pt x="292" y="15"/>
                      </a:lnTo>
                      <a:lnTo>
                        <a:pt x="293" y="15"/>
                      </a:lnTo>
                      <a:lnTo>
                        <a:pt x="294" y="15"/>
                      </a:lnTo>
                      <a:lnTo>
                        <a:pt x="297" y="15"/>
                      </a:lnTo>
                      <a:lnTo>
                        <a:pt x="299" y="15"/>
                      </a:lnTo>
                      <a:lnTo>
                        <a:pt x="301" y="17"/>
                      </a:lnTo>
                      <a:lnTo>
                        <a:pt x="302" y="17"/>
                      </a:lnTo>
                      <a:cubicBezTo>
                        <a:pt x="306" y="17"/>
                        <a:pt x="310" y="14"/>
                        <a:pt x="310" y="10"/>
                      </a:cubicBezTo>
                      <a:cubicBezTo>
                        <a:pt x="310" y="6"/>
                        <a:pt x="308" y="2"/>
                        <a:pt x="303" y="2"/>
                      </a:cubicBezTo>
                      <a:lnTo>
                        <a:pt x="302" y="2"/>
                      </a:lnTo>
                      <a:lnTo>
                        <a:pt x="299" y="2"/>
                      </a:lnTo>
                      <a:lnTo>
                        <a:pt x="297" y="2"/>
                      </a:lnTo>
                      <a:lnTo>
                        <a:pt x="296" y="0"/>
                      </a:lnTo>
                      <a:lnTo>
                        <a:pt x="294" y="0"/>
                      </a:lnTo>
                      <a:lnTo>
                        <a:pt x="293" y="0"/>
                      </a:lnTo>
                      <a:lnTo>
                        <a:pt x="290" y="0"/>
                      </a:lnTo>
                      <a:lnTo>
                        <a:pt x="289" y="0"/>
                      </a:lnTo>
                      <a:close/>
                      <a:moveTo>
                        <a:pt x="229" y="5"/>
                      </a:moveTo>
                      <a:lnTo>
                        <a:pt x="229" y="5"/>
                      </a:lnTo>
                      <a:cubicBezTo>
                        <a:pt x="227" y="5"/>
                        <a:pt x="223" y="7"/>
                        <a:pt x="223" y="12"/>
                      </a:cubicBezTo>
                      <a:cubicBezTo>
                        <a:pt x="225" y="17"/>
                        <a:pt x="228" y="19"/>
                        <a:pt x="232" y="18"/>
                      </a:cubicBezTo>
                      <a:lnTo>
                        <a:pt x="234" y="18"/>
                      </a:lnTo>
                      <a:lnTo>
                        <a:pt x="235" y="18"/>
                      </a:lnTo>
                      <a:lnTo>
                        <a:pt x="238" y="18"/>
                      </a:lnTo>
                      <a:lnTo>
                        <a:pt x="240" y="18"/>
                      </a:lnTo>
                      <a:lnTo>
                        <a:pt x="241" y="17"/>
                      </a:lnTo>
                      <a:lnTo>
                        <a:pt x="243" y="17"/>
                      </a:lnTo>
                      <a:lnTo>
                        <a:pt x="244" y="17"/>
                      </a:lnTo>
                      <a:lnTo>
                        <a:pt x="245" y="17"/>
                      </a:lnTo>
                      <a:cubicBezTo>
                        <a:pt x="250" y="17"/>
                        <a:pt x="253" y="12"/>
                        <a:pt x="253" y="10"/>
                      </a:cubicBezTo>
                      <a:cubicBezTo>
                        <a:pt x="252" y="5"/>
                        <a:pt x="248" y="2"/>
                        <a:pt x="244" y="2"/>
                      </a:cubicBezTo>
                      <a:lnTo>
                        <a:pt x="243" y="2"/>
                      </a:lnTo>
                      <a:lnTo>
                        <a:pt x="241" y="3"/>
                      </a:lnTo>
                      <a:lnTo>
                        <a:pt x="240" y="3"/>
                      </a:lnTo>
                      <a:lnTo>
                        <a:pt x="237" y="3"/>
                      </a:lnTo>
                      <a:lnTo>
                        <a:pt x="235" y="3"/>
                      </a:lnTo>
                      <a:lnTo>
                        <a:pt x="234" y="3"/>
                      </a:lnTo>
                      <a:lnTo>
                        <a:pt x="232" y="3"/>
                      </a:lnTo>
                      <a:lnTo>
                        <a:pt x="229" y="5"/>
                      </a:lnTo>
                      <a:close/>
                      <a:moveTo>
                        <a:pt x="187" y="14"/>
                      </a:moveTo>
                      <a:lnTo>
                        <a:pt x="191" y="28"/>
                      </a:lnTo>
                      <a:lnTo>
                        <a:pt x="187" y="14"/>
                      </a:lnTo>
                      <a:close/>
                      <a:moveTo>
                        <a:pt x="173" y="19"/>
                      </a:moveTo>
                      <a:lnTo>
                        <a:pt x="173" y="19"/>
                      </a:lnTo>
                      <a:cubicBezTo>
                        <a:pt x="168" y="21"/>
                        <a:pt x="167" y="24"/>
                        <a:pt x="168" y="28"/>
                      </a:cubicBezTo>
                      <a:cubicBezTo>
                        <a:pt x="170" y="33"/>
                        <a:pt x="173" y="35"/>
                        <a:pt x="178" y="33"/>
                      </a:cubicBezTo>
                      <a:lnTo>
                        <a:pt x="179" y="33"/>
                      </a:lnTo>
                      <a:lnTo>
                        <a:pt x="180" y="31"/>
                      </a:lnTo>
                      <a:lnTo>
                        <a:pt x="182" y="31"/>
                      </a:lnTo>
                      <a:lnTo>
                        <a:pt x="183" y="30"/>
                      </a:lnTo>
                      <a:lnTo>
                        <a:pt x="185" y="30"/>
                      </a:lnTo>
                      <a:lnTo>
                        <a:pt x="188" y="30"/>
                      </a:lnTo>
                      <a:lnTo>
                        <a:pt x="189" y="28"/>
                      </a:lnTo>
                      <a:lnTo>
                        <a:pt x="191" y="28"/>
                      </a:lnTo>
                      <a:cubicBezTo>
                        <a:pt x="195" y="27"/>
                        <a:pt x="196" y="23"/>
                        <a:pt x="195" y="19"/>
                      </a:cubicBezTo>
                      <a:cubicBezTo>
                        <a:pt x="194" y="15"/>
                        <a:pt x="191" y="14"/>
                        <a:pt x="187" y="14"/>
                      </a:cubicBezTo>
                      <a:lnTo>
                        <a:pt x="185" y="15"/>
                      </a:lnTo>
                      <a:lnTo>
                        <a:pt x="183" y="15"/>
                      </a:lnTo>
                      <a:lnTo>
                        <a:pt x="180" y="17"/>
                      </a:lnTo>
                      <a:lnTo>
                        <a:pt x="179" y="17"/>
                      </a:lnTo>
                      <a:lnTo>
                        <a:pt x="178" y="17"/>
                      </a:lnTo>
                      <a:lnTo>
                        <a:pt x="176" y="18"/>
                      </a:lnTo>
                      <a:lnTo>
                        <a:pt x="175" y="18"/>
                      </a:lnTo>
                      <a:lnTo>
                        <a:pt x="173" y="19"/>
                      </a:lnTo>
                      <a:close/>
                      <a:moveTo>
                        <a:pt x="119" y="45"/>
                      </a:moveTo>
                      <a:lnTo>
                        <a:pt x="119" y="45"/>
                      </a:lnTo>
                      <a:cubicBezTo>
                        <a:pt x="115" y="48"/>
                        <a:pt x="114" y="52"/>
                        <a:pt x="117" y="55"/>
                      </a:cubicBezTo>
                      <a:cubicBezTo>
                        <a:pt x="118" y="58"/>
                        <a:pt x="123" y="60"/>
                        <a:pt x="127" y="58"/>
                      </a:cubicBezTo>
                      <a:lnTo>
                        <a:pt x="127" y="56"/>
                      </a:lnTo>
                      <a:lnTo>
                        <a:pt x="129" y="56"/>
                      </a:lnTo>
                      <a:lnTo>
                        <a:pt x="130" y="55"/>
                      </a:lnTo>
                      <a:lnTo>
                        <a:pt x="131" y="54"/>
                      </a:lnTo>
                      <a:lnTo>
                        <a:pt x="133" y="54"/>
                      </a:lnTo>
                      <a:lnTo>
                        <a:pt x="136" y="52"/>
                      </a:lnTo>
                      <a:lnTo>
                        <a:pt x="138" y="51"/>
                      </a:lnTo>
                      <a:lnTo>
                        <a:pt x="139" y="51"/>
                      </a:lnTo>
                      <a:cubicBezTo>
                        <a:pt x="142" y="48"/>
                        <a:pt x="143" y="45"/>
                        <a:pt x="142" y="40"/>
                      </a:cubicBezTo>
                      <a:cubicBezTo>
                        <a:pt x="140" y="38"/>
                        <a:pt x="136" y="36"/>
                        <a:pt x="131" y="38"/>
                      </a:cubicBezTo>
                      <a:lnTo>
                        <a:pt x="130" y="39"/>
                      </a:lnTo>
                      <a:lnTo>
                        <a:pt x="129" y="40"/>
                      </a:lnTo>
                      <a:lnTo>
                        <a:pt x="127" y="40"/>
                      </a:lnTo>
                      <a:lnTo>
                        <a:pt x="124" y="42"/>
                      </a:lnTo>
                      <a:lnTo>
                        <a:pt x="123" y="42"/>
                      </a:lnTo>
                      <a:lnTo>
                        <a:pt x="121" y="43"/>
                      </a:lnTo>
                      <a:lnTo>
                        <a:pt x="119" y="45"/>
                      </a:lnTo>
                      <a:close/>
                      <a:moveTo>
                        <a:pt x="73" y="80"/>
                      </a:moveTo>
                      <a:lnTo>
                        <a:pt x="73" y="80"/>
                      </a:lnTo>
                      <a:cubicBezTo>
                        <a:pt x="69" y="83"/>
                        <a:pt x="68" y="88"/>
                        <a:pt x="70" y="91"/>
                      </a:cubicBezTo>
                      <a:cubicBezTo>
                        <a:pt x="74" y="94"/>
                        <a:pt x="78" y="94"/>
                        <a:pt x="81" y="92"/>
                      </a:cubicBezTo>
                      <a:lnTo>
                        <a:pt x="82" y="91"/>
                      </a:lnTo>
                      <a:lnTo>
                        <a:pt x="84" y="89"/>
                      </a:lnTo>
                      <a:lnTo>
                        <a:pt x="86" y="88"/>
                      </a:lnTo>
                      <a:lnTo>
                        <a:pt x="87" y="87"/>
                      </a:lnTo>
                      <a:lnTo>
                        <a:pt x="89" y="85"/>
                      </a:lnTo>
                      <a:lnTo>
                        <a:pt x="90" y="83"/>
                      </a:lnTo>
                      <a:lnTo>
                        <a:pt x="91" y="82"/>
                      </a:lnTo>
                      <a:cubicBezTo>
                        <a:pt x="94" y="80"/>
                        <a:pt x="96" y="75"/>
                        <a:pt x="93" y="71"/>
                      </a:cubicBezTo>
                      <a:cubicBezTo>
                        <a:pt x="90" y="68"/>
                        <a:pt x="86" y="68"/>
                        <a:pt x="82" y="71"/>
                      </a:cubicBezTo>
                      <a:lnTo>
                        <a:pt x="81" y="73"/>
                      </a:lnTo>
                      <a:lnTo>
                        <a:pt x="80" y="73"/>
                      </a:lnTo>
                      <a:lnTo>
                        <a:pt x="78" y="75"/>
                      </a:lnTo>
                      <a:lnTo>
                        <a:pt x="77" y="76"/>
                      </a:lnTo>
                      <a:lnTo>
                        <a:pt x="75" y="77"/>
                      </a:lnTo>
                      <a:lnTo>
                        <a:pt x="74" y="79"/>
                      </a:lnTo>
                      <a:lnTo>
                        <a:pt x="73" y="80"/>
                      </a:lnTo>
                      <a:close/>
                      <a:moveTo>
                        <a:pt x="32" y="125"/>
                      </a:moveTo>
                      <a:lnTo>
                        <a:pt x="32" y="125"/>
                      </a:lnTo>
                      <a:cubicBezTo>
                        <a:pt x="29" y="128"/>
                        <a:pt x="31" y="133"/>
                        <a:pt x="34" y="135"/>
                      </a:cubicBezTo>
                      <a:cubicBezTo>
                        <a:pt x="37" y="138"/>
                        <a:pt x="41" y="137"/>
                        <a:pt x="44" y="133"/>
                      </a:cubicBezTo>
                      <a:lnTo>
                        <a:pt x="44" y="132"/>
                      </a:lnTo>
                      <a:lnTo>
                        <a:pt x="45" y="131"/>
                      </a:lnTo>
                      <a:lnTo>
                        <a:pt x="47" y="129"/>
                      </a:lnTo>
                      <a:lnTo>
                        <a:pt x="47" y="128"/>
                      </a:lnTo>
                      <a:lnTo>
                        <a:pt x="49" y="126"/>
                      </a:lnTo>
                      <a:lnTo>
                        <a:pt x="50" y="126"/>
                      </a:lnTo>
                      <a:lnTo>
                        <a:pt x="52" y="125"/>
                      </a:lnTo>
                      <a:lnTo>
                        <a:pt x="52" y="124"/>
                      </a:lnTo>
                      <a:lnTo>
                        <a:pt x="53" y="122"/>
                      </a:lnTo>
                      <a:cubicBezTo>
                        <a:pt x="54" y="119"/>
                        <a:pt x="54" y="115"/>
                        <a:pt x="52" y="113"/>
                      </a:cubicBezTo>
                      <a:cubicBezTo>
                        <a:pt x="49" y="110"/>
                        <a:pt x="44" y="110"/>
                        <a:pt x="41" y="113"/>
                      </a:cubicBezTo>
                      <a:lnTo>
                        <a:pt x="41" y="115"/>
                      </a:lnTo>
                      <a:lnTo>
                        <a:pt x="40" y="116"/>
                      </a:lnTo>
                      <a:lnTo>
                        <a:pt x="38" y="117"/>
                      </a:lnTo>
                      <a:lnTo>
                        <a:pt x="37" y="117"/>
                      </a:lnTo>
                      <a:lnTo>
                        <a:pt x="37" y="119"/>
                      </a:lnTo>
                      <a:lnTo>
                        <a:pt x="36" y="120"/>
                      </a:lnTo>
                      <a:lnTo>
                        <a:pt x="34" y="122"/>
                      </a:lnTo>
                      <a:lnTo>
                        <a:pt x="32" y="124"/>
                      </a:lnTo>
                      <a:lnTo>
                        <a:pt x="32" y="125"/>
                      </a:lnTo>
                      <a:close/>
                      <a:moveTo>
                        <a:pt x="3" y="177"/>
                      </a:moveTo>
                      <a:lnTo>
                        <a:pt x="3" y="177"/>
                      </a:lnTo>
                      <a:cubicBezTo>
                        <a:pt x="0" y="180"/>
                        <a:pt x="3" y="184"/>
                        <a:pt x="5" y="185"/>
                      </a:cubicBezTo>
                      <a:cubicBezTo>
                        <a:pt x="9" y="189"/>
                        <a:pt x="13" y="185"/>
                        <a:pt x="16" y="182"/>
                      </a:cubicBezTo>
                      <a:lnTo>
                        <a:pt x="16" y="181"/>
                      </a:lnTo>
                      <a:lnTo>
                        <a:pt x="17" y="178"/>
                      </a:lnTo>
                      <a:lnTo>
                        <a:pt x="17" y="177"/>
                      </a:lnTo>
                      <a:lnTo>
                        <a:pt x="19" y="175"/>
                      </a:lnTo>
                      <a:lnTo>
                        <a:pt x="19" y="174"/>
                      </a:lnTo>
                      <a:lnTo>
                        <a:pt x="20" y="172"/>
                      </a:lnTo>
                      <a:lnTo>
                        <a:pt x="20" y="170"/>
                      </a:lnTo>
                      <a:lnTo>
                        <a:pt x="22" y="169"/>
                      </a:lnTo>
                      <a:cubicBezTo>
                        <a:pt x="24" y="166"/>
                        <a:pt x="22" y="162"/>
                        <a:pt x="19" y="160"/>
                      </a:cubicBezTo>
                      <a:cubicBezTo>
                        <a:pt x="15" y="159"/>
                        <a:pt x="10" y="159"/>
                        <a:pt x="9" y="164"/>
                      </a:cubicBezTo>
                      <a:lnTo>
                        <a:pt x="9" y="165"/>
                      </a:lnTo>
                      <a:lnTo>
                        <a:pt x="7" y="166"/>
                      </a:lnTo>
                      <a:lnTo>
                        <a:pt x="5" y="168"/>
                      </a:lnTo>
                      <a:lnTo>
                        <a:pt x="5" y="169"/>
                      </a:lnTo>
                      <a:lnTo>
                        <a:pt x="4" y="170"/>
                      </a:lnTo>
                      <a:lnTo>
                        <a:pt x="4" y="172"/>
                      </a:lnTo>
                      <a:lnTo>
                        <a:pt x="3" y="174"/>
                      </a:lnTo>
                      <a:lnTo>
                        <a:pt x="3" y="175"/>
                      </a:lnTo>
                      <a:lnTo>
                        <a:pt x="3" y="177"/>
                      </a:lnTo>
                      <a:close/>
                      <a:moveTo>
                        <a:pt x="265" y="606"/>
                      </a:moveTo>
                      <a:lnTo>
                        <a:pt x="265" y="606"/>
                      </a:lnTo>
                      <a:cubicBezTo>
                        <a:pt x="269" y="606"/>
                        <a:pt x="272" y="603"/>
                        <a:pt x="272" y="599"/>
                      </a:cubicBezTo>
                      <a:cubicBezTo>
                        <a:pt x="272" y="596"/>
                        <a:pt x="269" y="591"/>
                        <a:pt x="265" y="591"/>
                      </a:cubicBezTo>
                      <a:lnTo>
                        <a:pt x="264" y="591"/>
                      </a:lnTo>
                      <a:lnTo>
                        <a:pt x="260" y="591"/>
                      </a:lnTo>
                      <a:lnTo>
                        <a:pt x="259" y="591"/>
                      </a:lnTo>
                      <a:lnTo>
                        <a:pt x="257" y="591"/>
                      </a:lnTo>
                      <a:lnTo>
                        <a:pt x="256" y="591"/>
                      </a:lnTo>
                      <a:lnTo>
                        <a:pt x="255" y="591"/>
                      </a:lnTo>
                      <a:lnTo>
                        <a:pt x="252" y="591"/>
                      </a:lnTo>
                      <a:lnTo>
                        <a:pt x="252" y="590"/>
                      </a:lnTo>
                      <a:cubicBezTo>
                        <a:pt x="247" y="590"/>
                        <a:pt x="244" y="593"/>
                        <a:pt x="244" y="597"/>
                      </a:cubicBezTo>
                      <a:cubicBezTo>
                        <a:pt x="243" y="601"/>
                        <a:pt x="245" y="604"/>
                        <a:pt x="250" y="604"/>
                      </a:cubicBezTo>
                      <a:lnTo>
                        <a:pt x="252" y="604"/>
                      </a:lnTo>
                      <a:lnTo>
                        <a:pt x="253" y="604"/>
                      </a:lnTo>
                      <a:lnTo>
                        <a:pt x="255" y="604"/>
                      </a:lnTo>
                      <a:lnTo>
                        <a:pt x="256" y="606"/>
                      </a:lnTo>
                      <a:lnTo>
                        <a:pt x="259" y="606"/>
                      </a:lnTo>
                      <a:lnTo>
                        <a:pt x="260" y="606"/>
                      </a:lnTo>
                      <a:lnTo>
                        <a:pt x="261" y="606"/>
                      </a:lnTo>
                      <a:lnTo>
                        <a:pt x="264" y="606"/>
                      </a:lnTo>
                      <a:lnTo>
                        <a:pt x="265" y="606"/>
                      </a:lnTo>
                      <a:close/>
                      <a:moveTo>
                        <a:pt x="324" y="603"/>
                      </a:moveTo>
                      <a:lnTo>
                        <a:pt x="324" y="603"/>
                      </a:lnTo>
                      <a:cubicBezTo>
                        <a:pt x="329" y="601"/>
                        <a:pt x="331" y="599"/>
                        <a:pt x="330" y="594"/>
                      </a:cubicBezTo>
                      <a:cubicBezTo>
                        <a:pt x="330" y="590"/>
                        <a:pt x="325" y="588"/>
                        <a:pt x="322" y="588"/>
                      </a:cubicBezTo>
                      <a:lnTo>
                        <a:pt x="320" y="588"/>
                      </a:lnTo>
                      <a:lnTo>
                        <a:pt x="318" y="588"/>
                      </a:lnTo>
                      <a:lnTo>
                        <a:pt x="317" y="588"/>
                      </a:lnTo>
                      <a:lnTo>
                        <a:pt x="315" y="590"/>
                      </a:lnTo>
                      <a:lnTo>
                        <a:pt x="314" y="590"/>
                      </a:lnTo>
                      <a:lnTo>
                        <a:pt x="310" y="590"/>
                      </a:lnTo>
                      <a:lnTo>
                        <a:pt x="309" y="590"/>
                      </a:lnTo>
                      <a:lnTo>
                        <a:pt x="308" y="590"/>
                      </a:lnTo>
                      <a:cubicBezTo>
                        <a:pt x="303" y="590"/>
                        <a:pt x="301" y="594"/>
                        <a:pt x="302" y="599"/>
                      </a:cubicBezTo>
                      <a:cubicBezTo>
                        <a:pt x="302" y="601"/>
                        <a:pt x="305" y="604"/>
                        <a:pt x="309" y="604"/>
                      </a:cubicBezTo>
                      <a:lnTo>
                        <a:pt x="310" y="604"/>
                      </a:lnTo>
                      <a:lnTo>
                        <a:pt x="314" y="604"/>
                      </a:lnTo>
                      <a:lnTo>
                        <a:pt x="315" y="603"/>
                      </a:lnTo>
                      <a:lnTo>
                        <a:pt x="317" y="603"/>
                      </a:lnTo>
                      <a:lnTo>
                        <a:pt x="318" y="603"/>
                      </a:lnTo>
                      <a:lnTo>
                        <a:pt x="321" y="603"/>
                      </a:lnTo>
                      <a:lnTo>
                        <a:pt x="322" y="603"/>
                      </a:lnTo>
                      <a:lnTo>
                        <a:pt x="324" y="603"/>
                      </a:lnTo>
                      <a:close/>
                      <a:moveTo>
                        <a:pt x="382" y="588"/>
                      </a:moveTo>
                      <a:lnTo>
                        <a:pt x="382" y="588"/>
                      </a:lnTo>
                      <a:cubicBezTo>
                        <a:pt x="385" y="587"/>
                        <a:pt x="387" y="583"/>
                        <a:pt x="386" y="578"/>
                      </a:cubicBezTo>
                      <a:cubicBezTo>
                        <a:pt x="385" y="575"/>
                        <a:pt x="380" y="572"/>
                        <a:pt x="376" y="573"/>
                      </a:cubicBezTo>
                      <a:lnTo>
                        <a:pt x="376" y="575"/>
                      </a:lnTo>
                      <a:lnTo>
                        <a:pt x="374" y="575"/>
                      </a:lnTo>
                      <a:lnTo>
                        <a:pt x="371" y="575"/>
                      </a:lnTo>
                      <a:lnTo>
                        <a:pt x="370" y="576"/>
                      </a:lnTo>
                      <a:lnTo>
                        <a:pt x="369" y="576"/>
                      </a:lnTo>
                      <a:lnTo>
                        <a:pt x="367" y="578"/>
                      </a:lnTo>
                      <a:lnTo>
                        <a:pt x="366" y="578"/>
                      </a:lnTo>
                      <a:lnTo>
                        <a:pt x="364" y="578"/>
                      </a:lnTo>
                      <a:lnTo>
                        <a:pt x="362" y="578"/>
                      </a:lnTo>
                      <a:cubicBezTo>
                        <a:pt x="359" y="579"/>
                        <a:pt x="357" y="584"/>
                        <a:pt x="358" y="588"/>
                      </a:cubicBezTo>
                      <a:cubicBezTo>
                        <a:pt x="359" y="591"/>
                        <a:pt x="364" y="594"/>
                        <a:pt x="367" y="593"/>
                      </a:cubicBezTo>
                      <a:lnTo>
                        <a:pt x="369" y="593"/>
                      </a:lnTo>
                      <a:lnTo>
                        <a:pt x="370" y="591"/>
                      </a:lnTo>
                      <a:lnTo>
                        <a:pt x="371" y="591"/>
                      </a:lnTo>
                      <a:lnTo>
                        <a:pt x="373" y="591"/>
                      </a:lnTo>
                      <a:lnTo>
                        <a:pt x="374" y="590"/>
                      </a:lnTo>
                      <a:lnTo>
                        <a:pt x="378" y="590"/>
                      </a:lnTo>
                      <a:lnTo>
                        <a:pt x="379" y="588"/>
                      </a:lnTo>
                      <a:lnTo>
                        <a:pt x="380" y="588"/>
                      </a:lnTo>
                      <a:lnTo>
                        <a:pt x="382" y="588"/>
                      </a:lnTo>
                      <a:close/>
                      <a:moveTo>
                        <a:pt x="435" y="562"/>
                      </a:moveTo>
                      <a:lnTo>
                        <a:pt x="435" y="562"/>
                      </a:lnTo>
                      <a:cubicBezTo>
                        <a:pt x="438" y="560"/>
                        <a:pt x="439" y="556"/>
                        <a:pt x="438" y="551"/>
                      </a:cubicBezTo>
                      <a:cubicBezTo>
                        <a:pt x="435" y="548"/>
                        <a:pt x="431" y="547"/>
                        <a:pt x="428" y="550"/>
                      </a:cubicBezTo>
                      <a:lnTo>
                        <a:pt x="426" y="550"/>
                      </a:lnTo>
                      <a:lnTo>
                        <a:pt x="425" y="551"/>
                      </a:lnTo>
                      <a:lnTo>
                        <a:pt x="423" y="551"/>
                      </a:lnTo>
                      <a:lnTo>
                        <a:pt x="422" y="552"/>
                      </a:lnTo>
                      <a:lnTo>
                        <a:pt x="420" y="552"/>
                      </a:lnTo>
                      <a:lnTo>
                        <a:pt x="419" y="555"/>
                      </a:lnTo>
                      <a:lnTo>
                        <a:pt x="418" y="556"/>
                      </a:lnTo>
                      <a:lnTo>
                        <a:pt x="416" y="556"/>
                      </a:lnTo>
                      <a:cubicBezTo>
                        <a:pt x="411" y="559"/>
                        <a:pt x="410" y="563"/>
                        <a:pt x="413" y="566"/>
                      </a:cubicBezTo>
                      <a:cubicBezTo>
                        <a:pt x="414" y="569"/>
                        <a:pt x="419" y="571"/>
                        <a:pt x="422" y="569"/>
                      </a:cubicBezTo>
                      <a:lnTo>
                        <a:pt x="425" y="568"/>
                      </a:lnTo>
                      <a:lnTo>
                        <a:pt x="426" y="568"/>
                      </a:lnTo>
                      <a:lnTo>
                        <a:pt x="428" y="566"/>
                      </a:lnTo>
                      <a:lnTo>
                        <a:pt x="429" y="564"/>
                      </a:lnTo>
                      <a:lnTo>
                        <a:pt x="431" y="564"/>
                      </a:lnTo>
                      <a:lnTo>
                        <a:pt x="432" y="563"/>
                      </a:lnTo>
                      <a:lnTo>
                        <a:pt x="434" y="562"/>
                      </a:lnTo>
                      <a:lnTo>
                        <a:pt x="435" y="562"/>
                      </a:lnTo>
                      <a:close/>
                      <a:moveTo>
                        <a:pt x="483" y="526"/>
                      </a:moveTo>
                      <a:lnTo>
                        <a:pt x="483" y="526"/>
                      </a:lnTo>
                      <a:cubicBezTo>
                        <a:pt x="485" y="523"/>
                        <a:pt x="485" y="519"/>
                        <a:pt x="483" y="515"/>
                      </a:cubicBezTo>
                      <a:cubicBezTo>
                        <a:pt x="480" y="513"/>
                        <a:pt x="475" y="513"/>
                        <a:pt x="472" y="515"/>
                      </a:cubicBezTo>
                      <a:lnTo>
                        <a:pt x="471" y="518"/>
                      </a:lnTo>
                      <a:lnTo>
                        <a:pt x="469" y="519"/>
                      </a:lnTo>
                      <a:lnTo>
                        <a:pt x="468" y="520"/>
                      </a:lnTo>
                      <a:lnTo>
                        <a:pt x="466" y="520"/>
                      </a:lnTo>
                      <a:lnTo>
                        <a:pt x="464" y="522"/>
                      </a:lnTo>
                      <a:lnTo>
                        <a:pt x="463" y="523"/>
                      </a:lnTo>
                      <a:lnTo>
                        <a:pt x="462" y="525"/>
                      </a:lnTo>
                      <a:cubicBezTo>
                        <a:pt x="459" y="527"/>
                        <a:pt x="459" y="532"/>
                        <a:pt x="460" y="535"/>
                      </a:cubicBezTo>
                      <a:cubicBezTo>
                        <a:pt x="463" y="538"/>
                        <a:pt x="468" y="538"/>
                        <a:pt x="471" y="536"/>
                      </a:cubicBezTo>
                      <a:lnTo>
                        <a:pt x="472" y="535"/>
                      </a:lnTo>
                      <a:lnTo>
                        <a:pt x="473" y="534"/>
                      </a:lnTo>
                      <a:lnTo>
                        <a:pt x="475" y="534"/>
                      </a:lnTo>
                      <a:lnTo>
                        <a:pt x="476" y="532"/>
                      </a:lnTo>
                      <a:lnTo>
                        <a:pt x="478" y="531"/>
                      </a:lnTo>
                      <a:lnTo>
                        <a:pt x="478" y="529"/>
                      </a:lnTo>
                      <a:lnTo>
                        <a:pt x="480" y="527"/>
                      </a:lnTo>
                      <a:lnTo>
                        <a:pt x="481" y="526"/>
                      </a:lnTo>
                      <a:lnTo>
                        <a:pt x="483" y="526"/>
                      </a:lnTo>
                      <a:close/>
                      <a:moveTo>
                        <a:pt x="522" y="482"/>
                      </a:moveTo>
                      <a:lnTo>
                        <a:pt x="522" y="482"/>
                      </a:lnTo>
                      <a:cubicBezTo>
                        <a:pt x="524" y="479"/>
                        <a:pt x="524" y="474"/>
                        <a:pt x="521" y="471"/>
                      </a:cubicBezTo>
                      <a:cubicBezTo>
                        <a:pt x="517" y="470"/>
                        <a:pt x="512" y="470"/>
                        <a:pt x="511" y="473"/>
                      </a:cubicBezTo>
                      <a:lnTo>
                        <a:pt x="509" y="474"/>
                      </a:lnTo>
                      <a:lnTo>
                        <a:pt x="508" y="476"/>
                      </a:lnTo>
                      <a:lnTo>
                        <a:pt x="508" y="477"/>
                      </a:lnTo>
                      <a:lnTo>
                        <a:pt x="506" y="479"/>
                      </a:lnTo>
                      <a:lnTo>
                        <a:pt x="505" y="480"/>
                      </a:lnTo>
                      <a:lnTo>
                        <a:pt x="505" y="482"/>
                      </a:lnTo>
                      <a:lnTo>
                        <a:pt x="503" y="483"/>
                      </a:lnTo>
                      <a:lnTo>
                        <a:pt x="501" y="483"/>
                      </a:lnTo>
                      <a:lnTo>
                        <a:pt x="501" y="485"/>
                      </a:lnTo>
                      <a:cubicBezTo>
                        <a:pt x="499" y="487"/>
                        <a:pt x="499" y="492"/>
                        <a:pt x="503" y="495"/>
                      </a:cubicBezTo>
                      <a:cubicBezTo>
                        <a:pt x="506" y="497"/>
                        <a:pt x="511" y="497"/>
                        <a:pt x="512" y="494"/>
                      </a:cubicBezTo>
                      <a:lnTo>
                        <a:pt x="513" y="494"/>
                      </a:lnTo>
                      <a:lnTo>
                        <a:pt x="515" y="492"/>
                      </a:lnTo>
                      <a:lnTo>
                        <a:pt x="515" y="490"/>
                      </a:lnTo>
                      <a:lnTo>
                        <a:pt x="517" y="489"/>
                      </a:lnTo>
                      <a:lnTo>
                        <a:pt x="518" y="487"/>
                      </a:lnTo>
                      <a:lnTo>
                        <a:pt x="520" y="486"/>
                      </a:lnTo>
                      <a:lnTo>
                        <a:pt x="520" y="485"/>
                      </a:lnTo>
                      <a:lnTo>
                        <a:pt x="521" y="483"/>
                      </a:lnTo>
                      <a:lnTo>
                        <a:pt x="522" y="482"/>
                      </a:lnTo>
                      <a:close/>
                      <a:moveTo>
                        <a:pt x="552" y="430"/>
                      </a:moveTo>
                      <a:lnTo>
                        <a:pt x="552" y="430"/>
                      </a:lnTo>
                      <a:cubicBezTo>
                        <a:pt x="553" y="427"/>
                        <a:pt x="552" y="422"/>
                        <a:pt x="548" y="421"/>
                      </a:cubicBezTo>
                      <a:cubicBezTo>
                        <a:pt x="545" y="420"/>
                        <a:pt x="540" y="421"/>
                        <a:pt x="539" y="424"/>
                      </a:cubicBezTo>
                      <a:lnTo>
                        <a:pt x="539" y="425"/>
                      </a:lnTo>
                      <a:lnTo>
                        <a:pt x="537" y="427"/>
                      </a:lnTo>
                      <a:lnTo>
                        <a:pt x="537" y="429"/>
                      </a:lnTo>
                      <a:lnTo>
                        <a:pt x="536" y="430"/>
                      </a:lnTo>
                      <a:lnTo>
                        <a:pt x="536" y="431"/>
                      </a:lnTo>
                      <a:lnTo>
                        <a:pt x="534" y="433"/>
                      </a:lnTo>
                      <a:lnTo>
                        <a:pt x="534" y="434"/>
                      </a:lnTo>
                      <a:lnTo>
                        <a:pt x="533" y="436"/>
                      </a:lnTo>
                      <a:lnTo>
                        <a:pt x="533" y="437"/>
                      </a:lnTo>
                      <a:cubicBezTo>
                        <a:pt x="530" y="441"/>
                        <a:pt x="532" y="445"/>
                        <a:pt x="536" y="448"/>
                      </a:cubicBezTo>
                      <a:cubicBezTo>
                        <a:pt x="539" y="449"/>
                        <a:pt x="543" y="448"/>
                        <a:pt x="545" y="443"/>
                      </a:cubicBezTo>
                      <a:lnTo>
                        <a:pt x="546" y="442"/>
                      </a:lnTo>
                      <a:lnTo>
                        <a:pt x="548" y="441"/>
                      </a:lnTo>
                      <a:lnTo>
                        <a:pt x="548" y="438"/>
                      </a:lnTo>
                      <a:lnTo>
                        <a:pt x="549" y="437"/>
                      </a:lnTo>
                      <a:lnTo>
                        <a:pt x="549" y="436"/>
                      </a:lnTo>
                      <a:lnTo>
                        <a:pt x="550" y="434"/>
                      </a:lnTo>
                      <a:lnTo>
                        <a:pt x="550" y="433"/>
                      </a:lnTo>
                      <a:lnTo>
                        <a:pt x="552" y="431"/>
                      </a:lnTo>
                      <a:lnTo>
                        <a:pt x="552" y="430"/>
                      </a:lnTo>
                      <a:close/>
                      <a:moveTo>
                        <a:pt x="571" y="375"/>
                      </a:moveTo>
                      <a:lnTo>
                        <a:pt x="571" y="375"/>
                      </a:lnTo>
                      <a:cubicBezTo>
                        <a:pt x="573" y="371"/>
                        <a:pt x="570" y="366"/>
                        <a:pt x="565" y="366"/>
                      </a:cubicBezTo>
                      <a:cubicBezTo>
                        <a:pt x="562" y="365"/>
                        <a:pt x="558" y="368"/>
                        <a:pt x="558" y="371"/>
                      </a:cubicBezTo>
                      <a:lnTo>
                        <a:pt x="557" y="372"/>
                      </a:lnTo>
                      <a:lnTo>
                        <a:pt x="557" y="373"/>
                      </a:lnTo>
                      <a:lnTo>
                        <a:pt x="557" y="377"/>
                      </a:lnTo>
                      <a:lnTo>
                        <a:pt x="555" y="378"/>
                      </a:lnTo>
                      <a:lnTo>
                        <a:pt x="555" y="380"/>
                      </a:lnTo>
                      <a:lnTo>
                        <a:pt x="555" y="381"/>
                      </a:lnTo>
                      <a:lnTo>
                        <a:pt x="553" y="382"/>
                      </a:lnTo>
                      <a:lnTo>
                        <a:pt x="553" y="384"/>
                      </a:lnTo>
                      <a:lnTo>
                        <a:pt x="553" y="385"/>
                      </a:lnTo>
                      <a:cubicBezTo>
                        <a:pt x="552" y="388"/>
                        <a:pt x="555" y="393"/>
                        <a:pt x="558" y="394"/>
                      </a:cubicBezTo>
                      <a:cubicBezTo>
                        <a:pt x="562" y="394"/>
                        <a:pt x="567" y="393"/>
                        <a:pt x="567" y="388"/>
                      </a:cubicBezTo>
                      <a:lnTo>
                        <a:pt x="569" y="388"/>
                      </a:lnTo>
                      <a:lnTo>
                        <a:pt x="569" y="387"/>
                      </a:lnTo>
                      <a:lnTo>
                        <a:pt x="569" y="385"/>
                      </a:lnTo>
                      <a:lnTo>
                        <a:pt x="570" y="382"/>
                      </a:lnTo>
                      <a:lnTo>
                        <a:pt x="570" y="381"/>
                      </a:lnTo>
                      <a:lnTo>
                        <a:pt x="570" y="380"/>
                      </a:lnTo>
                      <a:lnTo>
                        <a:pt x="570" y="378"/>
                      </a:lnTo>
                      <a:lnTo>
                        <a:pt x="571" y="377"/>
                      </a:lnTo>
                      <a:lnTo>
                        <a:pt x="571" y="375"/>
                      </a:lnTo>
                      <a:close/>
                      <a:moveTo>
                        <a:pt x="581" y="316"/>
                      </a:moveTo>
                      <a:lnTo>
                        <a:pt x="581" y="316"/>
                      </a:lnTo>
                      <a:cubicBezTo>
                        <a:pt x="581" y="311"/>
                        <a:pt x="577" y="308"/>
                        <a:pt x="573" y="308"/>
                      </a:cubicBezTo>
                      <a:cubicBezTo>
                        <a:pt x="569" y="308"/>
                        <a:pt x="565" y="311"/>
                        <a:pt x="565" y="316"/>
                      </a:cubicBezTo>
                      <a:lnTo>
                        <a:pt x="565" y="317"/>
                      </a:lnTo>
                      <a:lnTo>
                        <a:pt x="565" y="319"/>
                      </a:lnTo>
                      <a:lnTo>
                        <a:pt x="565" y="322"/>
                      </a:lnTo>
                      <a:lnTo>
                        <a:pt x="565" y="323"/>
                      </a:lnTo>
                      <a:lnTo>
                        <a:pt x="564" y="324"/>
                      </a:lnTo>
                      <a:lnTo>
                        <a:pt x="564" y="327"/>
                      </a:lnTo>
                      <a:lnTo>
                        <a:pt x="564" y="328"/>
                      </a:lnTo>
                      <a:lnTo>
                        <a:pt x="564" y="329"/>
                      </a:lnTo>
                      <a:cubicBezTo>
                        <a:pt x="564" y="334"/>
                        <a:pt x="567" y="336"/>
                        <a:pt x="571" y="336"/>
                      </a:cubicBezTo>
                      <a:cubicBezTo>
                        <a:pt x="574" y="338"/>
                        <a:pt x="578" y="335"/>
                        <a:pt x="578" y="331"/>
                      </a:cubicBezTo>
                      <a:lnTo>
                        <a:pt x="578" y="329"/>
                      </a:lnTo>
                      <a:lnTo>
                        <a:pt x="578" y="328"/>
                      </a:lnTo>
                      <a:lnTo>
                        <a:pt x="578" y="327"/>
                      </a:lnTo>
                      <a:lnTo>
                        <a:pt x="578" y="324"/>
                      </a:lnTo>
                      <a:lnTo>
                        <a:pt x="578" y="322"/>
                      </a:lnTo>
                      <a:lnTo>
                        <a:pt x="578" y="320"/>
                      </a:lnTo>
                      <a:lnTo>
                        <a:pt x="581" y="319"/>
                      </a:lnTo>
                      <a:lnTo>
                        <a:pt x="581" y="317"/>
                      </a:lnTo>
                      <a:lnTo>
                        <a:pt x="581" y="316"/>
                      </a:lnTo>
                      <a:close/>
                      <a:moveTo>
                        <a:pt x="576" y="257"/>
                      </a:moveTo>
                      <a:lnTo>
                        <a:pt x="576" y="257"/>
                      </a:lnTo>
                      <a:cubicBezTo>
                        <a:pt x="576" y="252"/>
                        <a:pt x="571" y="249"/>
                        <a:pt x="569" y="251"/>
                      </a:cubicBezTo>
                      <a:cubicBezTo>
                        <a:pt x="564" y="251"/>
                        <a:pt x="561" y="255"/>
                        <a:pt x="562" y="258"/>
                      </a:cubicBezTo>
                      <a:lnTo>
                        <a:pt x="562" y="259"/>
                      </a:lnTo>
                      <a:lnTo>
                        <a:pt x="562" y="263"/>
                      </a:lnTo>
                      <a:lnTo>
                        <a:pt x="562" y="264"/>
                      </a:lnTo>
                      <a:lnTo>
                        <a:pt x="562" y="266"/>
                      </a:lnTo>
                      <a:lnTo>
                        <a:pt x="562" y="267"/>
                      </a:lnTo>
                      <a:lnTo>
                        <a:pt x="564" y="268"/>
                      </a:lnTo>
                      <a:lnTo>
                        <a:pt x="564" y="271"/>
                      </a:lnTo>
                      <a:lnTo>
                        <a:pt x="564" y="273"/>
                      </a:lnTo>
                      <a:cubicBezTo>
                        <a:pt x="564" y="278"/>
                        <a:pt x="569" y="280"/>
                        <a:pt x="571" y="279"/>
                      </a:cubicBezTo>
                      <a:cubicBezTo>
                        <a:pt x="576" y="279"/>
                        <a:pt x="578" y="276"/>
                        <a:pt x="578" y="271"/>
                      </a:cubicBezTo>
                      <a:lnTo>
                        <a:pt x="577" y="268"/>
                      </a:lnTo>
                      <a:lnTo>
                        <a:pt x="577" y="267"/>
                      </a:lnTo>
                      <a:lnTo>
                        <a:pt x="577" y="266"/>
                      </a:lnTo>
                      <a:lnTo>
                        <a:pt x="577" y="264"/>
                      </a:lnTo>
                      <a:lnTo>
                        <a:pt x="577" y="261"/>
                      </a:lnTo>
                      <a:lnTo>
                        <a:pt x="577" y="259"/>
                      </a:lnTo>
                      <a:lnTo>
                        <a:pt x="577" y="258"/>
                      </a:lnTo>
                      <a:lnTo>
                        <a:pt x="576" y="257"/>
                      </a:lnTo>
                      <a:close/>
                      <a:moveTo>
                        <a:pt x="561" y="199"/>
                      </a:moveTo>
                      <a:lnTo>
                        <a:pt x="561" y="199"/>
                      </a:lnTo>
                      <a:cubicBezTo>
                        <a:pt x="560" y="196"/>
                        <a:pt x="557" y="193"/>
                        <a:pt x="552" y="194"/>
                      </a:cubicBezTo>
                      <a:cubicBezTo>
                        <a:pt x="548" y="196"/>
                        <a:pt x="546" y="201"/>
                        <a:pt x="548" y="203"/>
                      </a:cubicBezTo>
                      <a:lnTo>
                        <a:pt x="548" y="205"/>
                      </a:lnTo>
                      <a:lnTo>
                        <a:pt x="549" y="206"/>
                      </a:lnTo>
                      <a:lnTo>
                        <a:pt x="549" y="208"/>
                      </a:lnTo>
                      <a:lnTo>
                        <a:pt x="550" y="210"/>
                      </a:lnTo>
                      <a:lnTo>
                        <a:pt x="550" y="212"/>
                      </a:lnTo>
                      <a:lnTo>
                        <a:pt x="550" y="214"/>
                      </a:lnTo>
                      <a:lnTo>
                        <a:pt x="552" y="215"/>
                      </a:lnTo>
                      <a:lnTo>
                        <a:pt x="552" y="217"/>
                      </a:lnTo>
                      <a:lnTo>
                        <a:pt x="552" y="218"/>
                      </a:lnTo>
                      <a:cubicBezTo>
                        <a:pt x="553" y="221"/>
                        <a:pt x="558" y="224"/>
                        <a:pt x="561" y="222"/>
                      </a:cubicBezTo>
                      <a:cubicBezTo>
                        <a:pt x="565" y="221"/>
                        <a:pt x="567" y="217"/>
                        <a:pt x="565" y="214"/>
                      </a:cubicBezTo>
                      <a:lnTo>
                        <a:pt x="565" y="212"/>
                      </a:lnTo>
                      <a:lnTo>
                        <a:pt x="565" y="210"/>
                      </a:lnTo>
                      <a:lnTo>
                        <a:pt x="565" y="209"/>
                      </a:lnTo>
                      <a:lnTo>
                        <a:pt x="564" y="208"/>
                      </a:lnTo>
                      <a:lnTo>
                        <a:pt x="564" y="205"/>
                      </a:lnTo>
                      <a:lnTo>
                        <a:pt x="562" y="203"/>
                      </a:lnTo>
                      <a:lnTo>
                        <a:pt x="562" y="202"/>
                      </a:lnTo>
                      <a:lnTo>
                        <a:pt x="562" y="201"/>
                      </a:lnTo>
                      <a:lnTo>
                        <a:pt x="561" y="199"/>
                      </a:lnTo>
                      <a:close/>
                      <a:moveTo>
                        <a:pt x="530" y="165"/>
                      </a:moveTo>
                      <a:lnTo>
                        <a:pt x="530" y="165"/>
                      </a:lnTo>
                      <a:cubicBezTo>
                        <a:pt x="532" y="169"/>
                        <a:pt x="536" y="170"/>
                        <a:pt x="540" y="168"/>
                      </a:cubicBezTo>
                      <a:cubicBezTo>
                        <a:pt x="543" y="166"/>
                        <a:pt x="545" y="162"/>
                        <a:pt x="543" y="159"/>
                      </a:cubicBezTo>
                      <a:lnTo>
                        <a:pt x="543" y="157"/>
                      </a:lnTo>
                      <a:lnTo>
                        <a:pt x="542" y="156"/>
                      </a:lnTo>
                      <a:lnTo>
                        <a:pt x="540" y="154"/>
                      </a:lnTo>
                      <a:lnTo>
                        <a:pt x="540" y="153"/>
                      </a:lnTo>
                      <a:lnTo>
                        <a:pt x="539" y="152"/>
                      </a:lnTo>
                      <a:lnTo>
                        <a:pt x="537" y="150"/>
                      </a:lnTo>
                      <a:lnTo>
                        <a:pt x="537" y="149"/>
                      </a:lnTo>
                      <a:lnTo>
                        <a:pt x="536" y="145"/>
                      </a:lnTo>
                      <a:cubicBezTo>
                        <a:pt x="533" y="141"/>
                        <a:pt x="528" y="141"/>
                        <a:pt x="525" y="143"/>
                      </a:cubicBezTo>
                      <a:cubicBezTo>
                        <a:pt x="522" y="144"/>
                        <a:pt x="521" y="149"/>
                        <a:pt x="522" y="153"/>
                      </a:cubicBezTo>
                      <a:lnTo>
                        <a:pt x="524" y="153"/>
                      </a:lnTo>
                      <a:lnTo>
                        <a:pt x="524" y="156"/>
                      </a:lnTo>
                      <a:lnTo>
                        <a:pt x="525" y="157"/>
                      </a:lnTo>
                      <a:lnTo>
                        <a:pt x="527" y="159"/>
                      </a:lnTo>
                      <a:lnTo>
                        <a:pt x="527" y="160"/>
                      </a:lnTo>
                      <a:lnTo>
                        <a:pt x="528" y="162"/>
                      </a:lnTo>
                      <a:lnTo>
                        <a:pt x="528" y="164"/>
                      </a:lnTo>
                      <a:lnTo>
                        <a:pt x="530" y="165"/>
                      </a:lnTo>
                      <a:close/>
                    </a:path>
                  </a:pathLst>
                </a:custGeom>
                <a:solidFill>
                  <a:schemeClr val="accent2"/>
                </a:solidFill>
                <a:ln w="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730" spc="-1" strike="noStrike">
                    <a:solidFill>
                      <a:srgbClr val="ffffff"/>
                    </a:solidFill>
                    <a:latin typeface="Calibri"/>
                  </a:endParaRPr>
                </a:p>
              </p:txBody>
            </p:sp>
            <p:sp>
              <p:nvSpPr>
                <p:cNvPr id="204" name="Freeform 20409"/>
                <p:cNvSpPr/>
                <p:nvPr/>
              </p:nvSpPr>
              <p:spPr>
                <a:xfrm>
                  <a:off x="6758640" y="3991320"/>
                  <a:ext cx="1600200" cy="1661040"/>
                </a:xfrm>
                <a:custGeom>
                  <a:avLst/>
                  <a:gdLst>
                    <a:gd name="textAreaLeft" fmla="*/ 0 w 1600200"/>
                    <a:gd name="textAreaRight" fmla="*/ 1600560 w 1600200"/>
                    <a:gd name="textAreaTop" fmla="*/ 0 h 1661040"/>
                    <a:gd name="textAreaBottom" fmla="*/ 1661400 h 1661040"/>
                  </a:gdLst>
                  <a:ahLst/>
                  <a:rect l="textAreaLeft" t="textAreaTop" r="textAreaRight" b="textAreaBottom"/>
                  <a:pathLst>
                    <a:path w="580" h="606">
                      <a:moveTo>
                        <a:pt x="13" y="393"/>
                      </a:moveTo>
                      <a:lnTo>
                        <a:pt x="13" y="393"/>
                      </a:lnTo>
                      <a:cubicBezTo>
                        <a:pt x="12" y="389"/>
                        <a:pt x="13" y="385"/>
                        <a:pt x="17" y="385"/>
                      </a:cubicBezTo>
                      <a:cubicBezTo>
                        <a:pt x="22" y="383"/>
                        <a:pt x="25" y="385"/>
                        <a:pt x="26" y="389"/>
                      </a:cubicBezTo>
                      <a:lnTo>
                        <a:pt x="28" y="390"/>
                      </a:lnTo>
                      <a:lnTo>
                        <a:pt x="28" y="392"/>
                      </a:lnTo>
                      <a:lnTo>
                        <a:pt x="28" y="393"/>
                      </a:lnTo>
                      <a:lnTo>
                        <a:pt x="29" y="394"/>
                      </a:lnTo>
                      <a:lnTo>
                        <a:pt x="29" y="396"/>
                      </a:lnTo>
                      <a:lnTo>
                        <a:pt x="29" y="398"/>
                      </a:lnTo>
                      <a:lnTo>
                        <a:pt x="31" y="401"/>
                      </a:lnTo>
                      <a:lnTo>
                        <a:pt x="31" y="402"/>
                      </a:lnTo>
                      <a:cubicBezTo>
                        <a:pt x="33" y="405"/>
                        <a:pt x="31" y="410"/>
                        <a:pt x="26" y="411"/>
                      </a:cubicBezTo>
                      <a:cubicBezTo>
                        <a:pt x="24" y="413"/>
                        <a:pt x="19" y="411"/>
                        <a:pt x="17" y="406"/>
                      </a:cubicBezTo>
                      <a:lnTo>
                        <a:pt x="17" y="405"/>
                      </a:lnTo>
                      <a:lnTo>
                        <a:pt x="16" y="403"/>
                      </a:lnTo>
                      <a:lnTo>
                        <a:pt x="16" y="402"/>
                      </a:lnTo>
                      <a:lnTo>
                        <a:pt x="15" y="399"/>
                      </a:lnTo>
                      <a:lnTo>
                        <a:pt x="15" y="398"/>
                      </a:lnTo>
                      <a:lnTo>
                        <a:pt x="15" y="396"/>
                      </a:lnTo>
                      <a:lnTo>
                        <a:pt x="13" y="394"/>
                      </a:lnTo>
                      <a:lnTo>
                        <a:pt x="13" y="393"/>
                      </a:lnTo>
                      <a:close/>
                      <a:moveTo>
                        <a:pt x="1" y="334"/>
                      </a:moveTo>
                      <a:lnTo>
                        <a:pt x="1" y="334"/>
                      </a:lnTo>
                      <a:cubicBezTo>
                        <a:pt x="1" y="331"/>
                        <a:pt x="3" y="326"/>
                        <a:pt x="8" y="326"/>
                      </a:cubicBezTo>
                      <a:cubicBezTo>
                        <a:pt x="12" y="326"/>
                        <a:pt x="15" y="329"/>
                        <a:pt x="16" y="333"/>
                      </a:cubicBezTo>
                      <a:lnTo>
                        <a:pt x="16" y="334"/>
                      </a:lnTo>
                      <a:lnTo>
                        <a:pt x="16" y="337"/>
                      </a:lnTo>
                      <a:lnTo>
                        <a:pt x="16" y="338"/>
                      </a:lnTo>
                      <a:lnTo>
                        <a:pt x="16" y="340"/>
                      </a:lnTo>
                      <a:lnTo>
                        <a:pt x="16" y="341"/>
                      </a:lnTo>
                      <a:lnTo>
                        <a:pt x="16" y="343"/>
                      </a:lnTo>
                      <a:lnTo>
                        <a:pt x="17" y="345"/>
                      </a:lnTo>
                      <a:lnTo>
                        <a:pt x="17" y="347"/>
                      </a:lnTo>
                      <a:cubicBezTo>
                        <a:pt x="17" y="352"/>
                        <a:pt x="15" y="354"/>
                        <a:pt x="12" y="354"/>
                      </a:cubicBezTo>
                      <a:cubicBezTo>
                        <a:pt x="8" y="356"/>
                        <a:pt x="4" y="353"/>
                        <a:pt x="3" y="349"/>
                      </a:cubicBezTo>
                      <a:lnTo>
                        <a:pt x="3" y="347"/>
                      </a:lnTo>
                      <a:lnTo>
                        <a:pt x="3" y="346"/>
                      </a:lnTo>
                      <a:lnTo>
                        <a:pt x="3" y="343"/>
                      </a:lnTo>
                      <a:lnTo>
                        <a:pt x="1" y="341"/>
                      </a:lnTo>
                      <a:lnTo>
                        <a:pt x="1" y="340"/>
                      </a:lnTo>
                      <a:lnTo>
                        <a:pt x="1" y="338"/>
                      </a:lnTo>
                      <a:lnTo>
                        <a:pt x="1" y="337"/>
                      </a:lnTo>
                      <a:lnTo>
                        <a:pt x="1" y="334"/>
                      </a:lnTo>
                      <a:close/>
                      <a:moveTo>
                        <a:pt x="1" y="275"/>
                      </a:moveTo>
                      <a:lnTo>
                        <a:pt x="1" y="275"/>
                      </a:lnTo>
                      <a:cubicBezTo>
                        <a:pt x="1" y="272"/>
                        <a:pt x="4" y="269"/>
                        <a:pt x="9" y="269"/>
                      </a:cubicBezTo>
                      <a:cubicBezTo>
                        <a:pt x="13" y="269"/>
                        <a:pt x="16" y="273"/>
                        <a:pt x="15" y="276"/>
                      </a:cubicBezTo>
                      <a:lnTo>
                        <a:pt x="15" y="278"/>
                      </a:lnTo>
                      <a:lnTo>
                        <a:pt x="15" y="279"/>
                      </a:lnTo>
                      <a:lnTo>
                        <a:pt x="15" y="281"/>
                      </a:lnTo>
                      <a:lnTo>
                        <a:pt x="15" y="282"/>
                      </a:lnTo>
                      <a:lnTo>
                        <a:pt x="15" y="284"/>
                      </a:lnTo>
                      <a:lnTo>
                        <a:pt x="15" y="287"/>
                      </a:lnTo>
                      <a:lnTo>
                        <a:pt x="15" y="288"/>
                      </a:lnTo>
                      <a:lnTo>
                        <a:pt x="15" y="289"/>
                      </a:lnTo>
                      <a:lnTo>
                        <a:pt x="15" y="291"/>
                      </a:lnTo>
                      <a:cubicBezTo>
                        <a:pt x="15" y="294"/>
                        <a:pt x="10" y="298"/>
                        <a:pt x="8" y="297"/>
                      </a:cubicBezTo>
                      <a:cubicBezTo>
                        <a:pt x="3" y="297"/>
                        <a:pt x="0" y="294"/>
                        <a:pt x="0" y="289"/>
                      </a:cubicBezTo>
                      <a:lnTo>
                        <a:pt x="0" y="288"/>
                      </a:lnTo>
                      <a:lnTo>
                        <a:pt x="0" y="287"/>
                      </a:lnTo>
                      <a:lnTo>
                        <a:pt x="0" y="285"/>
                      </a:lnTo>
                      <a:lnTo>
                        <a:pt x="0" y="284"/>
                      </a:lnTo>
                      <a:lnTo>
                        <a:pt x="0" y="282"/>
                      </a:lnTo>
                      <a:lnTo>
                        <a:pt x="0" y="279"/>
                      </a:lnTo>
                      <a:lnTo>
                        <a:pt x="0" y="278"/>
                      </a:lnTo>
                      <a:lnTo>
                        <a:pt x="1" y="276"/>
                      </a:lnTo>
                      <a:lnTo>
                        <a:pt x="1" y="275"/>
                      </a:lnTo>
                      <a:close/>
                      <a:moveTo>
                        <a:pt x="12" y="217"/>
                      </a:moveTo>
                      <a:lnTo>
                        <a:pt x="12" y="217"/>
                      </a:lnTo>
                      <a:cubicBezTo>
                        <a:pt x="13" y="212"/>
                        <a:pt x="17" y="211"/>
                        <a:pt x="21" y="212"/>
                      </a:cubicBezTo>
                      <a:cubicBezTo>
                        <a:pt x="25" y="212"/>
                        <a:pt x="26" y="217"/>
                        <a:pt x="26" y="222"/>
                      </a:cubicBezTo>
                      <a:lnTo>
                        <a:pt x="25" y="222"/>
                      </a:lnTo>
                      <a:lnTo>
                        <a:pt x="25" y="223"/>
                      </a:lnTo>
                      <a:lnTo>
                        <a:pt x="25" y="224"/>
                      </a:lnTo>
                      <a:lnTo>
                        <a:pt x="25" y="226"/>
                      </a:lnTo>
                      <a:lnTo>
                        <a:pt x="24" y="227"/>
                      </a:lnTo>
                      <a:lnTo>
                        <a:pt x="24" y="231"/>
                      </a:lnTo>
                      <a:lnTo>
                        <a:pt x="24" y="232"/>
                      </a:lnTo>
                      <a:lnTo>
                        <a:pt x="22" y="233"/>
                      </a:lnTo>
                      <a:lnTo>
                        <a:pt x="22" y="235"/>
                      </a:lnTo>
                      <a:cubicBezTo>
                        <a:pt x="21" y="239"/>
                        <a:pt x="17" y="240"/>
                        <a:pt x="13" y="240"/>
                      </a:cubicBezTo>
                      <a:cubicBezTo>
                        <a:pt x="10" y="239"/>
                        <a:pt x="8" y="235"/>
                        <a:pt x="9" y="232"/>
                      </a:cubicBezTo>
                      <a:lnTo>
                        <a:pt x="9" y="229"/>
                      </a:lnTo>
                      <a:lnTo>
                        <a:pt x="9" y="227"/>
                      </a:lnTo>
                      <a:lnTo>
                        <a:pt x="9" y="226"/>
                      </a:lnTo>
                      <a:lnTo>
                        <a:pt x="10" y="224"/>
                      </a:lnTo>
                      <a:lnTo>
                        <a:pt x="10" y="223"/>
                      </a:lnTo>
                      <a:lnTo>
                        <a:pt x="10" y="220"/>
                      </a:lnTo>
                      <a:lnTo>
                        <a:pt x="12" y="219"/>
                      </a:lnTo>
                      <a:lnTo>
                        <a:pt x="12" y="217"/>
                      </a:lnTo>
                      <a:close/>
                      <a:moveTo>
                        <a:pt x="34" y="162"/>
                      </a:moveTo>
                      <a:lnTo>
                        <a:pt x="34" y="162"/>
                      </a:lnTo>
                      <a:cubicBezTo>
                        <a:pt x="36" y="158"/>
                        <a:pt x="40" y="158"/>
                        <a:pt x="45" y="159"/>
                      </a:cubicBezTo>
                      <a:cubicBezTo>
                        <a:pt x="47" y="161"/>
                        <a:pt x="49" y="165"/>
                        <a:pt x="47" y="168"/>
                      </a:cubicBezTo>
                      <a:lnTo>
                        <a:pt x="46" y="170"/>
                      </a:lnTo>
                      <a:lnTo>
                        <a:pt x="46" y="171"/>
                      </a:lnTo>
                      <a:lnTo>
                        <a:pt x="45" y="173"/>
                      </a:lnTo>
                      <a:lnTo>
                        <a:pt x="45" y="174"/>
                      </a:lnTo>
                      <a:lnTo>
                        <a:pt x="43" y="175"/>
                      </a:lnTo>
                      <a:lnTo>
                        <a:pt x="43" y="177"/>
                      </a:lnTo>
                      <a:lnTo>
                        <a:pt x="41" y="180"/>
                      </a:lnTo>
                      <a:lnTo>
                        <a:pt x="41" y="182"/>
                      </a:lnTo>
                      <a:cubicBezTo>
                        <a:pt x="40" y="184"/>
                        <a:pt x="36" y="186"/>
                        <a:pt x="31" y="184"/>
                      </a:cubicBezTo>
                      <a:cubicBezTo>
                        <a:pt x="28" y="183"/>
                        <a:pt x="26" y="178"/>
                        <a:pt x="28" y="175"/>
                      </a:cubicBezTo>
                      <a:lnTo>
                        <a:pt x="28" y="174"/>
                      </a:lnTo>
                      <a:lnTo>
                        <a:pt x="28" y="173"/>
                      </a:lnTo>
                      <a:lnTo>
                        <a:pt x="29" y="171"/>
                      </a:lnTo>
                      <a:lnTo>
                        <a:pt x="31" y="170"/>
                      </a:lnTo>
                      <a:lnTo>
                        <a:pt x="31" y="168"/>
                      </a:lnTo>
                      <a:lnTo>
                        <a:pt x="33" y="167"/>
                      </a:lnTo>
                      <a:lnTo>
                        <a:pt x="33" y="165"/>
                      </a:lnTo>
                      <a:lnTo>
                        <a:pt x="34" y="163"/>
                      </a:lnTo>
                      <a:lnTo>
                        <a:pt x="34" y="162"/>
                      </a:lnTo>
                      <a:close/>
                      <a:moveTo>
                        <a:pt x="66" y="112"/>
                      </a:moveTo>
                      <a:lnTo>
                        <a:pt x="66" y="112"/>
                      </a:lnTo>
                      <a:cubicBezTo>
                        <a:pt x="70" y="109"/>
                        <a:pt x="74" y="109"/>
                        <a:pt x="77" y="112"/>
                      </a:cubicBezTo>
                      <a:cubicBezTo>
                        <a:pt x="80" y="113"/>
                        <a:pt x="82" y="118"/>
                        <a:pt x="78" y="122"/>
                      </a:cubicBezTo>
                      <a:lnTo>
                        <a:pt x="77" y="124"/>
                      </a:lnTo>
                      <a:lnTo>
                        <a:pt x="75" y="124"/>
                      </a:lnTo>
                      <a:lnTo>
                        <a:pt x="75" y="125"/>
                      </a:lnTo>
                      <a:lnTo>
                        <a:pt x="74" y="126"/>
                      </a:lnTo>
                      <a:lnTo>
                        <a:pt x="73" y="128"/>
                      </a:lnTo>
                      <a:lnTo>
                        <a:pt x="71" y="130"/>
                      </a:lnTo>
                      <a:lnTo>
                        <a:pt x="71" y="131"/>
                      </a:lnTo>
                      <a:lnTo>
                        <a:pt x="70" y="133"/>
                      </a:lnTo>
                      <a:cubicBezTo>
                        <a:pt x="66" y="135"/>
                        <a:pt x="62" y="137"/>
                        <a:pt x="59" y="134"/>
                      </a:cubicBezTo>
                      <a:cubicBezTo>
                        <a:pt x="57" y="133"/>
                        <a:pt x="57" y="126"/>
                        <a:pt x="58" y="124"/>
                      </a:cubicBezTo>
                      <a:lnTo>
                        <a:pt x="59" y="122"/>
                      </a:lnTo>
                      <a:lnTo>
                        <a:pt x="61" y="121"/>
                      </a:lnTo>
                      <a:lnTo>
                        <a:pt x="61" y="119"/>
                      </a:lnTo>
                      <a:lnTo>
                        <a:pt x="62" y="118"/>
                      </a:lnTo>
                      <a:lnTo>
                        <a:pt x="64" y="117"/>
                      </a:lnTo>
                      <a:lnTo>
                        <a:pt x="65" y="114"/>
                      </a:lnTo>
                      <a:lnTo>
                        <a:pt x="65" y="113"/>
                      </a:lnTo>
                      <a:lnTo>
                        <a:pt x="66" y="112"/>
                      </a:lnTo>
                      <a:close/>
                      <a:moveTo>
                        <a:pt x="98" y="80"/>
                      </a:moveTo>
                      <a:lnTo>
                        <a:pt x="106" y="91"/>
                      </a:lnTo>
                      <a:lnTo>
                        <a:pt x="98" y="80"/>
                      </a:lnTo>
                      <a:close/>
                      <a:moveTo>
                        <a:pt x="108" y="70"/>
                      </a:moveTo>
                      <a:lnTo>
                        <a:pt x="108" y="70"/>
                      </a:lnTo>
                      <a:cubicBezTo>
                        <a:pt x="111" y="68"/>
                        <a:pt x="117" y="68"/>
                        <a:pt x="118" y="70"/>
                      </a:cubicBezTo>
                      <a:cubicBezTo>
                        <a:pt x="122" y="75"/>
                        <a:pt x="122" y="80"/>
                        <a:pt x="118" y="81"/>
                      </a:cubicBezTo>
                      <a:lnTo>
                        <a:pt x="117" y="82"/>
                      </a:lnTo>
                      <a:lnTo>
                        <a:pt x="115" y="84"/>
                      </a:lnTo>
                      <a:lnTo>
                        <a:pt x="114" y="85"/>
                      </a:lnTo>
                      <a:lnTo>
                        <a:pt x="113" y="85"/>
                      </a:lnTo>
                      <a:lnTo>
                        <a:pt x="111" y="87"/>
                      </a:lnTo>
                      <a:lnTo>
                        <a:pt x="110" y="88"/>
                      </a:lnTo>
                      <a:lnTo>
                        <a:pt x="108" y="89"/>
                      </a:lnTo>
                      <a:lnTo>
                        <a:pt x="106" y="91"/>
                      </a:lnTo>
                      <a:cubicBezTo>
                        <a:pt x="103" y="93"/>
                        <a:pt x="99" y="93"/>
                        <a:pt x="98" y="89"/>
                      </a:cubicBezTo>
                      <a:cubicBezTo>
                        <a:pt x="95" y="87"/>
                        <a:pt x="95" y="82"/>
                        <a:pt x="98" y="80"/>
                      </a:cubicBezTo>
                      <a:lnTo>
                        <a:pt x="99" y="80"/>
                      </a:lnTo>
                      <a:lnTo>
                        <a:pt x="101" y="78"/>
                      </a:lnTo>
                      <a:lnTo>
                        <a:pt x="102" y="76"/>
                      </a:lnTo>
                      <a:lnTo>
                        <a:pt x="103" y="75"/>
                      </a:lnTo>
                      <a:lnTo>
                        <a:pt x="105" y="73"/>
                      </a:lnTo>
                      <a:lnTo>
                        <a:pt x="106" y="72"/>
                      </a:lnTo>
                      <a:lnTo>
                        <a:pt x="108" y="72"/>
                      </a:lnTo>
                      <a:lnTo>
                        <a:pt x="108" y="70"/>
                      </a:lnTo>
                      <a:close/>
                      <a:moveTo>
                        <a:pt x="159" y="36"/>
                      </a:moveTo>
                      <a:lnTo>
                        <a:pt x="159" y="36"/>
                      </a:lnTo>
                      <a:cubicBezTo>
                        <a:pt x="162" y="35"/>
                        <a:pt x="166" y="36"/>
                        <a:pt x="167" y="39"/>
                      </a:cubicBezTo>
                      <a:cubicBezTo>
                        <a:pt x="169" y="44"/>
                        <a:pt x="169" y="48"/>
                        <a:pt x="164" y="49"/>
                      </a:cubicBezTo>
                      <a:lnTo>
                        <a:pt x="163" y="51"/>
                      </a:lnTo>
                      <a:lnTo>
                        <a:pt x="160" y="53"/>
                      </a:lnTo>
                      <a:lnTo>
                        <a:pt x="159" y="53"/>
                      </a:lnTo>
                      <a:lnTo>
                        <a:pt x="157" y="54"/>
                      </a:lnTo>
                      <a:lnTo>
                        <a:pt x="155" y="54"/>
                      </a:lnTo>
                      <a:lnTo>
                        <a:pt x="154" y="56"/>
                      </a:lnTo>
                      <a:lnTo>
                        <a:pt x="152" y="57"/>
                      </a:lnTo>
                      <a:cubicBezTo>
                        <a:pt x="150" y="59"/>
                        <a:pt x="145" y="57"/>
                        <a:pt x="142" y="54"/>
                      </a:cubicBezTo>
                      <a:cubicBezTo>
                        <a:pt x="141" y="51"/>
                        <a:pt x="142" y="47"/>
                        <a:pt x="145" y="44"/>
                      </a:cubicBezTo>
                      <a:lnTo>
                        <a:pt x="147" y="44"/>
                      </a:lnTo>
                      <a:lnTo>
                        <a:pt x="148" y="42"/>
                      </a:lnTo>
                      <a:lnTo>
                        <a:pt x="150" y="41"/>
                      </a:lnTo>
                      <a:lnTo>
                        <a:pt x="152" y="41"/>
                      </a:lnTo>
                      <a:lnTo>
                        <a:pt x="154" y="39"/>
                      </a:lnTo>
                      <a:lnTo>
                        <a:pt x="155" y="38"/>
                      </a:lnTo>
                      <a:lnTo>
                        <a:pt x="157" y="38"/>
                      </a:lnTo>
                      <a:lnTo>
                        <a:pt x="159" y="36"/>
                      </a:lnTo>
                      <a:close/>
                      <a:moveTo>
                        <a:pt x="212" y="14"/>
                      </a:moveTo>
                      <a:lnTo>
                        <a:pt x="212" y="14"/>
                      </a:lnTo>
                      <a:cubicBezTo>
                        <a:pt x="216" y="12"/>
                        <a:pt x="220" y="14"/>
                        <a:pt x="222" y="19"/>
                      </a:cubicBezTo>
                      <a:cubicBezTo>
                        <a:pt x="222" y="23"/>
                        <a:pt x="220" y="26"/>
                        <a:pt x="216" y="28"/>
                      </a:cubicBezTo>
                      <a:lnTo>
                        <a:pt x="213" y="29"/>
                      </a:lnTo>
                      <a:lnTo>
                        <a:pt x="212" y="29"/>
                      </a:lnTo>
                      <a:lnTo>
                        <a:pt x="210" y="29"/>
                      </a:lnTo>
                      <a:lnTo>
                        <a:pt x="209" y="31"/>
                      </a:lnTo>
                      <a:lnTo>
                        <a:pt x="207" y="31"/>
                      </a:lnTo>
                      <a:lnTo>
                        <a:pt x="206" y="32"/>
                      </a:lnTo>
                      <a:lnTo>
                        <a:pt x="203" y="32"/>
                      </a:lnTo>
                      <a:cubicBezTo>
                        <a:pt x="200" y="33"/>
                        <a:pt x="195" y="32"/>
                        <a:pt x="194" y="28"/>
                      </a:cubicBezTo>
                      <a:cubicBezTo>
                        <a:pt x="192" y="24"/>
                        <a:pt x="194" y="20"/>
                        <a:pt x="199" y="19"/>
                      </a:cubicBezTo>
                      <a:lnTo>
                        <a:pt x="200" y="17"/>
                      </a:lnTo>
                      <a:lnTo>
                        <a:pt x="203" y="17"/>
                      </a:lnTo>
                      <a:lnTo>
                        <a:pt x="204" y="17"/>
                      </a:lnTo>
                      <a:lnTo>
                        <a:pt x="206" y="16"/>
                      </a:lnTo>
                      <a:lnTo>
                        <a:pt x="207" y="16"/>
                      </a:lnTo>
                      <a:lnTo>
                        <a:pt x="209" y="14"/>
                      </a:lnTo>
                      <a:lnTo>
                        <a:pt x="212" y="14"/>
                      </a:lnTo>
                      <a:close/>
                      <a:moveTo>
                        <a:pt x="271" y="3"/>
                      </a:moveTo>
                      <a:lnTo>
                        <a:pt x="271" y="3"/>
                      </a:lnTo>
                      <a:cubicBezTo>
                        <a:pt x="274" y="0"/>
                        <a:pt x="278" y="4"/>
                        <a:pt x="278" y="8"/>
                      </a:cubicBezTo>
                      <a:cubicBezTo>
                        <a:pt x="278" y="12"/>
                        <a:pt x="276" y="16"/>
                        <a:pt x="273" y="16"/>
                      </a:cubicBezTo>
                      <a:lnTo>
                        <a:pt x="271" y="16"/>
                      </a:lnTo>
                      <a:lnTo>
                        <a:pt x="269" y="17"/>
                      </a:lnTo>
                      <a:lnTo>
                        <a:pt x="266" y="17"/>
                      </a:lnTo>
                      <a:lnTo>
                        <a:pt x="265" y="17"/>
                      </a:lnTo>
                      <a:lnTo>
                        <a:pt x="264" y="17"/>
                      </a:lnTo>
                      <a:lnTo>
                        <a:pt x="262" y="17"/>
                      </a:lnTo>
                      <a:lnTo>
                        <a:pt x="261" y="17"/>
                      </a:lnTo>
                      <a:lnTo>
                        <a:pt x="259" y="19"/>
                      </a:lnTo>
                      <a:lnTo>
                        <a:pt x="257" y="19"/>
                      </a:lnTo>
                      <a:cubicBezTo>
                        <a:pt x="255" y="19"/>
                        <a:pt x="250" y="16"/>
                        <a:pt x="250" y="12"/>
                      </a:cubicBezTo>
                      <a:cubicBezTo>
                        <a:pt x="249" y="8"/>
                        <a:pt x="252" y="4"/>
                        <a:pt x="256" y="4"/>
                      </a:cubicBezTo>
                      <a:lnTo>
                        <a:pt x="257" y="4"/>
                      </a:lnTo>
                      <a:lnTo>
                        <a:pt x="261" y="4"/>
                      </a:lnTo>
                      <a:lnTo>
                        <a:pt x="262" y="3"/>
                      </a:lnTo>
                      <a:lnTo>
                        <a:pt x="264" y="3"/>
                      </a:lnTo>
                      <a:lnTo>
                        <a:pt x="265" y="3"/>
                      </a:lnTo>
                      <a:lnTo>
                        <a:pt x="266" y="3"/>
                      </a:lnTo>
                      <a:lnTo>
                        <a:pt x="269" y="3"/>
                      </a:lnTo>
                      <a:lnTo>
                        <a:pt x="271" y="3"/>
                      </a:lnTo>
                      <a:close/>
                      <a:moveTo>
                        <a:pt x="330" y="0"/>
                      </a:moveTo>
                      <a:lnTo>
                        <a:pt x="330" y="0"/>
                      </a:lnTo>
                      <a:cubicBezTo>
                        <a:pt x="333" y="3"/>
                        <a:pt x="336" y="5"/>
                        <a:pt x="336" y="10"/>
                      </a:cubicBezTo>
                      <a:cubicBezTo>
                        <a:pt x="336" y="12"/>
                        <a:pt x="333" y="16"/>
                        <a:pt x="329" y="16"/>
                      </a:cubicBezTo>
                      <a:lnTo>
                        <a:pt x="326" y="16"/>
                      </a:lnTo>
                      <a:lnTo>
                        <a:pt x="325" y="16"/>
                      </a:lnTo>
                      <a:lnTo>
                        <a:pt x="323" y="16"/>
                      </a:lnTo>
                      <a:lnTo>
                        <a:pt x="321" y="16"/>
                      </a:lnTo>
                      <a:lnTo>
                        <a:pt x="320" y="16"/>
                      </a:lnTo>
                      <a:lnTo>
                        <a:pt x="317" y="16"/>
                      </a:lnTo>
                      <a:lnTo>
                        <a:pt x="315" y="16"/>
                      </a:lnTo>
                      <a:lnTo>
                        <a:pt x="314" y="14"/>
                      </a:lnTo>
                      <a:cubicBezTo>
                        <a:pt x="311" y="14"/>
                        <a:pt x="308" y="11"/>
                        <a:pt x="308" y="7"/>
                      </a:cubicBezTo>
                      <a:cubicBezTo>
                        <a:pt x="308" y="4"/>
                        <a:pt x="311" y="0"/>
                        <a:pt x="315" y="0"/>
                      </a:cubicBezTo>
                      <a:lnTo>
                        <a:pt x="317" y="0"/>
                      </a:lnTo>
                      <a:lnTo>
                        <a:pt x="318" y="0"/>
                      </a:lnTo>
                      <a:lnTo>
                        <a:pt x="320" y="0"/>
                      </a:lnTo>
                      <a:lnTo>
                        <a:pt x="321" y="0"/>
                      </a:lnTo>
                      <a:lnTo>
                        <a:pt x="325" y="0"/>
                      </a:lnTo>
                      <a:lnTo>
                        <a:pt x="326" y="0"/>
                      </a:lnTo>
                      <a:lnTo>
                        <a:pt x="327" y="0"/>
                      </a:lnTo>
                      <a:lnTo>
                        <a:pt x="329" y="0"/>
                      </a:lnTo>
                      <a:lnTo>
                        <a:pt x="330" y="0"/>
                      </a:lnTo>
                      <a:close/>
                      <a:moveTo>
                        <a:pt x="570" y="443"/>
                      </a:moveTo>
                      <a:lnTo>
                        <a:pt x="570" y="443"/>
                      </a:lnTo>
                      <a:cubicBezTo>
                        <a:pt x="569" y="447"/>
                        <a:pt x="565" y="448"/>
                        <a:pt x="561" y="447"/>
                      </a:cubicBezTo>
                      <a:cubicBezTo>
                        <a:pt x="557" y="445"/>
                        <a:pt x="555" y="441"/>
                        <a:pt x="558" y="438"/>
                      </a:cubicBezTo>
                      <a:lnTo>
                        <a:pt x="558" y="436"/>
                      </a:lnTo>
                      <a:lnTo>
                        <a:pt x="558" y="435"/>
                      </a:lnTo>
                      <a:lnTo>
                        <a:pt x="560" y="434"/>
                      </a:lnTo>
                      <a:lnTo>
                        <a:pt x="561" y="431"/>
                      </a:lnTo>
                      <a:lnTo>
                        <a:pt x="561" y="430"/>
                      </a:lnTo>
                      <a:lnTo>
                        <a:pt x="562" y="429"/>
                      </a:lnTo>
                      <a:lnTo>
                        <a:pt x="562" y="427"/>
                      </a:lnTo>
                      <a:lnTo>
                        <a:pt x="565" y="424"/>
                      </a:lnTo>
                      <a:cubicBezTo>
                        <a:pt x="566" y="420"/>
                        <a:pt x="570" y="418"/>
                        <a:pt x="573" y="422"/>
                      </a:cubicBezTo>
                      <a:cubicBezTo>
                        <a:pt x="578" y="423"/>
                        <a:pt x="579" y="427"/>
                        <a:pt x="578" y="430"/>
                      </a:cubicBezTo>
                      <a:lnTo>
                        <a:pt x="576" y="431"/>
                      </a:lnTo>
                      <a:lnTo>
                        <a:pt x="576" y="434"/>
                      </a:lnTo>
                      <a:lnTo>
                        <a:pt x="574" y="435"/>
                      </a:lnTo>
                      <a:lnTo>
                        <a:pt x="574" y="436"/>
                      </a:lnTo>
                      <a:lnTo>
                        <a:pt x="573" y="438"/>
                      </a:lnTo>
                      <a:lnTo>
                        <a:pt x="573" y="439"/>
                      </a:lnTo>
                      <a:lnTo>
                        <a:pt x="572" y="441"/>
                      </a:lnTo>
                      <a:lnTo>
                        <a:pt x="572" y="442"/>
                      </a:lnTo>
                      <a:lnTo>
                        <a:pt x="570" y="443"/>
                      </a:lnTo>
                      <a:close/>
                      <a:moveTo>
                        <a:pt x="537" y="494"/>
                      </a:moveTo>
                      <a:lnTo>
                        <a:pt x="537" y="494"/>
                      </a:lnTo>
                      <a:cubicBezTo>
                        <a:pt x="536" y="497"/>
                        <a:pt x="532" y="497"/>
                        <a:pt x="527" y="494"/>
                      </a:cubicBezTo>
                      <a:cubicBezTo>
                        <a:pt x="524" y="492"/>
                        <a:pt x="524" y="488"/>
                        <a:pt x="527" y="483"/>
                      </a:cubicBezTo>
                      <a:lnTo>
                        <a:pt x="529" y="482"/>
                      </a:lnTo>
                      <a:lnTo>
                        <a:pt x="530" y="480"/>
                      </a:lnTo>
                      <a:lnTo>
                        <a:pt x="532" y="479"/>
                      </a:lnTo>
                      <a:lnTo>
                        <a:pt x="532" y="478"/>
                      </a:lnTo>
                      <a:lnTo>
                        <a:pt x="533" y="476"/>
                      </a:lnTo>
                      <a:lnTo>
                        <a:pt x="534" y="475"/>
                      </a:lnTo>
                      <a:lnTo>
                        <a:pt x="534" y="473"/>
                      </a:lnTo>
                      <a:cubicBezTo>
                        <a:pt x="537" y="470"/>
                        <a:pt x="542" y="468"/>
                        <a:pt x="545" y="472"/>
                      </a:cubicBezTo>
                      <a:cubicBezTo>
                        <a:pt x="548" y="473"/>
                        <a:pt x="549" y="478"/>
                        <a:pt x="546" y="482"/>
                      </a:cubicBezTo>
                      <a:lnTo>
                        <a:pt x="546" y="483"/>
                      </a:lnTo>
                      <a:lnTo>
                        <a:pt x="545" y="485"/>
                      </a:lnTo>
                      <a:lnTo>
                        <a:pt x="544" y="487"/>
                      </a:lnTo>
                      <a:lnTo>
                        <a:pt x="542" y="488"/>
                      </a:lnTo>
                      <a:lnTo>
                        <a:pt x="542" y="489"/>
                      </a:lnTo>
                      <a:lnTo>
                        <a:pt x="541" y="491"/>
                      </a:lnTo>
                      <a:lnTo>
                        <a:pt x="539" y="492"/>
                      </a:lnTo>
                      <a:lnTo>
                        <a:pt x="537" y="494"/>
                      </a:lnTo>
                      <a:close/>
                      <a:moveTo>
                        <a:pt x="496" y="536"/>
                      </a:moveTo>
                      <a:lnTo>
                        <a:pt x="496" y="536"/>
                      </a:lnTo>
                      <a:cubicBezTo>
                        <a:pt x="493" y="538"/>
                        <a:pt x="489" y="538"/>
                        <a:pt x="485" y="534"/>
                      </a:cubicBezTo>
                      <a:cubicBezTo>
                        <a:pt x="484" y="531"/>
                        <a:pt x="484" y="527"/>
                        <a:pt x="487" y="525"/>
                      </a:cubicBezTo>
                      <a:lnTo>
                        <a:pt x="489" y="524"/>
                      </a:lnTo>
                      <a:lnTo>
                        <a:pt x="489" y="522"/>
                      </a:lnTo>
                      <a:lnTo>
                        <a:pt x="490" y="520"/>
                      </a:lnTo>
                      <a:lnTo>
                        <a:pt x="492" y="520"/>
                      </a:lnTo>
                      <a:lnTo>
                        <a:pt x="493" y="519"/>
                      </a:lnTo>
                      <a:lnTo>
                        <a:pt x="495" y="517"/>
                      </a:lnTo>
                      <a:lnTo>
                        <a:pt x="496" y="516"/>
                      </a:lnTo>
                      <a:lnTo>
                        <a:pt x="497" y="515"/>
                      </a:lnTo>
                      <a:cubicBezTo>
                        <a:pt x="501" y="512"/>
                        <a:pt x="505" y="513"/>
                        <a:pt x="508" y="516"/>
                      </a:cubicBezTo>
                      <a:cubicBezTo>
                        <a:pt x="511" y="519"/>
                        <a:pt x="511" y="524"/>
                        <a:pt x="508" y="525"/>
                      </a:cubicBezTo>
                      <a:lnTo>
                        <a:pt x="508" y="527"/>
                      </a:lnTo>
                      <a:lnTo>
                        <a:pt x="506" y="528"/>
                      </a:lnTo>
                      <a:lnTo>
                        <a:pt x="505" y="528"/>
                      </a:lnTo>
                      <a:lnTo>
                        <a:pt x="504" y="529"/>
                      </a:lnTo>
                      <a:lnTo>
                        <a:pt x="502" y="531"/>
                      </a:lnTo>
                      <a:lnTo>
                        <a:pt x="501" y="532"/>
                      </a:lnTo>
                      <a:lnTo>
                        <a:pt x="499" y="534"/>
                      </a:lnTo>
                      <a:lnTo>
                        <a:pt x="497" y="536"/>
                      </a:lnTo>
                      <a:lnTo>
                        <a:pt x="496" y="536"/>
                      </a:lnTo>
                      <a:close/>
                      <a:moveTo>
                        <a:pt x="447" y="569"/>
                      </a:moveTo>
                      <a:lnTo>
                        <a:pt x="447" y="569"/>
                      </a:lnTo>
                      <a:cubicBezTo>
                        <a:pt x="444" y="571"/>
                        <a:pt x="440" y="569"/>
                        <a:pt x="436" y="566"/>
                      </a:cubicBezTo>
                      <a:cubicBezTo>
                        <a:pt x="435" y="562"/>
                        <a:pt x="436" y="557"/>
                        <a:pt x="440" y="556"/>
                      </a:cubicBezTo>
                      <a:lnTo>
                        <a:pt x="441" y="556"/>
                      </a:lnTo>
                      <a:lnTo>
                        <a:pt x="443" y="555"/>
                      </a:lnTo>
                      <a:lnTo>
                        <a:pt x="444" y="555"/>
                      </a:lnTo>
                      <a:lnTo>
                        <a:pt x="446" y="553"/>
                      </a:lnTo>
                      <a:lnTo>
                        <a:pt x="447" y="552"/>
                      </a:lnTo>
                      <a:lnTo>
                        <a:pt x="448" y="552"/>
                      </a:lnTo>
                      <a:lnTo>
                        <a:pt x="450" y="550"/>
                      </a:lnTo>
                      <a:lnTo>
                        <a:pt x="452" y="549"/>
                      </a:lnTo>
                      <a:lnTo>
                        <a:pt x="453" y="549"/>
                      </a:lnTo>
                      <a:cubicBezTo>
                        <a:pt x="456" y="548"/>
                        <a:pt x="460" y="549"/>
                        <a:pt x="462" y="552"/>
                      </a:cubicBezTo>
                      <a:cubicBezTo>
                        <a:pt x="465" y="555"/>
                        <a:pt x="464" y="559"/>
                        <a:pt x="460" y="562"/>
                      </a:cubicBezTo>
                      <a:lnTo>
                        <a:pt x="459" y="562"/>
                      </a:lnTo>
                      <a:lnTo>
                        <a:pt x="457" y="562"/>
                      </a:lnTo>
                      <a:lnTo>
                        <a:pt x="456" y="564"/>
                      </a:lnTo>
                      <a:lnTo>
                        <a:pt x="455" y="565"/>
                      </a:lnTo>
                      <a:lnTo>
                        <a:pt x="453" y="565"/>
                      </a:lnTo>
                      <a:lnTo>
                        <a:pt x="452" y="566"/>
                      </a:lnTo>
                      <a:lnTo>
                        <a:pt x="450" y="568"/>
                      </a:lnTo>
                      <a:lnTo>
                        <a:pt x="447" y="568"/>
                      </a:lnTo>
                      <a:lnTo>
                        <a:pt x="447" y="569"/>
                      </a:lnTo>
                      <a:close/>
                      <a:moveTo>
                        <a:pt x="392" y="592"/>
                      </a:moveTo>
                      <a:lnTo>
                        <a:pt x="392" y="592"/>
                      </a:lnTo>
                      <a:cubicBezTo>
                        <a:pt x="390" y="593"/>
                        <a:pt x="385" y="592"/>
                        <a:pt x="383" y="587"/>
                      </a:cubicBezTo>
                      <a:cubicBezTo>
                        <a:pt x="382" y="583"/>
                        <a:pt x="385" y="580"/>
                        <a:pt x="388" y="578"/>
                      </a:cubicBezTo>
                      <a:lnTo>
                        <a:pt x="390" y="578"/>
                      </a:lnTo>
                      <a:lnTo>
                        <a:pt x="391" y="577"/>
                      </a:lnTo>
                      <a:lnTo>
                        <a:pt x="392" y="577"/>
                      </a:lnTo>
                      <a:lnTo>
                        <a:pt x="394" y="577"/>
                      </a:lnTo>
                      <a:lnTo>
                        <a:pt x="395" y="576"/>
                      </a:lnTo>
                      <a:lnTo>
                        <a:pt x="398" y="576"/>
                      </a:lnTo>
                      <a:lnTo>
                        <a:pt x="400" y="574"/>
                      </a:lnTo>
                      <a:lnTo>
                        <a:pt x="401" y="574"/>
                      </a:lnTo>
                      <a:cubicBezTo>
                        <a:pt x="406" y="573"/>
                        <a:pt x="410" y="574"/>
                        <a:pt x="412" y="578"/>
                      </a:cubicBezTo>
                      <a:cubicBezTo>
                        <a:pt x="412" y="581"/>
                        <a:pt x="410" y="586"/>
                        <a:pt x="407" y="587"/>
                      </a:cubicBezTo>
                      <a:lnTo>
                        <a:pt x="406" y="587"/>
                      </a:lnTo>
                      <a:lnTo>
                        <a:pt x="404" y="589"/>
                      </a:lnTo>
                      <a:lnTo>
                        <a:pt x="403" y="589"/>
                      </a:lnTo>
                      <a:lnTo>
                        <a:pt x="401" y="589"/>
                      </a:lnTo>
                      <a:lnTo>
                        <a:pt x="398" y="590"/>
                      </a:lnTo>
                      <a:lnTo>
                        <a:pt x="397" y="590"/>
                      </a:lnTo>
                      <a:lnTo>
                        <a:pt x="395" y="592"/>
                      </a:lnTo>
                      <a:lnTo>
                        <a:pt x="394" y="592"/>
                      </a:lnTo>
                      <a:lnTo>
                        <a:pt x="392" y="592"/>
                      </a:lnTo>
                      <a:close/>
                      <a:moveTo>
                        <a:pt x="334" y="604"/>
                      </a:moveTo>
                      <a:lnTo>
                        <a:pt x="334" y="604"/>
                      </a:lnTo>
                      <a:cubicBezTo>
                        <a:pt x="330" y="605"/>
                        <a:pt x="327" y="602"/>
                        <a:pt x="326" y="597"/>
                      </a:cubicBezTo>
                      <a:cubicBezTo>
                        <a:pt x="326" y="593"/>
                        <a:pt x="329" y="590"/>
                        <a:pt x="333" y="590"/>
                      </a:cubicBezTo>
                      <a:lnTo>
                        <a:pt x="334" y="590"/>
                      </a:lnTo>
                      <a:lnTo>
                        <a:pt x="336" y="589"/>
                      </a:lnTo>
                      <a:lnTo>
                        <a:pt x="338" y="589"/>
                      </a:lnTo>
                      <a:lnTo>
                        <a:pt x="339" y="589"/>
                      </a:lnTo>
                      <a:lnTo>
                        <a:pt x="341" y="589"/>
                      </a:lnTo>
                      <a:lnTo>
                        <a:pt x="342" y="589"/>
                      </a:lnTo>
                      <a:lnTo>
                        <a:pt x="345" y="589"/>
                      </a:lnTo>
                      <a:lnTo>
                        <a:pt x="346" y="587"/>
                      </a:lnTo>
                      <a:cubicBezTo>
                        <a:pt x="351" y="587"/>
                        <a:pt x="354" y="590"/>
                        <a:pt x="355" y="593"/>
                      </a:cubicBezTo>
                      <a:cubicBezTo>
                        <a:pt x="355" y="597"/>
                        <a:pt x="353" y="602"/>
                        <a:pt x="350" y="602"/>
                      </a:cubicBezTo>
                      <a:lnTo>
                        <a:pt x="348" y="602"/>
                      </a:lnTo>
                      <a:lnTo>
                        <a:pt x="346" y="602"/>
                      </a:lnTo>
                      <a:lnTo>
                        <a:pt x="345" y="604"/>
                      </a:lnTo>
                      <a:lnTo>
                        <a:pt x="343" y="604"/>
                      </a:lnTo>
                      <a:lnTo>
                        <a:pt x="341" y="604"/>
                      </a:lnTo>
                      <a:lnTo>
                        <a:pt x="339" y="604"/>
                      </a:lnTo>
                      <a:lnTo>
                        <a:pt x="338" y="604"/>
                      </a:lnTo>
                      <a:lnTo>
                        <a:pt x="336" y="604"/>
                      </a:lnTo>
                      <a:lnTo>
                        <a:pt x="334" y="604"/>
                      </a:lnTo>
                      <a:close/>
                      <a:moveTo>
                        <a:pt x="276" y="605"/>
                      </a:moveTo>
                      <a:lnTo>
                        <a:pt x="276" y="605"/>
                      </a:lnTo>
                      <a:cubicBezTo>
                        <a:pt x="271" y="604"/>
                        <a:pt x="268" y="601"/>
                        <a:pt x="268" y="596"/>
                      </a:cubicBezTo>
                      <a:cubicBezTo>
                        <a:pt x="269" y="593"/>
                        <a:pt x="273" y="590"/>
                        <a:pt x="277" y="590"/>
                      </a:cubicBezTo>
                      <a:lnTo>
                        <a:pt x="278" y="590"/>
                      </a:lnTo>
                      <a:lnTo>
                        <a:pt x="280" y="590"/>
                      </a:lnTo>
                      <a:lnTo>
                        <a:pt x="281" y="590"/>
                      </a:lnTo>
                      <a:lnTo>
                        <a:pt x="284" y="590"/>
                      </a:lnTo>
                      <a:lnTo>
                        <a:pt x="286" y="590"/>
                      </a:lnTo>
                      <a:lnTo>
                        <a:pt x="287" y="590"/>
                      </a:lnTo>
                      <a:lnTo>
                        <a:pt x="289" y="592"/>
                      </a:lnTo>
                      <a:lnTo>
                        <a:pt x="290" y="592"/>
                      </a:lnTo>
                      <a:cubicBezTo>
                        <a:pt x="294" y="592"/>
                        <a:pt x="298" y="594"/>
                        <a:pt x="298" y="599"/>
                      </a:cubicBezTo>
                      <a:cubicBezTo>
                        <a:pt x="298" y="602"/>
                        <a:pt x="293" y="605"/>
                        <a:pt x="290" y="605"/>
                      </a:cubicBezTo>
                      <a:lnTo>
                        <a:pt x="289" y="605"/>
                      </a:lnTo>
                      <a:lnTo>
                        <a:pt x="286" y="605"/>
                      </a:lnTo>
                      <a:lnTo>
                        <a:pt x="284" y="605"/>
                      </a:lnTo>
                      <a:lnTo>
                        <a:pt x="283" y="605"/>
                      </a:lnTo>
                      <a:lnTo>
                        <a:pt x="281" y="605"/>
                      </a:lnTo>
                      <a:lnTo>
                        <a:pt x="278" y="605"/>
                      </a:lnTo>
                      <a:lnTo>
                        <a:pt x="277" y="605"/>
                      </a:lnTo>
                      <a:lnTo>
                        <a:pt x="276" y="605"/>
                      </a:lnTo>
                      <a:close/>
                      <a:moveTo>
                        <a:pt x="216" y="593"/>
                      </a:moveTo>
                      <a:lnTo>
                        <a:pt x="216" y="593"/>
                      </a:lnTo>
                      <a:cubicBezTo>
                        <a:pt x="213" y="592"/>
                        <a:pt x="210" y="589"/>
                        <a:pt x="212" y="584"/>
                      </a:cubicBezTo>
                      <a:cubicBezTo>
                        <a:pt x="213" y="581"/>
                        <a:pt x="217" y="578"/>
                        <a:pt x="220" y="580"/>
                      </a:cubicBezTo>
                      <a:lnTo>
                        <a:pt x="222" y="580"/>
                      </a:lnTo>
                      <a:lnTo>
                        <a:pt x="224" y="580"/>
                      </a:lnTo>
                      <a:lnTo>
                        <a:pt x="225" y="581"/>
                      </a:lnTo>
                      <a:lnTo>
                        <a:pt x="228" y="581"/>
                      </a:lnTo>
                      <a:lnTo>
                        <a:pt x="229" y="581"/>
                      </a:lnTo>
                      <a:lnTo>
                        <a:pt x="231" y="583"/>
                      </a:lnTo>
                      <a:lnTo>
                        <a:pt x="232" y="583"/>
                      </a:lnTo>
                      <a:lnTo>
                        <a:pt x="234" y="583"/>
                      </a:lnTo>
                      <a:cubicBezTo>
                        <a:pt x="238" y="584"/>
                        <a:pt x="241" y="589"/>
                        <a:pt x="240" y="592"/>
                      </a:cubicBezTo>
                      <a:cubicBezTo>
                        <a:pt x="238" y="596"/>
                        <a:pt x="236" y="597"/>
                        <a:pt x="231" y="597"/>
                      </a:cubicBezTo>
                      <a:lnTo>
                        <a:pt x="229" y="596"/>
                      </a:lnTo>
                      <a:lnTo>
                        <a:pt x="227" y="596"/>
                      </a:lnTo>
                      <a:lnTo>
                        <a:pt x="225" y="596"/>
                      </a:lnTo>
                      <a:lnTo>
                        <a:pt x="224" y="594"/>
                      </a:lnTo>
                      <a:lnTo>
                        <a:pt x="222" y="594"/>
                      </a:lnTo>
                      <a:lnTo>
                        <a:pt x="220" y="594"/>
                      </a:lnTo>
                      <a:lnTo>
                        <a:pt x="217" y="593"/>
                      </a:lnTo>
                      <a:lnTo>
                        <a:pt x="216" y="593"/>
                      </a:lnTo>
                      <a:close/>
                      <a:moveTo>
                        <a:pt x="162" y="571"/>
                      </a:moveTo>
                      <a:lnTo>
                        <a:pt x="162" y="571"/>
                      </a:lnTo>
                      <a:cubicBezTo>
                        <a:pt x="159" y="569"/>
                        <a:pt x="157" y="565"/>
                        <a:pt x="159" y="562"/>
                      </a:cubicBezTo>
                      <a:cubicBezTo>
                        <a:pt x="160" y="557"/>
                        <a:pt x="164" y="556"/>
                        <a:pt x="169" y="557"/>
                      </a:cubicBezTo>
                      <a:lnTo>
                        <a:pt x="169" y="559"/>
                      </a:lnTo>
                      <a:lnTo>
                        <a:pt x="170" y="559"/>
                      </a:lnTo>
                      <a:lnTo>
                        <a:pt x="172" y="561"/>
                      </a:lnTo>
                      <a:lnTo>
                        <a:pt x="175" y="561"/>
                      </a:lnTo>
                      <a:lnTo>
                        <a:pt x="176" y="562"/>
                      </a:lnTo>
                      <a:lnTo>
                        <a:pt x="178" y="562"/>
                      </a:lnTo>
                      <a:lnTo>
                        <a:pt x="179" y="564"/>
                      </a:lnTo>
                      <a:lnTo>
                        <a:pt x="180" y="564"/>
                      </a:lnTo>
                      <a:lnTo>
                        <a:pt x="180" y="565"/>
                      </a:lnTo>
                      <a:cubicBezTo>
                        <a:pt x="185" y="566"/>
                        <a:pt x="187" y="571"/>
                        <a:pt x="185" y="574"/>
                      </a:cubicBezTo>
                      <a:cubicBezTo>
                        <a:pt x="184" y="578"/>
                        <a:pt x="179" y="580"/>
                        <a:pt x="175" y="578"/>
                      </a:cubicBezTo>
                      <a:lnTo>
                        <a:pt x="175" y="577"/>
                      </a:lnTo>
                      <a:lnTo>
                        <a:pt x="172" y="577"/>
                      </a:lnTo>
                      <a:lnTo>
                        <a:pt x="170" y="576"/>
                      </a:lnTo>
                      <a:lnTo>
                        <a:pt x="169" y="576"/>
                      </a:lnTo>
                      <a:lnTo>
                        <a:pt x="167" y="574"/>
                      </a:lnTo>
                      <a:lnTo>
                        <a:pt x="166" y="574"/>
                      </a:lnTo>
                      <a:lnTo>
                        <a:pt x="164" y="573"/>
                      </a:lnTo>
                      <a:lnTo>
                        <a:pt x="163" y="571"/>
                      </a:lnTo>
                      <a:lnTo>
                        <a:pt x="162" y="571"/>
                      </a:lnTo>
                      <a:close/>
                      <a:moveTo>
                        <a:pt x="113" y="538"/>
                      </a:moveTo>
                      <a:lnTo>
                        <a:pt x="113" y="538"/>
                      </a:lnTo>
                      <a:cubicBezTo>
                        <a:pt x="110" y="537"/>
                        <a:pt x="108" y="531"/>
                        <a:pt x="111" y="528"/>
                      </a:cubicBezTo>
                      <a:cubicBezTo>
                        <a:pt x="114" y="525"/>
                        <a:pt x="118" y="525"/>
                        <a:pt x="122" y="528"/>
                      </a:cubicBezTo>
                      <a:lnTo>
                        <a:pt x="123" y="528"/>
                      </a:lnTo>
                      <a:lnTo>
                        <a:pt x="124" y="529"/>
                      </a:lnTo>
                      <a:lnTo>
                        <a:pt x="126" y="531"/>
                      </a:lnTo>
                      <a:lnTo>
                        <a:pt x="127" y="531"/>
                      </a:lnTo>
                      <a:lnTo>
                        <a:pt x="127" y="532"/>
                      </a:lnTo>
                      <a:lnTo>
                        <a:pt x="129" y="534"/>
                      </a:lnTo>
                      <a:lnTo>
                        <a:pt x="130" y="536"/>
                      </a:lnTo>
                      <a:lnTo>
                        <a:pt x="131" y="536"/>
                      </a:lnTo>
                      <a:cubicBezTo>
                        <a:pt x="136" y="538"/>
                        <a:pt x="136" y="543"/>
                        <a:pt x="135" y="545"/>
                      </a:cubicBezTo>
                      <a:cubicBezTo>
                        <a:pt x="131" y="549"/>
                        <a:pt x="127" y="550"/>
                        <a:pt x="124" y="548"/>
                      </a:cubicBezTo>
                      <a:lnTo>
                        <a:pt x="123" y="545"/>
                      </a:lnTo>
                      <a:lnTo>
                        <a:pt x="122" y="545"/>
                      </a:lnTo>
                      <a:lnTo>
                        <a:pt x="120" y="544"/>
                      </a:lnTo>
                      <a:lnTo>
                        <a:pt x="118" y="543"/>
                      </a:lnTo>
                      <a:lnTo>
                        <a:pt x="117" y="541"/>
                      </a:lnTo>
                      <a:lnTo>
                        <a:pt x="115" y="541"/>
                      </a:lnTo>
                      <a:lnTo>
                        <a:pt x="114" y="540"/>
                      </a:lnTo>
                      <a:lnTo>
                        <a:pt x="113" y="538"/>
                      </a:lnTo>
                      <a:close/>
                      <a:moveTo>
                        <a:pt x="70" y="497"/>
                      </a:moveTo>
                      <a:lnTo>
                        <a:pt x="70" y="497"/>
                      </a:lnTo>
                      <a:cubicBezTo>
                        <a:pt x="66" y="494"/>
                        <a:pt x="68" y="489"/>
                        <a:pt x="71" y="487"/>
                      </a:cubicBezTo>
                      <a:cubicBezTo>
                        <a:pt x="74" y="483"/>
                        <a:pt x="78" y="485"/>
                        <a:pt x="82" y="488"/>
                      </a:cubicBezTo>
                      <a:lnTo>
                        <a:pt x="83" y="489"/>
                      </a:lnTo>
                      <a:lnTo>
                        <a:pt x="85" y="491"/>
                      </a:lnTo>
                      <a:lnTo>
                        <a:pt x="86" y="492"/>
                      </a:lnTo>
                      <a:lnTo>
                        <a:pt x="86" y="494"/>
                      </a:lnTo>
                      <a:lnTo>
                        <a:pt x="87" y="495"/>
                      </a:lnTo>
                      <a:lnTo>
                        <a:pt x="89" y="497"/>
                      </a:lnTo>
                      <a:lnTo>
                        <a:pt x="90" y="499"/>
                      </a:lnTo>
                      <a:cubicBezTo>
                        <a:pt x="93" y="501"/>
                        <a:pt x="93" y="506"/>
                        <a:pt x="90" y="508"/>
                      </a:cubicBezTo>
                      <a:cubicBezTo>
                        <a:pt x="87" y="512"/>
                        <a:pt x="83" y="512"/>
                        <a:pt x="80" y="508"/>
                      </a:cubicBezTo>
                      <a:lnTo>
                        <a:pt x="80" y="507"/>
                      </a:lnTo>
                      <a:lnTo>
                        <a:pt x="78" y="506"/>
                      </a:lnTo>
                      <a:lnTo>
                        <a:pt x="77" y="504"/>
                      </a:lnTo>
                      <a:lnTo>
                        <a:pt x="75" y="504"/>
                      </a:lnTo>
                      <a:lnTo>
                        <a:pt x="74" y="503"/>
                      </a:lnTo>
                      <a:lnTo>
                        <a:pt x="73" y="501"/>
                      </a:lnTo>
                      <a:lnTo>
                        <a:pt x="71" y="500"/>
                      </a:lnTo>
                      <a:lnTo>
                        <a:pt x="71" y="499"/>
                      </a:lnTo>
                      <a:lnTo>
                        <a:pt x="70" y="497"/>
                      </a:lnTo>
                      <a:close/>
                      <a:moveTo>
                        <a:pt x="57" y="452"/>
                      </a:moveTo>
                      <a:lnTo>
                        <a:pt x="57" y="452"/>
                      </a:lnTo>
                      <a:cubicBezTo>
                        <a:pt x="58" y="457"/>
                        <a:pt x="58" y="462"/>
                        <a:pt x="53" y="463"/>
                      </a:cubicBezTo>
                      <a:cubicBezTo>
                        <a:pt x="50" y="466"/>
                        <a:pt x="46" y="464"/>
                        <a:pt x="45" y="462"/>
                      </a:cubicBezTo>
                      <a:lnTo>
                        <a:pt x="45" y="460"/>
                      </a:lnTo>
                      <a:lnTo>
                        <a:pt x="43" y="460"/>
                      </a:lnTo>
                      <a:lnTo>
                        <a:pt x="43" y="459"/>
                      </a:lnTo>
                      <a:lnTo>
                        <a:pt x="41" y="457"/>
                      </a:lnTo>
                      <a:lnTo>
                        <a:pt x="40" y="455"/>
                      </a:lnTo>
                      <a:lnTo>
                        <a:pt x="40" y="454"/>
                      </a:lnTo>
                      <a:lnTo>
                        <a:pt x="38" y="452"/>
                      </a:lnTo>
                      <a:lnTo>
                        <a:pt x="38" y="450"/>
                      </a:lnTo>
                      <a:lnTo>
                        <a:pt x="37" y="448"/>
                      </a:lnTo>
                      <a:lnTo>
                        <a:pt x="36" y="448"/>
                      </a:lnTo>
                      <a:cubicBezTo>
                        <a:pt x="34" y="443"/>
                        <a:pt x="36" y="439"/>
                        <a:pt x="38" y="438"/>
                      </a:cubicBezTo>
                      <a:cubicBezTo>
                        <a:pt x="43" y="436"/>
                        <a:pt x="47" y="438"/>
                        <a:pt x="49" y="441"/>
                      </a:cubicBezTo>
                      <a:lnTo>
                        <a:pt x="49" y="442"/>
                      </a:lnTo>
                      <a:lnTo>
                        <a:pt x="50" y="443"/>
                      </a:lnTo>
                      <a:lnTo>
                        <a:pt x="52" y="445"/>
                      </a:lnTo>
                      <a:lnTo>
                        <a:pt x="52" y="447"/>
                      </a:lnTo>
                      <a:lnTo>
                        <a:pt x="53" y="448"/>
                      </a:lnTo>
                      <a:lnTo>
                        <a:pt x="54" y="450"/>
                      </a:lnTo>
                      <a:lnTo>
                        <a:pt x="54" y="451"/>
                      </a:lnTo>
                      <a:lnTo>
                        <a:pt x="57" y="452"/>
                      </a:lnTo>
                      <a:close/>
                    </a:path>
                  </a:pathLst>
                </a:custGeom>
                <a:solidFill>
                  <a:schemeClr val="accent5"/>
                </a:solidFill>
                <a:ln w="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730" spc="-1" strike="noStrike">
                    <a:solidFill>
                      <a:srgbClr val="ffffff"/>
                    </a:solidFill>
                    <a:latin typeface="Calibri"/>
                  </a:endParaRPr>
                </a:p>
              </p:txBody>
            </p:sp>
            <p:sp>
              <p:nvSpPr>
                <p:cNvPr id="205" name="Freeform 20410"/>
                <p:cNvSpPr/>
                <p:nvPr/>
              </p:nvSpPr>
              <p:spPr>
                <a:xfrm>
                  <a:off x="6758640" y="2257200"/>
                  <a:ext cx="1600200" cy="1672920"/>
                </a:xfrm>
                <a:custGeom>
                  <a:avLst/>
                  <a:gdLst>
                    <a:gd name="textAreaLeft" fmla="*/ 0 w 1600200"/>
                    <a:gd name="textAreaRight" fmla="*/ 1600560 w 1600200"/>
                    <a:gd name="textAreaTop" fmla="*/ 0 h 1672920"/>
                    <a:gd name="textAreaBottom" fmla="*/ 1673280 h 1672920"/>
                  </a:gdLst>
                  <a:ahLst/>
                  <a:rect l="textAreaLeft" t="textAreaTop" r="textAreaRight" b="textAreaBottom"/>
                  <a:pathLst>
                    <a:path w="581" h="607">
                      <a:moveTo>
                        <a:pt x="80" y="98"/>
                      </a:moveTo>
                      <a:lnTo>
                        <a:pt x="80" y="98"/>
                      </a:lnTo>
                      <a:cubicBezTo>
                        <a:pt x="84" y="95"/>
                        <a:pt x="88" y="95"/>
                        <a:pt x="91" y="96"/>
                      </a:cubicBezTo>
                      <a:cubicBezTo>
                        <a:pt x="94" y="100"/>
                        <a:pt x="94" y="104"/>
                        <a:pt x="92" y="107"/>
                      </a:cubicBezTo>
                      <a:lnTo>
                        <a:pt x="91" y="108"/>
                      </a:lnTo>
                      <a:lnTo>
                        <a:pt x="89" y="110"/>
                      </a:lnTo>
                      <a:lnTo>
                        <a:pt x="88" y="112"/>
                      </a:lnTo>
                      <a:lnTo>
                        <a:pt x="87" y="113"/>
                      </a:lnTo>
                      <a:lnTo>
                        <a:pt x="87" y="115"/>
                      </a:lnTo>
                      <a:lnTo>
                        <a:pt x="85" y="116"/>
                      </a:lnTo>
                      <a:lnTo>
                        <a:pt x="84" y="117"/>
                      </a:lnTo>
                      <a:lnTo>
                        <a:pt x="82" y="117"/>
                      </a:lnTo>
                      <a:lnTo>
                        <a:pt x="82" y="119"/>
                      </a:lnTo>
                      <a:cubicBezTo>
                        <a:pt x="80" y="122"/>
                        <a:pt x="75" y="122"/>
                        <a:pt x="72" y="119"/>
                      </a:cubicBezTo>
                      <a:cubicBezTo>
                        <a:pt x="68" y="116"/>
                        <a:pt x="68" y="112"/>
                        <a:pt x="72" y="108"/>
                      </a:cubicBezTo>
                      <a:lnTo>
                        <a:pt x="73" y="107"/>
                      </a:lnTo>
                      <a:lnTo>
                        <a:pt x="73" y="105"/>
                      </a:lnTo>
                      <a:lnTo>
                        <a:pt x="75" y="104"/>
                      </a:lnTo>
                      <a:lnTo>
                        <a:pt x="76" y="103"/>
                      </a:lnTo>
                      <a:lnTo>
                        <a:pt x="77" y="101"/>
                      </a:lnTo>
                      <a:lnTo>
                        <a:pt x="79" y="100"/>
                      </a:lnTo>
                      <a:lnTo>
                        <a:pt x="80" y="100"/>
                      </a:lnTo>
                      <a:lnTo>
                        <a:pt x="80" y="98"/>
                      </a:lnTo>
                      <a:close/>
                      <a:moveTo>
                        <a:pt x="125" y="58"/>
                      </a:moveTo>
                      <a:lnTo>
                        <a:pt x="125" y="58"/>
                      </a:lnTo>
                      <a:cubicBezTo>
                        <a:pt x="128" y="56"/>
                        <a:pt x="133" y="56"/>
                        <a:pt x="136" y="60"/>
                      </a:cubicBezTo>
                      <a:cubicBezTo>
                        <a:pt x="138" y="63"/>
                        <a:pt x="137" y="67"/>
                        <a:pt x="133" y="70"/>
                      </a:cubicBezTo>
                      <a:lnTo>
                        <a:pt x="132" y="71"/>
                      </a:lnTo>
                      <a:lnTo>
                        <a:pt x="131" y="71"/>
                      </a:lnTo>
                      <a:lnTo>
                        <a:pt x="129" y="73"/>
                      </a:lnTo>
                      <a:lnTo>
                        <a:pt x="128" y="75"/>
                      </a:lnTo>
                      <a:lnTo>
                        <a:pt x="126" y="76"/>
                      </a:lnTo>
                      <a:lnTo>
                        <a:pt x="125" y="76"/>
                      </a:lnTo>
                      <a:lnTo>
                        <a:pt x="125" y="77"/>
                      </a:lnTo>
                      <a:lnTo>
                        <a:pt x="124" y="79"/>
                      </a:lnTo>
                      <a:lnTo>
                        <a:pt x="122" y="79"/>
                      </a:lnTo>
                      <a:cubicBezTo>
                        <a:pt x="119" y="82"/>
                        <a:pt x="115" y="80"/>
                        <a:pt x="113" y="77"/>
                      </a:cubicBezTo>
                      <a:cubicBezTo>
                        <a:pt x="110" y="75"/>
                        <a:pt x="110" y="70"/>
                        <a:pt x="113" y="67"/>
                      </a:cubicBezTo>
                      <a:lnTo>
                        <a:pt x="115" y="66"/>
                      </a:lnTo>
                      <a:lnTo>
                        <a:pt x="116" y="66"/>
                      </a:lnTo>
                      <a:lnTo>
                        <a:pt x="117" y="64"/>
                      </a:lnTo>
                      <a:lnTo>
                        <a:pt x="119" y="63"/>
                      </a:lnTo>
                      <a:lnTo>
                        <a:pt x="120" y="61"/>
                      </a:lnTo>
                      <a:lnTo>
                        <a:pt x="122" y="60"/>
                      </a:lnTo>
                      <a:lnTo>
                        <a:pt x="124" y="60"/>
                      </a:lnTo>
                      <a:lnTo>
                        <a:pt x="125" y="58"/>
                      </a:lnTo>
                      <a:close/>
                      <a:moveTo>
                        <a:pt x="177" y="28"/>
                      </a:moveTo>
                      <a:lnTo>
                        <a:pt x="177" y="28"/>
                      </a:lnTo>
                      <a:cubicBezTo>
                        <a:pt x="180" y="27"/>
                        <a:pt x="184" y="28"/>
                        <a:pt x="186" y="31"/>
                      </a:cubicBezTo>
                      <a:cubicBezTo>
                        <a:pt x="189" y="36"/>
                        <a:pt x="186" y="40"/>
                        <a:pt x="182" y="42"/>
                      </a:cubicBezTo>
                      <a:lnTo>
                        <a:pt x="180" y="42"/>
                      </a:lnTo>
                      <a:lnTo>
                        <a:pt x="178" y="43"/>
                      </a:lnTo>
                      <a:lnTo>
                        <a:pt x="177" y="43"/>
                      </a:lnTo>
                      <a:lnTo>
                        <a:pt x="175" y="45"/>
                      </a:lnTo>
                      <a:lnTo>
                        <a:pt x="174" y="46"/>
                      </a:lnTo>
                      <a:lnTo>
                        <a:pt x="172" y="46"/>
                      </a:lnTo>
                      <a:lnTo>
                        <a:pt x="171" y="48"/>
                      </a:lnTo>
                      <a:lnTo>
                        <a:pt x="169" y="48"/>
                      </a:lnTo>
                      <a:cubicBezTo>
                        <a:pt x="166" y="49"/>
                        <a:pt x="162" y="48"/>
                        <a:pt x="161" y="45"/>
                      </a:cubicBezTo>
                      <a:cubicBezTo>
                        <a:pt x="159" y="40"/>
                        <a:pt x="159" y="38"/>
                        <a:pt x="164" y="35"/>
                      </a:cubicBezTo>
                      <a:lnTo>
                        <a:pt x="165" y="35"/>
                      </a:lnTo>
                      <a:lnTo>
                        <a:pt x="166" y="33"/>
                      </a:lnTo>
                      <a:lnTo>
                        <a:pt x="168" y="33"/>
                      </a:lnTo>
                      <a:lnTo>
                        <a:pt x="169" y="31"/>
                      </a:lnTo>
                      <a:lnTo>
                        <a:pt x="171" y="31"/>
                      </a:lnTo>
                      <a:lnTo>
                        <a:pt x="172" y="30"/>
                      </a:lnTo>
                      <a:lnTo>
                        <a:pt x="174" y="30"/>
                      </a:lnTo>
                      <a:lnTo>
                        <a:pt x="175" y="28"/>
                      </a:lnTo>
                      <a:lnTo>
                        <a:pt x="177" y="28"/>
                      </a:lnTo>
                      <a:close/>
                      <a:moveTo>
                        <a:pt x="233" y="10"/>
                      </a:moveTo>
                      <a:lnTo>
                        <a:pt x="233" y="10"/>
                      </a:lnTo>
                      <a:cubicBezTo>
                        <a:pt x="236" y="7"/>
                        <a:pt x="240" y="11"/>
                        <a:pt x="242" y="14"/>
                      </a:cubicBezTo>
                      <a:cubicBezTo>
                        <a:pt x="242" y="18"/>
                        <a:pt x="240" y="23"/>
                        <a:pt x="236" y="23"/>
                      </a:cubicBezTo>
                      <a:lnTo>
                        <a:pt x="234" y="24"/>
                      </a:lnTo>
                      <a:lnTo>
                        <a:pt x="233" y="24"/>
                      </a:lnTo>
                      <a:lnTo>
                        <a:pt x="230" y="24"/>
                      </a:lnTo>
                      <a:lnTo>
                        <a:pt x="229" y="24"/>
                      </a:lnTo>
                      <a:lnTo>
                        <a:pt x="227" y="26"/>
                      </a:lnTo>
                      <a:lnTo>
                        <a:pt x="226" y="26"/>
                      </a:lnTo>
                      <a:lnTo>
                        <a:pt x="224" y="26"/>
                      </a:lnTo>
                      <a:lnTo>
                        <a:pt x="222" y="27"/>
                      </a:lnTo>
                      <a:cubicBezTo>
                        <a:pt x="218" y="27"/>
                        <a:pt x="215" y="26"/>
                        <a:pt x="214" y="21"/>
                      </a:cubicBezTo>
                      <a:cubicBezTo>
                        <a:pt x="212" y="18"/>
                        <a:pt x="214" y="14"/>
                        <a:pt x="218" y="12"/>
                      </a:cubicBezTo>
                      <a:lnTo>
                        <a:pt x="219" y="12"/>
                      </a:lnTo>
                      <a:lnTo>
                        <a:pt x="221" y="12"/>
                      </a:lnTo>
                      <a:lnTo>
                        <a:pt x="224" y="11"/>
                      </a:lnTo>
                      <a:lnTo>
                        <a:pt x="226" y="11"/>
                      </a:lnTo>
                      <a:lnTo>
                        <a:pt x="227" y="11"/>
                      </a:lnTo>
                      <a:lnTo>
                        <a:pt x="229" y="10"/>
                      </a:lnTo>
                      <a:lnTo>
                        <a:pt x="230" y="10"/>
                      </a:lnTo>
                      <a:lnTo>
                        <a:pt x="233" y="10"/>
                      </a:lnTo>
                      <a:close/>
                      <a:moveTo>
                        <a:pt x="291" y="0"/>
                      </a:moveTo>
                      <a:lnTo>
                        <a:pt x="291" y="0"/>
                      </a:lnTo>
                      <a:cubicBezTo>
                        <a:pt x="295" y="0"/>
                        <a:pt x="298" y="3"/>
                        <a:pt x="300" y="7"/>
                      </a:cubicBezTo>
                      <a:cubicBezTo>
                        <a:pt x="300" y="12"/>
                        <a:pt x="296" y="15"/>
                        <a:pt x="292" y="15"/>
                      </a:cubicBezTo>
                      <a:lnTo>
                        <a:pt x="291" y="15"/>
                      </a:lnTo>
                      <a:lnTo>
                        <a:pt x="289" y="15"/>
                      </a:lnTo>
                      <a:lnTo>
                        <a:pt x="288" y="15"/>
                      </a:lnTo>
                      <a:lnTo>
                        <a:pt x="285" y="15"/>
                      </a:lnTo>
                      <a:lnTo>
                        <a:pt x="283" y="15"/>
                      </a:lnTo>
                      <a:lnTo>
                        <a:pt x="282" y="15"/>
                      </a:lnTo>
                      <a:lnTo>
                        <a:pt x="280" y="17"/>
                      </a:lnTo>
                      <a:lnTo>
                        <a:pt x="279" y="17"/>
                      </a:lnTo>
                      <a:lnTo>
                        <a:pt x="278" y="17"/>
                      </a:lnTo>
                      <a:cubicBezTo>
                        <a:pt x="275" y="17"/>
                        <a:pt x="270" y="14"/>
                        <a:pt x="270" y="10"/>
                      </a:cubicBezTo>
                      <a:cubicBezTo>
                        <a:pt x="270" y="6"/>
                        <a:pt x="273" y="2"/>
                        <a:pt x="276" y="2"/>
                      </a:cubicBezTo>
                      <a:lnTo>
                        <a:pt x="278" y="2"/>
                      </a:lnTo>
                      <a:lnTo>
                        <a:pt x="279" y="2"/>
                      </a:lnTo>
                      <a:lnTo>
                        <a:pt x="280" y="2"/>
                      </a:lnTo>
                      <a:lnTo>
                        <a:pt x="283" y="2"/>
                      </a:lnTo>
                      <a:lnTo>
                        <a:pt x="285" y="0"/>
                      </a:lnTo>
                      <a:lnTo>
                        <a:pt x="286" y="0"/>
                      </a:lnTo>
                      <a:lnTo>
                        <a:pt x="288" y="0"/>
                      </a:lnTo>
                      <a:lnTo>
                        <a:pt x="289" y="0"/>
                      </a:lnTo>
                      <a:lnTo>
                        <a:pt x="291" y="0"/>
                      </a:lnTo>
                      <a:close/>
                      <a:moveTo>
                        <a:pt x="350" y="5"/>
                      </a:moveTo>
                      <a:lnTo>
                        <a:pt x="350" y="5"/>
                      </a:lnTo>
                      <a:cubicBezTo>
                        <a:pt x="355" y="5"/>
                        <a:pt x="357" y="7"/>
                        <a:pt x="357" y="12"/>
                      </a:cubicBezTo>
                      <a:cubicBezTo>
                        <a:pt x="356" y="17"/>
                        <a:pt x="353" y="19"/>
                        <a:pt x="348" y="18"/>
                      </a:cubicBezTo>
                      <a:lnTo>
                        <a:pt x="347" y="18"/>
                      </a:lnTo>
                      <a:lnTo>
                        <a:pt x="344" y="18"/>
                      </a:lnTo>
                      <a:lnTo>
                        <a:pt x="343" y="18"/>
                      </a:lnTo>
                      <a:lnTo>
                        <a:pt x="341" y="18"/>
                      </a:lnTo>
                      <a:lnTo>
                        <a:pt x="340" y="17"/>
                      </a:lnTo>
                      <a:lnTo>
                        <a:pt x="338" y="17"/>
                      </a:lnTo>
                      <a:lnTo>
                        <a:pt x="336" y="17"/>
                      </a:lnTo>
                      <a:lnTo>
                        <a:pt x="334" y="17"/>
                      </a:lnTo>
                      <a:cubicBezTo>
                        <a:pt x="331" y="17"/>
                        <a:pt x="328" y="12"/>
                        <a:pt x="328" y="10"/>
                      </a:cubicBezTo>
                      <a:cubicBezTo>
                        <a:pt x="328" y="5"/>
                        <a:pt x="332" y="2"/>
                        <a:pt x="336" y="2"/>
                      </a:cubicBezTo>
                      <a:lnTo>
                        <a:pt x="338" y="2"/>
                      </a:lnTo>
                      <a:lnTo>
                        <a:pt x="340" y="3"/>
                      </a:lnTo>
                      <a:lnTo>
                        <a:pt x="341" y="3"/>
                      </a:lnTo>
                      <a:lnTo>
                        <a:pt x="343" y="3"/>
                      </a:lnTo>
                      <a:lnTo>
                        <a:pt x="345" y="3"/>
                      </a:lnTo>
                      <a:lnTo>
                        <a:pt x="347" y="3"/>
                      </a:lnTo>
                      <a:lnTo>
                        <a:pt x="348" y="3"/>
                      </a:lnTo>
                      <a:lnTo>
                        <a:pt x="350" y="5"/>
                      </a:lnTo>
                      <a:close/>
                      <a:moveTo>
                        <a:pt x="394" y="14"/>
                      </a:moveTo>
                      <a:lnTo>
                        <a:pt x="390" y="28"/>
                      </a:lnTo>
                      <a:lnTo>
                        <a:pt x="394" y="14"/>
                      </a:lnTo>
                      <a:close/>
                      <a:moveTo>
                        <a:pt x="408" y="19"/>
                      </a:moveTo>
                      <a:lnTo>
                        <a:pt x="408" y="19"/>
                      </a:lnTo>
                      <a:cubicBezTo>
                        <a:pt x="412" y="21"/>
                        <a:pt x="414" y="24"/>
                        <a:pt x="412" y="28"/>
                      </a:cubicBezTo>
                      <a:cubicBezTo>
                        <a:pt x="410" y="33"/>
                        <a:pt x="406" y="35"/>
                        <a:pt x="403" y="33"/>
                      </a:cubicBezTo>
                      <a:lnTo>
                        <a:pt x="402" y="33"/>
                      </a:lnTo>
                      <a:lnTo>
                        <a:pt x="400" y="31"/>
                      </a:lnTo>
                      <a:lnTo>
                        <a:pt x="399" y="31"/>
                      </a:lnTo>
                      <a:lnTo>
                        <a:pt x="396" y="30"/>
                      </a:lnTo>
                      <a:lnTo>
                        <a:pt x="394" y="30"/>
                      </a:lnTo>
                      <a:lnTo>
                        <a:pt x="393" y="30"/>
                      </a:lnTo>
                      <a:lnTo>
                        <a:pt x="392" y="28"/>
                      </a:lnTo>
                      <a:lnTo>
                        <a:pt x="390" y="28"/>
                      </a:lnTo>
                      <a:cubicBezTo>
                        <a:pt x="385" y="27"/>
                        <a:pt x="384" y="23"/>
                        <a:pt x="385" y="19"/>
                      </a:cubicBezTo>
                      <a:cubicBezTo>
                        <a:pt x="385" y="15"/>
                        <a:pt x="390" y="14"/>
                        <a:pt x="394" y="14"/>
                      </a:cubicBezTo>
                      <a:lnTo>
                        <a:pt x="396" y="15"/>
                      </a:lnTo>
                      <a:lnTo>
                        <a:pt x="397" y="15"/>
                      </a:lnTo>
                      <a:lnTo>
                        <a:pt x="399" y="17"/>
                      </a:lnTo>
                      <a:lnTo>
                        <a:pt x="402" y="17"/>
                      </a:lnTo>
                      <a:lnTo>
                        <a:pt x="403" y="17"/>
                      </a:lnTo>
                      <a:lnTo>
                        <a:pt x="405" y="18"/>
                      </a:lnTo>
                      <a:lnTo>
                        <a:pt x="406" y="18"/>
                      </a:lnTo>
                      <a:lnTo>
                        <a:pt x="408" y="19"/>
                      </a:lnTo>
                      <a:close/>
                      <a:moveTo>
                        <a:pt x="461" y="45"/>
                      </a:moveTo>
                      <a:lnTo>
                        <a:pt x="461" y="45"/>
                      </a:lnTo>
                      <a:cubicBezTo>
                        <a:pt x="466" y="48"/>
                        <a:pt x="466" y="52"/>
                        <a:pt x="464" y="55"/>
                      </a:cubicBezTo>
                      <a:cubicBezTo>
                        <a:pt x="462" y="58"/>
                        <a:pt x="457" y="60"/>
                        <a:pt x="454" y="58"/>
                      </a:cubicBezTo>
                      <a:lnTo>
                        <a:pt x="454" y="56"/>
                      </a:lnTo>
                      <a:lnTo>
                        <a:pt x="452" y="56"/>
                      </a:lnTo>
                      <a:lnTo>
                        <a:pt x="449" y="55"/>
                      </a:lnTo>
                      <a:lnTo>
                        <a:pt x="448" y="54"/>
                      </a:lnTo>
                      <a:lnTo>
                        <a:pt x="446" y="54"/>
                      </a:lnTo>
                      <a:lnTo>
                        <a:pt x="445" y="52"/>
                      </a:lnTo>
                      <a:lnTo>
                        <a:pt x="443" y="51"/>
                      </a:lnTo>
                      <a:lnTo>
                        <a:pt x="442" y="51"/>
                      </a:lnTo>
                      <a:cubicBezTo>
                        <a:pt x="438" y="48"/>
                        <a:pt x="437" y="45"/>
                        <a:pt x="438" y="40"/>
                      </a:cubicBezTo>
                      <a:cubicBezTo>
                        <a:pt x="441" y="38"/>
                        <a:pt x="445" y="36"/>
                        <a:pt x="449" y="38"/>
                      </a:cubicBezTo>
                      <a:lnTo>
                        <a:pt x="450" y="39"/>
                      </a:lnTo>
                      <a:lnTo>
                        <a:pt x="452" y="40"/>
                      </a:lnTo>
                      <a:lnTo>
                        <a:pt x="454" y="40"/>
                      </a:lnTo>
                      <a:lnTo>
                        <a:pt x="455" y="42"/>
                      </a:lnTo>
                      <a:lnTo>
                        <a:pt x="457" y="42"/>
                      </a:lnTo>
                      <a:lnTo>
                        <a:pt x="459" y="43"/>
                      </a:lnTo>
                      <a:lnTo>
                        <a:pt x="461" y="45"/>
                      </a:lnTo>
                      <a:close/>
                      <a:moveTo>
                        <a:pt x="508" y="80"/>
                      </a:moveTo>
                      <a:lnTo>
                        <a:pt x="508" y="80"/>
                      </a:lnTo>
                      <a:cubicBezTo>
                        <a:pt x="511" y="83"/>
                        <a:pt x="511" y="88"/>
                        <a:pt x="510" y="91"/>
                      </a:cubicBezTo>
                      <a:cubicBezTo>
                        <a:pt x="507" y="94"/>
                        <a:pt x="503" y="94"/>
                        <a:pt x="499" y="92"/>
                      </a:cubicBezTo>
                      <a:lnTo>
                        <a:pt x="498" y="91"/>
                      </a:lnTo>
                      <a:lnTo>
                        <a:pt x="497" y="89"/>
                      </a:lnTo>
                      <a:lnTo>
                        <a:pt x="495" y="88"/>
                      </a:lnTo>
                      <a:lnTo>
                        <a:pt x="494" y="87"/>
                      </a:lnTo>
                      <a:lnTo>
                        <a:pt x="492" y="87"/>
                      </a:lnTo>
                      <a:lnTo>
                        <a:pt x="491" y="85"/>
                      </a:lnTo>
                      <a:lnTo>
                        <a:pt x="491" y="83"/>
                      </a:lnTo>
                      <a:lnTo>
                        <a:pt x="489" y="82"/>
                      </a:lnTo>
                      <a:lnTo>
                        <a:pt x="487" y="82"/>
                      </a:lnTo>
                      <a:cubicBezTo>
                        <a:pt x="485" y="80"/>
                        <a:pt x="485" y="75"/>
                        <a:pt x="487" y="71"/>
                      </a:cubicBezTo>
                      <a:cubicBezTo>
                        <a:pt x="491" y="68"/>
                        <a:pt x="495" y="68"/>
                        <a:pt x="498" y="71"/>
                      </a:cubicBezTo>
                      <a:lnTo>
                        <a:pt x="499" y="73"/>
                      </a:lnTo>
                      <a:lnTo>
                        <a:pt x="501" y="73"/>
                      </a:lnTo>
                      <a:lnTo>
                        <a:pt x="503" y="75"/>
                      </a:lnTo>
                      <a:lnTo>
                        <a:pt x="504" y="76"/>
                      </a:lnTo>
                      <a:lnTo>
                        <a:pt x="506" y="77"/>
                      </a:lnTo>
                      <a:lnTo>
                        <a:pt x="507" y="79"/>
                      </a:lnTo>
                      <a:lnTo>
                        <a:pt x="508" y="80"/>
                      </a:lnTo>
                      <a:close/>
                      <a:moveTo>
                        <a:pt x="548" y="125"/>
                      </a:moveTo>
                      <a:lnTo>
                        <a:pt x="548" y="125"/>
                      </a:lnTo>
                      <a:cubicBezTo>
                        <a:pt x="550" y="128"/>
                        <a:pt x="550" y="133"/>
                        <a:pt x="547" y="135"/>
                      </a:cubicBezTo>
                      <a:cubicBezTo>
                        <a:pt x="544" y="138"/>
                        <a:pt x="539" y="137"/>
                        <a:pt x="536" y="133"/>
                      </a:cubicBezTo>
                      <a:lnTo>
                        <a:pt x="535" y="132"/>
                      </a:lnTo>
                      <a:lnTo>
                        <a:pt x="535" y="131"/>
                      </a:lnTo>
                      <a:lnTo>
                        <a:pt x="534" y="129"/>
                      </a:lnTo>
                      <a:lnTo>
                        <a:pt x="532" y="128"/>
                      </a:lnTo>
                      <a:lnTo>
                        <a:pt x="532" y="126"/>
                      </a:lnTo>
                      <a:lnTo>
                        <a:pt x="531" y="126"/>
                      </a:lnTo>
                      <a:lnTo>
                        <a:pt x="529" y="125"/>
                      </a:lnTo>
                      <a:lnTo>
                        <a:pt x="527" y="124"/>
                      </a:lnTo>
                      <a:lnTo>
                        <a:pt x="527" y="122"/>
                      </a:lnTo>
                      <a:cubicBezTo>
                        <a:pt x="525" y="119"/>
                        <a:pt x="526" y="115"/>
                        <a:pt x="529" y="113"/>
                      </a:cubicBezTo>
                      <a:cubicBezTo>
                        <a:pt x="532" y="110"/>
                        <a:pt x="536" y="110"/>
                        <a:pt x="539" y="113"/>
                      </a:cubicBezTo>
                      <a:lnTo>
                        <a:pt x="539" y="115"/>
                      </a:lnTo>
                      <a:lnTo>
                        <a:pt x="541" y="116"/>
                      </a:lnTo>
                      <a:lnTo>
                        <a:pt x="543" y="117"/>
                      </a:lnTo>
                      <a:lnTo>
                        <a:pt x="544" y="119"/>
                      </a:lnTo>
                      <a:lnTo>
                        <a:pt x="546" y="120"/>
                      </a:lnTo>
                      <a:lnTo>
                        <a:pt x="547" y="122"/>
                      </a:lnTo>
                      <a:lnTo>
                        <a:pt x="547" y="124"/>
                      </a:lnTo>
                      <a:lnTo>
                        <a:pt x="548" y="125"/>
                      </a:lnTo>
                      <a:close/>
                      <a:moveTo>
                        <a:pt x="578" y="177"/>
                      </a:moveTo>
                      <a:lnTo>
                        <a:pt x="578" y="177"/>
                      </a:lnTo>
                      <a:cubicBezTo>
                        <a:pt x="580" y="180"/>
                        <a:pt x="578" y="184"/>
                        <a:pt x="575" y="185"/>
                      </a:cubicBezTo>
                      <a:cubicBezTo>
                        <a:pt x="571" y="189"/>
                        <a:pt x="567" y="185"/>
                        <a:pt x="564" y="182"/>
                      </a:cubicBezTo>
                      <a:lnTo>
                        <a:pt x="564" y="181"/>
                      </a:lnTo>
                      <a:lnTo>
                        <a:pt x="563" y="178"/>
                      </a:lnTo>
                      <a:lnTo>
                        <a:pt x="563" y="177"/>
                      </a:lnTo>
                      <a:lnTo>
                        <a:pt x="562" y="175"/>
                      </a:lnTo>
                      <a:lnTo>
                        <a:pt x="562" y="174"/>
                      </a:lnTo>
                      <a:lnTo>
                        <a:pt x="560" y="172"/>
                      </a:lnTo>
                      <a:lnTo>
                        <a:pt x="559" y="170"/>
                      </a:lnTo>
                      <a:lnTo>
                        <a:pt x="559" y="169"/>
                      </a:lnTo>
                      <a:cubicBezTo>
                        <a:pt x="557" y="166"/>
                        <a:pt x="559" y="162"/>
                        <a:pt x="562" y="160"/>
                      </a:cubicBezTo>
                      <a:cubicBezTo>
                        <a:pt x="567" y="159"/>
                        <a:pt x="569" y="159"/>
                        <a:pt x="572" y="164"/>
                      </a:cubicBezTo>
                      <a:lnTo>
                        <a:pt x="572" y="165"/>
                      </a:lnTo>
                      <a:lnTo>
                        <a:pt x="574" y="166"/>
                      </a:lnTo>
                      <a:lnTo>
                        <a:pt x="574" y="168"/>
                      </a:lnTo>
                      <a:lnTo>
                        <a:pt x="575" y="169"/>
                      </a:lnTo>
                      <a:lnTo>
                        <a:pt x="575" y="170"/>
                      </a:lnTo>
                      <a:lnTo>
                        <a:pt x="576" y="172"/>
                      </a:lnTo>
                      <a:lnTo>
                        <a:pt x="576" y="174"/>
                      </a:lnTo>
                      <a:lnTo>
                        <a:pt x="578" y="175"/>
                      </a:lnTo>
                      <a:lnTo>
                        <a:pt x="578" y="177"/>
                      </a:lnTo>
                      <a:close/>
                      <a:moveTo>
                        <a:pt x="316" y="606"/>
                      </a:moveTo>
                      <a:lnTo>
                        <a:pt x="316" y="606"/>
                      </a:lnTo>
                      <a:cubicBezTo>
                        <a:pt x="311" y="606"/>
                        <a:pt x="308" y="603"/>
                        <a:pt x="308" y="599"/>
                      </a:cubicBezTo>
                      <a:cubicBezTo>
                        <a:pt x="308" y="596"/>
                        <a:pt x="311" y="591"/>
                        <a:pt x="315" y="591"/>
                      </a:cubicBezTo>
                      <a:lnTo>
                        <a:pt x="316" y="591"/>
                      </a:lnTo>
                      <a:lnTo>
                        <a:pt x="317" y="591"/>
                      </a:lnTo>
                      <a:lnTo>
                        <a:pt x="319" y="591"/>
                      </a:lnTo>
                      <a:lnTo>
                        <a:pt x="322" y="591"/>
                      </a:lnTo>
                      <a:lnTo>
                        <a:pt x="323" y="591"/>
                      </a:lnTo>
                      <a:lnTo>
                        <a:pt x="325" y="591"/>
                      </a:lnTo>
                      <a:lnTo>
                        <a:pt x="327" y="591"/>
                      </a:lnTo>
                      <a:lnTo>
                        <a:pt x="328" y="591"/>
                      </a:lnTo>
                      <a:lnTo>
                        <a:pt x="329" y="590"/>
                      </a:lnTo>
                      <a:cubicBezTo>
                        <a:pt x="334" y="590"/>
                        <a:pt x="336" y="593"/>
                        <a:pt x="336" y="597"/>
                      </a:cubicBezTo>
                      <a:cubicBezTo>
                        <a:pt x="336" y="601"/>
                        <a:pt x="334" y="604"/>
                        <a:pt x="331" y="604"/>
                      </a:cubicBezTo>
                      <a:lnTo>
                        <a:pt x="329" y="604"/>
                      </a:lnTo>
                      <a:lnTo>
                        <a:pt x="328" y="604"/>
                      </a:lnTo>
                      <a:lnTo>
                        <a:pt x="327" y="604"/>
                      </a:lnTo>
                      <a:lnTo>
                        <a:pt x="323" y="606"/>
                      </a:lnTo>
                      <a:lnTo>
                        <a:pt x="322" y="606"/>
                      </a:lnTo>
                      <a:lnTo>
                        <a:pt x="320" y="606"/>
                      </a:lnTo>
                      <a:lnTo>
                        <a:pt x="319" y="606"/>
                      </a:lnTo>
                      <a:lnTo>
                        <a:pt x="317" y="606"/>
                      </a:lnTo>
                      <a:lnTo>
                        <a:pt x="316" y="606"/>
                      </a:lnTo>
                      <a:close/>
                      <a:moveTo>
                        <a:pt x="257" y="603"/>
                      </a:moveTo>
                      <a:lnTo>
                        <a:pt x="257" y="603"/>
                      </a:lnTo>
                      <a:cubicBezTo>
                        <a:pt x="252" y="601"/>
                        <a:pt x="250" y="599"/>
                        <a:pt x="251" y="594"/>
                      </a:cubicBezTo>
                      <a:cubicBezTo>
                        <a:pt x="251" y="590"/>
                        <a:pt x="255" y="588"/>
                        <a:pt x="258" y="588"/>
                      </a:cubicBezTo>
                      <a:lnTo>
                        <a:pt x="259" y="588"/>
                      </a:lnTo>
                      <a:lnTo>
                        <a:pt x="263" y="588"/>
                      </a:lnTo>
                      <a:lnTo>
                        <a:pt x="264" y="588"/>
                      </a:lnTo>
                      <a:lnTo>
                        <a:pt x="266" y="590"/>
                      </a:lnTo>
                      <a:lnTo>
                        <a:pt x="267" y="590"/>
                      </a:lnTo>
                      <a:lnTo>
                        <a:pt x="268" y="590"/>
                      </a:lnTo>
                      <a:lnTo>
                        <a:pt x="270" y="590"/>
                      </a:lnTo>
                      <a:lnTo>
                        <a:pt x="273" y="590"/>
                      </a:lnTo>
                      <a:cubicBezTo>
                        <a:pt x="276" y="590"/>
                        <a:pt x="279" y="594"/>
                        <a:pt x="279" y="599"/>
                      </a:cubicBezTo>
                      <a:cubicBezTo>
                        <a:pt x="279" y="601"/>
                        <a:pt x="275" y="604"/>
                        <a:pt x="271" y="604"/>
                      </a:cubicBezTo>
                      <a:lnTo>
                        <a:pt x="268" y="604"/>
                      </a:lnTo>
                      <a:lnTo>
                        <a:pt x="267" y="604"/>
                      </a:lnTo>
                      <a:lnTo>
                        <a:pt x="266" y="603"/>
                      </a:lnTo>
                      <a:lnTo>
                        <a:pt x="264" y="603"/>
                      </a:lnTo>
                      <a:lnTo>
                        <a:pt x="261" y="603"/>
                      </a:lnTo>
                      <a:lnTo>
                        <a:pt x="259" y="603"/>
                      </a:lnTo>
                      <a:lnTo>
                        <a:pt x="258" y="603"/>
                      </a:lnTo>
                      <a:lnTo>
                        <a:pt x="257" y="603"/>
                      </a:lnTo>
                      <a:close/>
                      <a:moveTo>
                        <a:pt x="199" y="588"/>
                      </a:moveTo>
                      <a:lnTo>
                        <a:pt x="199" y="588"/>
                      </a:lnTo>
                      <a:cubicBezTo>
                        <a:pt x="194" y="587"/>
                        <a:pt x="193" y="583"/>
                        <a:pt x="194" y="578"/>
                      </a:cubicBezTo>
                      <a:cubicBezTo>
                        <a:pt x="196" y="575"/>
                        <a:pt x="201" y="572"/>
                        <a:pt x="203" y="573"/>
                      </a:cubicBezTo>
                      <a:lnTo>
                        <a:pt x="205" y="575"/>
                      </a:lnTo>
                      <a:lnTo>
                        <a:pt x="206" y="575"/>
                      </a:lnTo>
                      <a:lnTo>
                        <a:pt x="208" y="575"/>
                      </a:lnTo>
                      <a:lnTo>
                        <a:pt x="211" y="576"/>
                      </a:lnTo>
                      <a:lnTo>
                        <a:pt x="212" y="576"/>
                      </a:lnTo>
                      <a:lnTo>
                        <a:pt x="214" y="578"/>
                      </a:lnTo>
                      <a:lnTo>
                        <a:pt x="215" y="578"/>
                      </a:lnTo>
                      <a:lnTo>
                        <a:pt x="217" y="578"/>
                      </a:lnTo>
                      <a:cubicBezTo>
                        <a:pt x="221" y="579"/>
                        <a:pt x="222" y="584"/>
                        <a:pt x="222" y="588"/>
                      </a:cubicBezTo>
                      <a:cubicBezTo>
                        <a:pt x="221" y="591"/>
                        <a:pt x="217" y="594"/>
                        <a:pt x="212" y="593"/>
                      </a:cubicBezTo>
                      <a:lnTo>
                        <a:pt x="211" y="591"/>
                      </a:lnTo>
                      <a:lnTo>
                        <a:pt x="209" y="591"/>
                      </a:lnTo>
                      <a:lnTo>
                        <a:pt x="208" y="591"/>
                      </a:lnTo>
                      <a:lnTo>
                        <a:pt x="205" y="590"/>
                      </a:lnTo>
                      <a:lnTo>
                        <a:pt x="203" y="590"/>
                      </a:lnTo>
                      <a:lnTo>
                        <a:pt x="202" y="588"/>
                      </a:lnTo>
                      <a:lnTo>
                        <a:pt x="201" y="588"/>
                      </a:lnTo>
                      <a:lnTo>
                        <a:pt x="199" y="588"/>
                      </a:lnTo>
                      <a:close/>
                      <a:moveTo>
                        <a:pt x="145" y="562"/>
                      </a:moveTo>
                      <a:lnTo>
                        <a:pt x="145" y="562"/>
                      </a:lnTo>
                      <a:cubicBezTo>
                        <a:pt x="143" y="560"/>
                        <a:pt x="141" y="556"/>
                        <a:pt x="143" y="551"/>
                      </a:cubicBezTo>
                      <a:cubicBezTo>
                        <a:pt x="145" y="548"/>
                        <a:pt x="150" y="547"/>
                        <a:pt x="153" y="550"/>
                      </a:cubicBezTo>
                      <a:lnTo>
                        <a:pt x="154" y="551"/>
                      </a:lnTo>
                      <a:lnTo>
                        <a:pt x="157" y="551"/>
                      </a:lnTo>
                      <a:lnTo>
                        <a:pt x="159" y="552"/>
                      </a:lnTo>
                      <a:lnTo>
                        <a:pt x="161" y="552"/>
                      </a:lnTo>
                      <a:lnTo>
                        <a:pt x="162" y="555"/>
                      </a:lnTo>
                      <a:lnTo>
                        <a:pt x="164" y="556"/>
                      </a:lnTo>
                      <a:lnTo>
                        <a:pt x="165" y="556"/>
                      </a:lnTo>
                      <a:cubicBezTo>
                        <a:pt x="169" y="559"/>
                        <a:pt x="171" y="563"/>
                        <a:pt x="168" y="566"/>
                      </a:cubicBezTo>
                      <a:cubicBezTo>
                        <a:pt x="166" y="569"/>
                        <a:pt x="162" y="571"/>
                        <a:pt x="159" y="569"/>
                      </a:cubicBezTo>
                      <a:lnTo>
                        <a:pt x="157" y="569"/>
                      </a:lnTo>
                      <a:lnTo>
                        <a:pt x="156" y="568"/>
                      </a:lnTo>
                      <a:lnTo>
                        <a:pt x="154" y="568"/>
                      </a:lnTo>
                      <a:lnTo>
                        <a:pt x="153" y="566"/>
                      </a:lnTo>
                      <a:lnTo>
                        <a:pt x="152" y="564"/>
                      </a:lnTo>
                      <a:lnTo>
                        <a:pt x="150" y="564"/>
                      </a:lnTo>
                      <a:lnTo>
                        <a:pt x="147" y="563"/>
                      </a:lnTo>
                      <a:lnTo>
                        <a:pt x="145" y="562"/>
                      </a:lnTo>
                      <a:close/>
                      <a:moveTo>
                        <a:pt x="98" y="526"/>
                      </a:moveTo>
                      <a:lnTo>
                        <a:pt x="98" y="526"/>
                      </a:lnTo>
                      <a:cubicBezTo>
                        <a:pt x="95" y="523"/>
                        <a:pt x="95" y="519"/>
                        <a:pt x="98" y="515"/>
                      </a:cubicBezTo>
                      <a:cubicBezTo>
                        <a:pt x="100" y="513"/>
                        <a:pt x="105" y="513"/>
                        <a:pt x="108" y="515"/>
                      </a:cubicBezTo>
                      <a:lnTo>
                        <a:pt x="110" y="518"/>
                      </a:lnTo>
                      <a:lnTo>
                        <a:pt x="112" y="519"/>
                      </a:lnTo>
                      <a:lnTo>
                        <a:pt x="113" y="520"/>
                      </a:lnTo>
                      <a:lnTo>
                        <a:pt x="115" y="520"/>
                      </a:lnTo>
                      <a:lnTo>
                        <a:pt x="116" y="522"/>
                      </a:lnTo>
                      <a:lnTo>
                        <a:pt x="116" y="523"/>
                      </a:lnTo>
                      <a:lnTo>
                        <a:pt x="117" y="525"/>
                      </a:lnTo>
                      <a:lnTo>
                        <a:pt x="119" y="525"/>
                      </a:lnTo>
                      <a:cubicBezTo>
                        <a:pt x="122" y="527"/>
                        <a:pt x="122" y="532"/>
                        <a:pt x="119" y="535"/>
                      </a:cubicBezTo>
                      <a:cubicBezTo>
                        <a:pt x="117" y="538"/>
                        <a:pt x="113" y="538"/>
                        <a:pt x="108" y="536"/>
                      </a:cubicBezTo>
                      <a:lnTo>
                        <a:pt x="108" y="535"/>
                      </a:lnTo>
                      <a:lnTo>
                        <a:pt x="107" y="534"/>
                      </a:lnTo>
                      <a:lnTo>
                        <a:pt x="105" y="534"/>
                      </a:lnTo>
                      <a:lnTo>
                        <a:pt x="104" y="532"/>
                      </a:lnTo>
                      <a:lnTo>
                        <a:pt x="103" y="531"/>
                      </a:lnTo>
                      <a:lnTo>
                        <a:pt x="101" y="529"/>
                      </a:lnTo>
                      <a:lnTo>
                        <a:pt x="100" y="527"/>
                      </a:lnTo>
                      <a:lnTo>
                        <a:pt x="98" y="526"/>
                      </a:lnTo>
                      <a:close/>
                      <a:moveTo>
                        <a:pt x="59" y="482"/>
                      </a:moveTo>
                      <a:lnTo>
                        <a:pt x="59" y="482"/>
                      </a:lnTo>
                      <a:cubicBezTo>
                        <a:pt x="56" y="479"/>
                        <a:pt x="56" y="474"/>
                        <a:pt x="60" y="471"/>
                      </a:cubicBezTo>
                      <a:cubicBezTo>
                        <a:pt x="63" y="470"/>
                        <a:pt x="68" y="470"/>
                        <a:pt x="70" y="473"/>
                      </a:cubicBezTo>
                      <a:lnTo>
                        <a:pt x="72" y="474"/>
                      </a:lnTo>
                      <a:lnTo>
                        <a:pt x="72" y="476"/>
                      </a:lnTo>
                      <a:lnTo>
                        <a:pt x="73" y="477"/>
                      </a:lnTo>
                      <a:lnTo>
                        <a:pt x="75" y="479"/>
                      </a:lnTo>
                      <a:lnTo>
                        <a:pt x="75" y="480"/>
                      </a:lnTo>
                      <a:lnTo>
                        <a:pt x="76" y="482"/>
                      </a:lnTo>
                      <a:lnTo>
                        <a:pt x="77" y="483"/>
                      </a:lnTo>
                      <a:lnTo>
                        <a:pt x="79" y="483"/>
                      </a:lnTo>
                      <a:lnTo>
                        <a:pt x="79" y="485"/>
                      </a:lnTo>
                      <a:cubicBezTo>
                        <a:pt x="82" y="487"/>
                        <a:pt x="80" y="492"/>
                        <a:pt x="77" y="495"/>
                      </a:cubicBezTo>
                      <a:cubicBezTo>
                        <a:pt x="75" y="497"/>
                        <a:pt x="70" y="497"/>
                        <a:pt x="67" y="494"/>
                      </a:cubicBezTo>
                      <a:lnTo>
                        <a:pt x="66" y="492"/>
                      </a:lnTo>
                      <a:lnTo>
                        <a:pt x="64" y="490"/>
                      </a:lnTo>
                      <a:lnTo>
                        <a:pt x="64" y="489"/>
                      </a:lnTo>
                      <a:lnTo>
                        <a:pt x="63" y="487"/>
                      </a:lnTo>
                      <a:lnTo>
                        <a:pt x="61" y="486"/>
                      </a:lnTo>
                      <a:lnTo>
                        <a:pt x="60" y="485"/>
                      </a:lnTo>
                      <a:lnTo>
                        <a:pt x="60" y="483"/>
                      </a:lnTo>
                      <a:lnTo>
                        <a:pt x="59" y="482"/>
                      </a:lnTo>
                      <a:close/>
                      <a:moveTo>
                        <a:pt x="28" y="430"/>
                      </a:moveTo>
                      <a:lnTo>
                        <a:pt x="28" y="430"/>
                      </a:lnTo>
                      <a:cubicBezTo>
                        <a:pt x="27" y="427"/>
                        <a:pt x="28" y="422"/>
                        <a:pt x="31" y="421"/>
                      </a:cubicBezTo>
                      <a:cubicBezTo>
                        <a:pt x="36" y="420"/>
                        <a:pt x="40" y="421"/>
                        <a:pt x="42" y="424"/>
                      </a:cubicBezTo>
                      <a:lnTo>
                        <a:pt x="42" y="425"/>
                      </a:lnTo>
                      <a:lnTo>
                        <a:pt x="42" y="427"/>
                      </a:lnTo>
                      <a:lnTo>
                        <a:pt x="43" y="429"/>
                      </a:lnTo>
                      <a:lnTo>
                        <a:pt x="43" y="430"/>
                      </a:lnTo>
                      <a:lnTo>
                        <a:pt x="45" y="431"/>
                      </a:lnTo>
                      <a:lnTo>
                        <a:pt x="45" y="433"/>
                      </a:lnTo>
                      <a:lnTo>
                        <a:pt x="47" y="434"/>
                      </a:lnTo>
                      <a:lnTo>
                        <a:pt x="48" y="436"/>
                      </a:lnTo>
                      <a:lnTo>
                        <a:pt x="48" y="437"/>
                      </a:lnTo>
                      <a:cubicBezTo>
                        <a:pt x="49" y="441"/>
                        <a:pt x="48" y="445"/>
                        <a:pt x="45" y="448"/>
                      </a:cubicBezTo>
                      <a:cubicBezTo>
                        <a:pt x="42" y="449"/>
                        <a:pt x="38" y="448"/>
                        <a:pt x="35" y="443"/>
                      </a:cubicBezTo>
                      <a:lnTo>
                        <a:pt x="35" y="442"/>
                      </a:lnTo>
                      <a:lnTo>
                        <a:pt x="33" y="441"/>
                      </a:lnTo>
                      <a:lnTo>
                        <a:pt x="33" y="438"/>
                      </a:lnTo>
                      <a:lnTo>
                        <a:pt x="31" y="437"/>
                      </a:lnTo>
                      <a:lnTo>
                        <a:pt x="31" y="436"/>
                      </a:lnTo>
                      <a:lnTo>
                        <a:pt x="30" y="434"/>
                      </a:lnTo>
                      <a:lnTo>
                        <a:pt x="30" y="433"/>
                      </a:lnTo>
                      <a:lnTo>
                        <a:pt x="28" y="431"/>
                      </a:lnTo>
                      <a:lnTo>
                        <a:pt x="28" y="430"/>
                      </a:lnTo>
                      <a:close/>
                      <a:moveTo>
                        <a:pt x="10" y="375"/>
                      </a:moveTo>
                      <a:lnTo>
                        <a:pt x="10" y="375"/>
                      </a:lnTo>
                      <a:cubicBezTo>
                        <a:pt x="8" y="371"/>
                        <a:pt x="11" y="366"/>
                        <a:pt x="14" y="366"/>
                      </a:cubicBezTo>
                      <a:cubicBezTo>
                        <a:pt x="18" y="365"/>
                        <a:pt x="23" y="368"/>
                        <a:pt x="23" y="371"/>
                      </a:cubicBezTo>
                      <a:lnTo>
                        <a:pt x="24" y="372"/>
                      </a:lnTo>
                      <a:lnTo>
                        <a:pt x="24" y="373"/>
                      </a:lnTo>
                      <a:lnTo>
                        <a:pt x="24" y="377"/>
                      </a:lnTo>
                      <a:lnTo>
                        <a:pt x="24" y="378"/>
                      </a:lnTo>
                      <a:lnTo>
                        <a:pt x="26" y="380"/>
                      </a:lnTo>
                      <a:lnTo>
                        <a:pt x="26" y="381"/>
                      </a:lnTo>
                      <a:lnTo>
                        <a:pt x="26" y="382"/>
                      </a:lnTo>
                      <a:lnTo>
                        <a:pt x="27" y="384"/>
                      </a:lnTo>
                      <a:lnTo>
                        <a:pt x="27" y="385"/>
                      </a:lnTo>
                      <a:cubicBezTo>
                        <a:pt x="28" y="388"/>
                        <a:pt x="26" y="393"/>
                        <a:pt x="21" y="394"/>
                      </a:cubicBezTo>
                      <a:cubicBezTo>
                        <a:pt x="18" y="394"/>
                        <a:pt x="14" y="393"/>
                        <a:pt x="12" y="388"/>
                      </a:cubicBezTo>
                      <a:lnTo>
                        <a:pt x="12" y="387"/>
                      </a:lnTo>
                      <a:lnTo>
                        <a:pt x="12" y="385"/>
                      </a:lnTo>
                      <a:lnTo>
                        <a:pt x="11" y="382"/>
                      </a:lnTo>
                      <a:lnTo>
                        <a:pt x="11" y="381"/>
                      </a:lnTo>
                      <a:lnTo>
                        <a:pt x="11" y="380"/>
                      </a:lnTo>
                      <a:lnTo>
                        <a:pt x="10" y="378"/>
                      </a:lnTo>
                      <a:lnTo>
                        <a:pt x="10" y="377"/>
                      </a:lnTo>
                      <a:lnTo>
                        <a:pt x="10" y="375"/>
                      </a:lnTo>
                      <a:close/>
                      <a:moveTo>
                        <a:pt x="0" y="316"/>
                      </a:moveTo>
                      <a:lnTo>
                        <a:pt x="0" y="316"/>
                      </a:lnTo>
                      <a:cubicBezTo>
                        <a:pt x="0" y="311"/>
                        <a:pt x="3" y="308"/>
                        <a:pt x="8" y="308"/>
                      </a:cubicBezTo>
                      <a:cubicBezTo>
                        <a:pt x="12" y="308"/>
                        <a:pt x="15" y="311"/>
                        <a:pt x="15" y="316"/>
                      </a:cubicBezTo>
                      <a:lnTo>
                        <a:pt x="15" y="317"/>
                      </a:lnTo>
                      <a:lnTo>
                        <a:pt x="15" y="319"/>
                      </a:lnTo>
                      <a:lnTo>
                        <a:pt x="15" y="322"/>
                      </a:lnTo>
                      <a:lnTo>
                        <a:pt x="15" y="323"/>
                      </a:lnTo>
                      <a:lnTo>
                        <a:pt x="15" y="324"/>
                      </a:lnTo>
                      <a:lnTo>
                        <a:pt x="15" y="327"/>
                      </a:lnTo>
                      <a:lnTo>
                        <a:pt x="17" y="328"/>
                      </a:lnTo>
                      <a:lnTo>
                        <a:pt x="17" y="329"/>
                      </a:lnTo>
                      <a:cubicBezTo>
                        <a:pt x="17" y="334"/>
                        <a:pt x="14" y="336"/>
                        <a:pt x="10" y="336"/>
                      </a:cubicBezTo>
                      <a:cubicBezTo>
                        <a:pt x="5" y="338"/>
                        <a:pt x="2" y="335"/>
                        <a:pt x="2" y="331"/>
                      </a:cubicBezTo>
                      <a:lnTo>
                        <a:pt x="2" y="329"/>
                      </a:lnTo>
                      <a:lnTo>
                        <a:pt x="2" y="328"/>
                      </a:lnTo>
                      <a:lnTo>
                        <a:pt x="2" y="327"/>
                      </a:lnTo>
                      <a:lnTo>
                        <a:pt x="0" y="324"/>
                      </a:lnTo>
                      <a:lnTo>
                        <a:pt x="0" y="322"/>
                      </a:lnTo>
                      <a:lnTo>
                        <a:pt x="0" y="320"/>
                      </a:lnTo>
                      <a:lnTo>
                        <a:pt x="0" y="319"/>
                      </a:lnTo>
                      <a:lnTo>
                        <a:pt x="0" y="317"/>
                      </a:lnTo>
                      <a:lnTo>
                        <a:pt x="0" y="316"/>
                      </a:lnTo>
                      <a:close/>
                      <a:moveTo>
                        <a:pt x="3" y="257"/>
                      </a:moveTo>
                      <a:lnTo>
                        <a:pt x="3" y="257"/>
                      </a:lnTo>
                      <a:cubicBezTo>
                        <a:pt x="5" y="252"/>
                        <a:pt x="8" y="249"/>
                        <a:pt x="12" y="251"/>
                      </a:cubicBezTo>
                      <a:cubicBezTo>
                        <a:pt x="17" y="251"/>
                        <a:pt x="19" y="255"/>
                        <a:pt x="18" y="258"/>
                      </a:cubicBezTo>
                      <a:lnTo>
                        <a:pt x="18" y="259"/>
                      </a:lnTo>
                      <a:lnTo>
                        <a:pt x="18" y="263"/>
                      </a:lnTo>
                      <a:lnTo>
                        <a:pt x="18" y="264"/>
                      </a:lnTo>
                      <a:lnTo>
                        <a:pt x="17" y="266"/>
                      </a:lnTo>
                      <a:lnTo>
                        <a:pt x="17" y="267"/>
                      </a:lnTo>
                      <a:lnTo>
                        <a:pt x="17" y="268"/>
                      </a:lnTo>
                      <a:lnTo>
                        <a:pt x="17" y="271"/>
                      </a:lnTo>
                      <a:lnTo>
                        <a:pt x="17" y="273"/>
                      </a:lnTo>
                      <a:cubicBezTo>
                        <a:pt x="17" y="278"/>
                        <a:pt x="12" y="280"/>
                        <a:pt x="10" y="279"/>
                      </a:cubicBezTo>
                      <a:cubicBezTo>
                        <a:pt x="5" y="279"/>
                        <a:pt x="2" y="276"/>
                        <a:pt x="2" y="271"/>
                      </a:cubicBezTo>
                      <a:lnTo>
                        <a:pt x="2" y="268"/>
                      </a:lnTo>
                      <a:lnTo>
                        <a:pt x="2" y="267"/>
                      </a:lnTo>
                      <a:lnTo>
                        <a:pt x="3" y="266"/>
                      </a:lnTo>
                      <a:lnTo>
                        <a:pt x="3" y="264"/>
                      </a:lnTo>
                      <a:lnTo>
                        <a:pt x="3" y="261"/>
                      </a:lnTo>
                      <a:lnTo>
                        <a:pt x="3" y="259"/>
                      </a:lnTo>
                      <a:lnTo>
                        <a:pt x="3" y="258"/>
                      </a:lnTo>
                      <a:lnTo>
                        <a:pt x="3" y="257"/>
                      </a:lnTo>
                      <a:close/>
                      <a:moveTo>
                        <a:pt x="19" y="199"/>
                      </a:moveTo>
                      <a:lnTo>
                        <a:pt x="19" y="199"/>
                      </a:lnTo>
                      <a:cubicBezTo>
                        <a:pt x="19" y="196"/>
                        <a:pt x="24" y="193"/>
                        <a:pt x="28" y="194"/>
                      </a:cubicBezTo>
                      <a:cubicBezTo>
                        <a:pt x="31" y="196"/>
                        <a:pt x="35" y="201"/>
                        <a:pt x="33" y="203"/>
                      </a:cubicBezTo>
                      <a:lnTo>
                        <a:pt x="31" y="205"/>
                      </a:lnTo>
                      <a:lnTo>
                        <a:pt x="31" y="206"/>
                      </a:lnTo>
                      <a:lnTo>
                        <a:pt x="31" y="208"/>
                      </a:lnTo>
                      <a:lnTo>
                        <a:pt x="30" y="210"/>
                      </a:lnTo>
                      <a:lnTo>
                        <a:pt x="30" y="212"/>
                      </a:lnTo>
                      <a:lnTo>
                        <a:pt x="28" y="214"/>
                      </a:lnTo>
                      <a:lnTo>
                        <a:pt x="28" y="215"/>
                      </a:lnTo>
                      <a:lnTo>
                        <a:pt x="28" y="217"/>
                      </a:lnTo>
                      <a:lnTo>
                        <a:pt x="28" y="218"/>
                      </a:lnTo>
                      <a:cubicBezTo>
                        <a:pt x="27" y="221"/>
                        <a:pt x="23" y="224"/>
                        <a:pt x="19" y="222"/>
                      </a:cubicBezTo>
                      <a:cubicBezTo>
                        <a:pt x="15" y="221"/>
                        <a:pt x="12" y="217"/>
                        <a:pt x="14" y="214"/>
                      </a:cubicBezTo>
                      <a:lnTo>
                        <a:pt x="14" y="212"/>
                      </a:lnTo>
                      <a:lnTo>
                        <a:pt x="15" y="210"/>
                      </a:lnTo>
                      <a:lnTo>
                        <a:pt x="15" y="209"/>
                      </a:lnTo>
                      <a:lnTo>
                        <a:pt x="17" y="208"/>
                      </a:lnTo>
                      <a:lnTo>
                        <a:pt x="17" y="205"/>
                      </a:lnTo>
                      <a:lnTo>
                        <a:pt x="17" y="203"/>
                      </a:lnTo>
                      <a:lnTo>
                        <a:pt x="18" y="202"/>
                      </a:lnTo>
                      <a:lnTo>
                        <a:pt x="18" y="201"/>
                      </a:lnTo>
                      <a:lnTo>
                        <a:pt x="19" y="199"/>
                      </a:lnTo>
                      <a:close/>
                      <a:moveTo>
                        <a:pt x="51" y="165"/>
                      </a:moveTo>
                      <a:lnTo>
                        <a:pt x="51" y="165"/>
                      </a:lnTo>
                      <a:cubicBezTo>
                        <a:pt x="48" y="169"/>
                        <a:pt x="43" y="170"/>
                        <a:pt x="40" y="168"/>
                      </a:cubicBezTo>
                      <a:cubicBezTo>
                        <a:pt x="38" y="166"/>
                        <a:pt x="36" y="162"/>
                        <a:pt x="38" y="159"/>
                      </a:cubicBezTo>
                      <a:lnTo>
                        <a:pt x="38" y="157"/>
                      </a:lnTo>
                      <a:lnTo>
                        <a:pt x="39" y="156"/>
                      </a:lnTo>
                      <a:lnTo>
                        <a:pt x="39" y="154"/>
                      </a:lnTo>
                      <a:lnTo>
                        <a:pt x="40" y="153"/>
                      </a:lnTo>
                      <a:lnTo>
                        <a:pt x="42" y="152"/>
                      </a:lnTo>
                      <a:lnTo>
                        <a:pt x="42" y="150"/>
                      </a:lnTo>
                      <a:lnTo>
                        <a:pt x="43" y="149"/>
                      </a:lnTo>
                      <a:lnTo>
                        <a:pt x="45" y="145"/>
                      </a:lnTo>
                      <a:cubicBezTo>
                        <a:pt x="48" y="141"/>
                        <a:pt x="52" y="141"/>
                        <a:pt x="55" y="143"/>
                      </a:cubicBezTo>
                      <a:cubicBezTo>
                        <a:pt x="59" y="144"/>
                        <a:pt x="60" y="149"/>
                        <a:pt x="59" y="153"/>
                      </a:cubicBezTo>
                      <a:lnTo>
                        <a:pt x="56" y="153"/>
                      </a:lnTo>
                      <a:lnTo>
                        <a:pt x="55" y="156"/>
                      </a:lnTo>
                      <a:lnTo>
                        <a:pt x="55" y="157"/>
                      </a:lnTo>
                      <a:lnTo>
                        <a:pt x="54" y="159"/>
                      </a:lnTo>
                      <a:lnTo>
                        <a:pt x="54" y="160"/>
                      </a:lnTo>
                      <a:lnTo>
                        <a:pt x="52" y="162"/>
                      </a:lnTo>
                      <a:lnTo>
                        <a:pt x="51" y="164"/>
                      </a:lnTo>
                      <a:lnTo>
                        <a:pt x="51" y="165"/>
                      </a:lnTo>
                      <a:close/>
                    </a:path>
                  </a:pathLst>
                </a:custGeom>
                <a:solidFill>
                  <a:schemeClr val="accent6"/>
                </a:solidFill>
                <a:ln w="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730" spc="-1" strike="noStrike">
                    <a:solidFill>
                      <a:srgbClr val="ffffff"/>
                    </a:solidFill>
                    <a:latin typeface="Calibri"/>
                  </a:endParaRPr>
                </a:p>
              </p:txBody>
            </p:sp>
          </p:grpSp>
          <p:pic>
            <p:nvPicPr>
              <p:cNvPr id="206" name="Picture 8" descr="A close up of a sign&#10;&#10;Description automatically generated"/>
              <p:cNvPicPr/>
              <p:nvPr/>
            </p:nvPicPr>
            <p:blipFill>
              <a:blip r:embed="rId2"/>
              <a:stretch/>
            </p:blipFill>
            <p:spPr>
              <a:xfrm>
                <a:off x="8468280" y="1963440"/>
                <a:ext cx="1149840" cy="332280"/>
              </a:xfrm>
              <a:prstGeom prst="rect">
                <a:avLst/>
              </a:prstGeom>
              <a:ln w="0">
                <a:noFill/>
              </a:ln>
            </p:spPr>
          </p:pic>
          <p:pic>
            <p:nvPicPr>
              <p:cNvPr id="207" name="Picture 9" descr="A picture containing object, clock&#10;&#10;Description automatically generated"/>
              <p:cNvPicPr/>
              <p:nvPr/>
            </p:nvPicPr>
            <p:blipFill>
              <a:blip r:embed="rId3"/>
              <a:stretch/>
            </p:blipFill>
            <p:spPr>
              <a:xfrm>
                <a:off x="7033680" y="4631400"/>
                <a:ext cx="866160" cy="381240"/>
              </a:xfrm>
              <a:prstGeom prst="rect">
                <a:avLst/>
              </a:prstGeom>
              <a:ln w="0">
                <a:noFill/>
              </a:ln>
            </p:spPr>
          </p:pic>
          <p:pic>
            <p:nvPicPr>
              <p:cNvPr id="208" name="Picture 11" descr="A picture containing object&#10;&#10;Description automatically generated"/>
              <p:cNvPicPr/>
              <p:nvPr/>
            </p:nvPicPr>
            <p:blipFill>
              <a:blip r:embed="rId4"/>
              <a:stretch/>
            </p:blipFill>
            <p:spPr>
              <a:xfrm>
                <a:off x="8367480" y="5608440"/>
                <a:ext cx="1402200" cy="306000"/>
              </a:xfrm>
              <a:prstGeom prst="rect">
                <a:avLst/>
              </a:prstGeom>
              <a:ln w="0">
                <a:noFill/>
              </a:ln>
            </p:spPr>
          </p:pic>
        </p:grpSp>
        <p:pic>
          <p:nvPicPr>
            <p:cNvPr id="209" name="Picture 25" descr="A picture containing clock, drawing&#10;&#10;Description automatically generated"/>
            <p:cNvPicPr/>
            <p:nvPr/>
          </p:nvPicPr>
          <p:blipFill>
            <a:blip r:embed="rId5"/>
            <a:stretch/>
          </p:blipFill>
          <p:spPr>
            <a:xfrm>
              <a:off x="8493120" y="3592080"/>
              <a:ext cx="1150560" cy="666000"/>
            </a:xfrm>
            <a:prstGeom prst="rect">
              <a:avLst/>
            </a:prstGeom>
            <a:ln w="0">
              <a:noFill/>
            </a:ln>
          </p:spPr>
        </p:pic>
        <p:pic>
          <p:nvPicPr>
            <p:cNvPr id="210" name="Picture 26" descr=""/>
            <p:cNvPicPr/>
            <p:nvPr/>
          </p:nvPicPr>
          <p:blipFill>
            <a:blip r:embed="rId6"/>
            <a:stretch/>
          </p:blipFill>
          <p:spPr>
            <a:xfrm>
              <a:off x="10060560" y="4791600"/>
              <a:ext cx="1260720" cy="138240"/>
            </a:xfrm>
            <a:prstGeom prst="rect">
              <a:avLst/>
            </a:prstGeom>
            <a:ln w="0">
              <a:noFill/>
            </a:ln>
          </p:spPr>
        </p:pic>
      </p:grpSp>
      <p:pic>
        <p:nvPicPr>
          <p:cNvPr id="211" name="Picture 10" descr="A close up of a logo&#10;&#10;Description automatically generated"/>
          <p:cNvPicPr/>
          <p:nvPr/>
        </p:nvPicPr>
        <p:blipFill>
          <a:blip r:embed="rId7"/>
          <a:stretch/>
        </p:blipFill>
        <p:spPr>
          <a:xfrm>
            <a:off x="6994440" y="2432520"/>
            <a:ext cx="884880" cy="1176120"/>
          </a:xfrm>
          <a:prstGeom prst="rect">
            <a:avLst/>
          </a:prstGeom>
          <a:ln w="0">
            <a:noFill/>
          </a:ln>
        </p:spPr>
      </p:pic>
      <p:sp>
        <p:nvSpPr>
          <p:cNvPr id="212" name="Title 1"/>
          <p:cNvSpPr/>
          <p:nvPr/>
        </p:nvSpPr>
        <p:spPr>
          <a:xfrm>
            <a:off x="0" y="47160"/>
            <a:ext cx="5211360" cy="2594520"/>
          </a:xfrm>
          <a:prstGeom prst="rect">
            <a:avLst/>
          </a:prstGeom>
          <a:noFill/>
          <a:ln w="0">
            <a:noFill/>
          </a:ln>
        </p:spPr>
        <p:style>
          <a:lnRef idx="0"/>
          <a:fillRef idx="0"/>
          <a:effectRef idx="0"/>
          <a:fontRef idx="minor"/>
        </p:style>
        <p:txBody>
          <a:bodyPr anchor="ctr">
            <a:normAutofit/>
          </a:bodyPr>
          <a:p>
            <a:pPr algn="ctr">
              <a:lnSpc>
                <a:spcPct val="90000"/>
              </a:lnSpc>
            </a:pPr>
            <a:r>
              <a:rPr b="1" lang="en-AU" sz="4400" spc="-1" strike="noStrike">
                <a:solidFill>
                  <a:srgbClr val="ffffff"/>
                </a:solidFill>
                <a:latin typeface="Calibri Light"/>
              </a:rPr>
              <a:t>Our</a:t>
            </a:r>
            <a:endParaRPr b="0" lang="en-US" sz="4400" spc="-1" strike="noStrike">
              <a:solidFill>
                <a:srgbClr val="000000"/>
              </a:solidFill>
              <a:latin typeface="Arial"/>
            </a:endParaRPr>
          </a:p>
          <a:p>
            <a:pPr algn="ctr">
              <a:lnSpc>
                <a:spcPct val="90000"/>
              </a:lnSpc>
            </a:pPr>
            <a:r>
              <a:rPr b="1" lang="en-AU" sz="4400" spc="-1" strike="noStrike">
                <a:solidFill>
                  <a:srgbClr val="ffffff"/>
                </a:solidFill>
                <a:latin typeface="Calibri Light"/>
              </a:rPr>
              <a:t>Corporate Partner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f3f3f"/>
        </a:solidFill>
      </p:bgPr>
    </p:bg>
    <p:spTree>
      <p:nvGrpSpPr>
        <p:cNvPr id="1" name=""/>
        <p:cNvGrpSpPr/>
        <p:nvPr/>
      </p:nvGrpSpPr>
      <p:grpSpPr>
        <a:xfrm>
          <a:off x="0" y="0"/>
          <a:ext cx="0" cy="0"/>
          <a:chOff x="0" y="0"/>
          <a:chExt cx="0" cy="0"/>
        </a:xfrm>
      </p:grpSpPr>
      <p:sp>
        <p:nvSpPr>
          <p:cNvPr id="213" name="Rectangle 6"/>
          <p:cNvSpPr/>
          <p:nvPr/>
        </p:nvSpPr>
        <p:spPr>
          <a:xfrm>
            <a:off x="0" y="-38520"/>
            <a:ext cx="12191760" cy="6935040"/>
          </a:xfrm>
          <a:prstGeom prst="rect">
            <a:avLst/>
          </a:prstGeom>
          <a:gradFill rotWithShape="0">
            <a:gsLst>
              <a:gs pos="0">
                <a:srgbClr val="383838"/>
              </a:gs>
              <a:gs pos="100000">
                <a:srgbClr val="505050"/>
              </a:gs>
            </a:gsLst>
            <a:lin ang="16200000"/>
          </a:gradFill>
          <a:ln>
            <a:solidFill>
              <a:srgbClr val="b5d2ec"/>
            </a:solidFill>
          </a:ln>
        </p:spPr>
        <p:style>
          <a:lnRef idx="2">
            <a:schemeClr val="accent1">
              <a:shade val="50000"/>
            </a:schemeClr>
          </a:lnRef>
          <a:fillRef idx="1">
            <a:schemeClr val="accent1"/>
          </a:fillRef>
          <a:effectRef idx="0">
            <a:schemeClr val="accent1"/>
          </a:effectRef>
          <a:fontRef idx="minor"/>
        </p:style>
        <p:txBody>
          <a:bodyPr anchor="ctr">
            <a:noAutofit/>
          </a:bodyPr>
          <a:p>
            <a:pPr algn="ctr">
              <a:lnSpc>
                <a:spcPct val="100000"/>
              </a:lnSpc>
              <a:tabLst>
                <a:tab algn="l" pos="0"/>
              </a:tabLst>
            </a:pPr>
            <a:endParaRPr b="0" lang="en-US" sz="2400" spc="-1" strike="noStrike">
              <a:solidFill>
                <a:srgbClr val="ffffff"/>
              </a:solidFill>
              <a:latin typeface="Calibri"/>
            </a:endParaRPr>
          </a:p>
        </p:txBody>
      </p:sp>
      <p:grpSp>
        <p:nvGrpSpPr>
          <p:cNvPr id="214" name="Group 25"/>
          <p:cNvGrpSpPr/>
          <p:nvPr/>
        </p:nvGrpSpPr>
        <p:grpSpPr>
          <a:xfrm>
            <a:off x="942840" y="1790280"/>
            <a:ext cx="1320480" cy="1320480"/>
            <a:chOff x="942840" y="1790280"/>
            <a:chExt cx="1320480" cy="1320480"/>
          </a:xfrm>
        </p:grpSpPr>
        <p:sp>
          <p:nvSpPr>
            <p:cNvPr id="215" name="Oval 13"/>
            <p:cNvSpPr/>
            <p:nvPr/>
          </p:nvSpPr>
          <p:spPr>
            <a:xfrm>
              <a:off x="942840" y="1790280"/>
              <a:ext cx="1320480" cy="1320480"/>
            </a:xfrm>
            <a:prstGeom prst="ellipse">
              <a:avLst/>
            </a:prstGeom>
            <a:noFill/>
            <a:ln>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US" sz="2400" spc="-1" strike="noStrike">
                <a:solidFill>
                  <a:srgbClr val="ffffff"/>
                </a:solidFill>
                <a:latin typeface="Calibri"/>
              </a:endParaRPr>
            </a:p>
          </p:txBody>
        </p:sp>
        <p:sp>
          <p:nvSpPr>
            <p:cNvPr id="216" name="Freeform 37"/>
            <p:cNvSpPr/>
            <p:nvPr/>
          </p:nvSpPr>
          <p:spPr>
            <a:xfrm>
              <a:off x="1266120" y="2116080"/>
              <a:ext cx="673200" cy="668520"/>
            </a:xfrm>
            <a:custGeom>
              <a:avLst/>
              <a:gdLst>
                <a:gd name="textAreaLeft" fmla="*/ 0 w 673200"/>
                <a:gd name="textAreaRight" fmla="*/ 673560 w 673200"/>
                <a:gd name="textAreaTop" fmla="*/ 0 h 668520"/>
                <a:gd name="textAreaBottom" fmla="*/ 668880 h 668520"/>
              </a:gdLst>
              <a:ahLst/>
              <a:rect l="textAreaLeft" t="textAreaTop" r="textAreaRight" b="textAreaBottom"/>
              <a:pathLst>
                <a:path w="120" h="120">
                  <a:moveTo>
                    <a:pt x="60" y="0"/>
                  </a:moveTo>
                  <a:cubicBezTo>
                    <a:pt x="27" y="0"/>
                    <a:pt x="0" y="27"/>
                    <a:pt x="0" y="60"/>
                  </a:cubicBezTo>
                  <a:cubicBezTo>
                    <a:pt x="0" y="93"/>
                    <a:pt x="27" y="120"/>
                    <a:pt x="60" y="120"/>
                  </a:cubicBezTo>
                  <a:cubicBezTo>
                    <a:pt x="93" y="120"/>
                    <a:pt x="120" y="93"/>
                    <a:pt x="120" y="60"/>
                  </a:cubicBezTo>
                  <a:cubicBezTo>
                    <a:pt x="120" y="27"/>
                    <a:pt x="93" y="0"/>
                    <a:pt x="60" y="0"/>
                  </a:cubicBezTo>
                  <a:close/>
                  <a:moveTo>
                    <a:pt x="83" y="24"/>
                  </a:moveTo>
                  <a:cubicBezTo>
                    <a:pt x="87" y="21"/>
                    <a:pt x="87" y="21"/>
                    <a:pt x="87" y="21"/>
                  </a:cubicBezTo>
                  <a:cubicBezTo>
                    <a:pt x="87" y="21"/>
                    <a:pt x="85" y="17"/>
                    <a:pt x="86" y="14"/>
                  </a:cubicBezTo>
                  <a:cubicBezTo>
                    <a:pt x="87" y="14"/>
                    <a:pt x="91" y="16"/>
                    <a:pt x="94" y="20"/>
                  </a:cubicBezTo>
                  <a:cubicBezTo>
                    <a:pt x="92" y="29"/>
                    <a:pt x="86" y="28"/>
                    <a:pt x="86" y="28"/>
                  </a:cubicBezTo>
                  <a:cubicBezTo>
                    <a:pt x="86" y="28"/>
                    <a:pt x="82" y="28"/>
                    <a:pt x="83" y="24"/>
                  </a:cubicBezTo>
                  <a:close/>
                  <a:moveTo>
                    <a:pt x="47" y="77"/>
                  </a:moveTo>
                  <a:cubicBezTo>
                    <a:pt x="46" y="78"/>
                    <a:pt x="45" y="81"/>
                    <a:pt x="44" y="84"/>
                  </a:cubicBezTo>
                  <a:cubicBezTo>
                    <a:pt x="43" y="86"/>
                    <a:pt x="42" y="87"/>
                    <a:pt x="41" y="88"/>
                  </a:cubicBezTo>
                  <a:cubicBezTo>
                    <a:pt x="39" y="89"/>
                    <a:pt x="39" y="91"/>
                    <a:pt x="39" y="91"/>
                  </a:cubicBezTo>
                  <a:cubicBezTo>
                    <a:pt x="38" y="95"/>
                    <a:pt x="38" y="95"/>
                    <a:pt x="38" y="95"/>
                  </a:cubicBezTo>
                  <a:cubicBezTo>
                    <a:pt x="38" y="95"/>
                    <a:pt x="39" y="99"/>
                    <a:pt x="40" y="100"/>
                  </a:cubicBezTo>
                  <a:cubicBezTo>
                    <a:pt x="40" y="102"/>
                    <a:pt x="37" y="110"/>
                    <a:pt x="37" y="110"/>
                  </a:cubicBezTo>
                  <a:cubicBezTo>
                    <a:pt x="34" y="109"/>
                    <a:pt x="33" y="106"/>
                    <a:pt x="32" y="104"/>
                  </a:cubicBezTo>
                  <a:cubicBezTo>
                    <a:pt x="32" y="102"/>
                    <a:pt x="30" y="101"/>
                    <a:pt x="31" y="99"/>
                  </a:cubicBezTo>
                  <a:cubicBezTo>
                    <a:pt x="31" y="96"/>
                    <a:pt x="29" y="95"/>
                    <a:pt x="28" y="94"/>
                  </a:cubicBezTo>
                  <a:cubicBezTo>
                    <a:pt x="27" y="92"/>
                    <a:pt x="26" y="90"/>
                    <a:pt x="26" y="89"/>
                  </a:cubicBezTo>
                  <a:cubicBezTo>
                    <a:pt x="26" y="88"/>
                    <a:pt x="23" y="86"/>
                    <a:pt x="23" y="86"/>
                  </a:cubicBezTo>
                  <a:cubicBezTo>
                    <a:pt x="23" y="86"/>
                    <a:pt x="18" y="83"/>
                    <a:pt x="17" y="82"/>
                  </a:cubicBezTo>
                  <a:cubicBezTo>
                    <a:pt x="16" y="81"/>
                    <a:pt x="15" y="77"/>
                    <a:pt x="15" y="75"/>
                  </a:cubicBezTo>
                  <a:cubicBezTo>
                    <a:pt x="15" y="73"/>
                    <a:pt x="16" y="68"/>
                    <a:pt x="16" y="68"/>
                  </a:cubicBezTo>
                  <a:cubicBezTo>
                    <a:pt x="16" y="68"/>
                    <a:pt x="18" y="66"/>
                    <a:pt x="17" y="65"/>
                  </a:cubicBezTo>
                  <a:cubicBezTo>
                    <a:pt x="15" y="64"/>
                    <a:pt x="15" y="60"/>
                    <a:pt x="15" y="60"/>
                  </a:cubicBezTo>
                  <a:cubicBezTo>
                    <a:pt x="13" y="58"/>
                    <a:pt x="13" y="58"/>
                    <a:pt x="13" y="58"/>
                  </a:cubicBezTo>
                  <a:cubicBezTo>
                    <a:pt x="13" y="58"/>
                    <a:pt x="11" y="55"/>
                    <a:pt x="10" y="54"/>
                  </a:cubicBezTo>
                  <a:cubicBezTo>
                    <a:pt x="10" y="52"/>
                    <a:pt x="10" y="51"/>
                    <a:pt x="11" y="50"/>
                  </a:cubicBezTo>
                  <a:cubicBezTo>
                    <a:pt x="11" y="49"/>
                    <a:pt x="10" y="46"/>
                    <a:pt x="10" y="45"/>
                  </a:cubicBezTo>
                  <a:cubicBezTo>
                    <a:pt x="20" y="20"/>
                    <a:pt x="37" y="15"/>
                    <a:pt x="37" y="15"/>
                  </a:cubicBezTo>
                  <a:cubicBezTo>
                    <a:pt x="38" y="20"/>
                    <a:pt x="38" y="20"/>
                    <a:pt x="38" y="20"/>
                  </a:cubicBezTo>
                  <a:cubicBezTo>
                    <a:pt x="38" y="20"/>
                    <a:pt x="35" y="21"/>
                    <a:pt x="34" y="21"/>
                  </a:cubicBezTo>
                  <a:cubicBezTo>
                    <a:pt x="32" y="20"/>
                    <a:pt x="31" y="20"/>
                    <a:pt x="31" y="20"/>
                  </a:cubicBezTo>
                  <a:cubicBezTo>
                    <a:pt x="29" y="23"/>
                    <a:pt x="29" y="23"/>
                    <a:pt x="29" y="23"/>
                  </a:cubicBezTo>
                  <a:cubicBezTo>
                    <a:pt x="29" y="23"/>
                    <a:pt x="28" y="25"/>
                    <a:pt x="28" y="26"/>
                  </a:cubicBezTo>
                  <a:cubicBezTo>
                    <a:pt x="28" y="27"/>
                    <a:pt x="29" y="29"/>
                    <a:pt x="29" y="29"/>
                  </a:cubicBezTo>
                  <a:cubicBezTo>
                    <a:pt x="29" y="29"/>
                    <a:pt x="32" y="29"/>
                    <a:pt x="32" y="28"/>
                  </a:cubicBezTo>
                  <a:cubicBezTo>
                    <a:pt x="32" y="27"/>
                    <a:pt x="32" y="26"/>
                    <a:pt x="32" y="26"/>
                  </a:cubicBezTo>
                  <a:cubicBezTo>
                    <a:pt x="31" y="24"/>
                    <a:pt x="31" y="24"/>
                    <a:pt x="31" y="24"/>
                  </a:cubicBezTo>
                  <a:cubicBezTo>
                    <a:pt x="31" y="24"/>
                    <a:pt x="34" y="23"/>
                    <a:pt x="40" y="24"/>
                  </a:cubicBezTo>
                  <a:cubicBezTo>
                    <a:pt x="47" y="24"/>
                    <a:pt x="44" y="29"/>
                    <a:pt x="47" y="30"/>
                  </a:cubicBezTo>
                  <a:cubicBezTo>
                    <a:pt x="50" y="31"/>
                    <a:pt x="45" y="35"/>
                    <a:pt x="44" y="37"/>
                  </a:cubicBezTo>
                  <a:cubicBezTo>
                    <a:pt x="43" y="39"/>
                    <a:pt x="41" y="34"/>
                    <a:pt x="41" y="34"/>
                  </a:cubicBezTo>
                  <a:cubicBezTo>
                    <a:pt x="41" y="34"/>
                    <a:pt x="43" y="32"/>
                    <a:pt x="40" y="32"/>
                  </a:cubicBezTo>
                  <a:cubicBezTo>
                    <a:pt x="37" y="31"/>
                    <a:pt x="35" y="36"/>
                    <a:pt x="37" y="36"/>
                  </a:cubicBezTo>
                  <a:cubicBezTo>
                    <a:pt x="38" y="36"/>
                    <a:pt x="40" y="38"/>
                    <a:pt x="39" y="39"/>
                  </a:cubicBezTo>
                  <a:cubicBezTo>
                    <a:pt x="39" y="40"/>
                    <a:pt x="39" y="40"/>
                    <a:pt x="38" y="43"/>
                  </a:cubicBezTo>
                  <a:cubicBezTo>
                    <a:pt x="36" y="46"/>
                    <a:pt x="34" y="48"/>
                    <a:pt x="34" y="48"/>
                  </a:cubicBezTo>
                  <a:cubicBezTo>
                    <a:pt x="34" y="48"/>
                    <a:pt x="32" y="47"/>
                    <a:pt x="33" y="49"/>
                  </a:cubicBezTo>
                  <a:cubicBezTo>
                    <a:pt x="34" y="51"/>
                    <a:pt x="33" y="54"/>
                    <a:pt x="33" y="55"/>
                  </a:cubicBezTo>
                  <a:cubicBezTo>
                    <a:pt x="33" y="57"/>
                    <a:pt x="29" y="54"/>
                    <a:pt x="29" y="51"/>
                  </a:cubicBezTo>
                  <a:cubicBezTo>
                    <a:pt x="28" y="48"/>
                    <a:pt x="25" y="51"/>
                    <a:pt x="24" y="51"/>
                  </a:cubicBezTo>
                  <a:cubicBezTo>
                    <a:pt x="23" y="51"/>
                    <a:pt x="21" y="50"/>
                    <a:pt x="21" y="49"/>
                  </a:cubicBezTo>
                  <a:cubicBezTo>
                    <a:pt x="20" y="48"/>
                    <a:pt x="15" y="52"/>
                    <a:pt x="14" y="52"/>
                  </a:cubicBezTo>
                  <a:cubicBezTo>
                    <a:pt x="13" y="53"/>
                    <a:pt x="13" y="55"/>
                    <a:pt x="15" y="54"/>
                  </a:cubicBezTo>
                  <a:cubicBezTo>
                    <a:pt x="17" y="53"/>
                    <a:pt x="19" y="54"/>
                    <a:pt x="19" y="56"/>
                  </a:cubicBezTo>
                  <a:cubicBezTo>
                    <a:pt x="18" y="58"/>
                    <a:pt x="16" y="57"/>
                    <a:pt x="16" y="58"/>
                  </a:cubicBezTo>
                  <a:cubicBezTo>
                    <a:pt x="17" y="60"/>
                    <a:pt x="19" y="61"/>
                    <a:pt x="19" y="63"/>
                  </a:cubicBezTo>
                  <a:cubicBezTo>
                    <a:pt x="20" y="65"/>
                    <a:pt x="25" y="63"/>
                    <a:pt x="27" y="62"/>
                  </a:cubicBezTo>
                  <a:cubicBezTo>
                    <a:pt x="28" y="62"/>
                    <a:pt x="33" y="61"/>
                    <a:pt x="33" y="63"/>
                  </a:cubicBezTo>
                  <a:cubicBezTo>
                    <a:pt x="34" y="65"/>
                    <a:pt x="39" y="66"/>
                    <a:pt x="41" y="66"/>
                  </a:cubicBezTo>
                  <a:cubicBezTo>
                    <a:pt x="43" y="67"/>
                    <a:pt x="46" y="67"/>
                    <a:pt x="49" y="69"/>
                  </a:cubicBezTo>
                  <a:cubicBezTo>
                    <a:pt x="51" y="72"/>
                    <a:pt x="47" y="76"/>
                    <a:pt x="47" y="77"/>
                  </a:cubicBezTo>
                  <a:close/>
                  <a:moveTo>
                    <a:pt x="59" y="14"/>
                  </a:moveTo>
                  <a:cubicBezTo>
                    <a:pt x="58" y="17"/>
                    <a:pt x="54" y="20"/>
                    <a:pt x="55" y="21"/>
                  </a:cubicBezTo>
                  <a:cubicBezTo>
                    <a:pt x="55" y="22"/>
                    <a:pt x="55" y="27"/>
                    <a:pt x="51" y="23"/>
                  </a:cubicBezTo>
                  <a:cubicBezTo>
                    <a:pt x="47" y="19"/>
                    <a:pt x="43" y="18"/>
                    <a:pt x="44" y="15"/>
                  </a:cubicBezTo>
                  <a:cubicBezTo>
                    <a:pt x="44" y="14"/>
                    <a:pt x="48" y="14"/>
                    <a:pt x="48" y="13"/>
                  </a:cubicBezTo>
                  <a:cubicBezTo>
                    <a:pt x="53" y="7"/>
                    <a:pt x="62" y="8"/>
                    <a:pt x="63" y="10"/>
                  </a:cubicBezTo>
                  <a:cubicBezTo>
                    <a:pt x="61" y="12"/>
                    <a:pt x="59" y="11"/>
                    <a:pt x="59" y="14"/>
                  </a:cubicBezTo>
                  <a:close/>
                  <a:moveTo>
                    <a:pt x="107" y="62"/>
                  </a:moveTo>
                  <a:cubicBezTo>
                    <a:pt x="107" y="62"/>
                    <a:pt x="109" y="65"/>
                    <a:pt x="112" y="65"/>
                  </a:cubicBezTo>
                  <a:cubicBezTo>
                    <a:pt x="110" y="87"/>
                    <a:pt x="92" y="102"/>
                    <a:pt x="92" y="102"/>
                  </a:cubicBezTo>
                  <a:cubicBezTo>
                    <a:pt x="89" y="99"/>
                    <a:pt x="90" y="96"/>
                    <a:pt x="90" y="96"/>
                  </a:cubicBezTo>
                  <a:cubicBezTo>
                    <a:pt x="91" y="92"/>
                    <a:pt x="91" y="92"/>
                    <a:pt x="91" y="92"/>
                  </a:cubicBezTo>
                  <a:cubicBezTo>
                    <a:pt x="91" y="85"/>
                    <a:pt x="91" y="85"/>
                    <a:pt x="91" y="85"/>
                  </a:cubicBezTo>
                  <a:cubicBezTo>
                    <a:pt x="91" y="85"/>
                    <a:pt x="91" y="77"/>
                    <a:pt x="84" y="81"/>
                  </a:cubicBezTo>
                  <a:cubicBezTo>
                    <a:pt x="77" y="83"/>
                    <a:pt x="80" y="83"/>
                    <a:pt x="72" y="83"/>
                  </a:cubicBezTo>
                  <a:cubicBezTo>
                    <a:pt x="64" y="84"/>
                    <a:pt x="66" y="67"/>
                    <a:pt x="66" y="67"/>
                  </a:cubicBezTo>
                  <a:cubicBezTo>
                    <a:pt x="66" y="43"/>
                    <a:pt x="84" y="61"/>
                    <a:pt x="84" y="61"/>
                  </a:cubicBezTo>
                  <a:cubicBezTo>
                    <a:pt x="95" y="69"/>
                    <a:pt x="97" y="56"/>
                    <a:pt x="97" y="56"/>
                  </a:cubicBezTo>
                  <a:cubicBezTo>
                    <a:pt x="104" y="53"/>
                    <a:pt x="104" y="53"/>
                    <a:pt x="104" y="53"/>
                  </a:cubicBezTo>
                  <a:cubicBezTo>
                    <a:pt x="105" y="49"/>
                    <a:pt x="105" y="49"/>
                    <a:pt x="105" y="49"/>
                  </a:cubicBezTo>
                  <a:cubicBezTo>
                    <a:pt x="104" y="44"/>
                    <a:pt x="104" y="44"/>
                    <a:pt x="104" y="44"/>
                  </a:cubicBezTo>
                  <a:cubicBezTo>
                    <a:pt x="93" y="39"/>
                    <a:pt x="93" y="39"/>
                    <a:pt x="93" y="39"/>
                  </a:cubicBezTo>
                  <a:cubicBezTo>
                    <a:pt x="93" y="39"/>
                    <a:pt x="91" y="43"/>
                    <a:pt x="94" y="48"/>
                  </a:cubicBezTo>
                  <a:cubicBezTo>
                    <a:pt x="94" y="48"/>
                    <a:pt x="93" y="53"/>
                    <a:pt x="91" y="52"/>
                  </a:cubicBezTo>
                  <a:cubicBezTo>
                    <a:pt x="84" y="48"/>
                    <a:pt x="84" y="48"/>
                    <a:pt x="84" y="48"/>
                  </a:cubicBezTo>
                  <a:cubicBezTo>
                    <a:pt x="84" y="48"/>
                    <a:pt x="82" y="47"/>
                    <a:pt x="79" y="49"/>
                  </a:cubicBezTo>
                  <a:cubicBezTo>
                    <a:pt x="75" y="52"/>
                    <a:pt x="69" y="49"/>
                    <a:pt x="69" y="49"/>
                  </a:cubicBezTo>
                  <a:cubicBezTo>
                    <a:pt x="69" y="49"/>
                    <a:pt x="69" y="46"/>
                    <a:pt x="73" y="44"/>
                  </a:cubicBezTo>
                  <a:cubicBezTo>
                    <a:pt x="76" y="42"/>
                    <a:pt x="76" y="42"/>
                    <a:pt x="76" y="42"/>
                  </a:cubicBezTo>
                  <a:cubicBezTo>
                    <a:pt x="76" y="42"/>
                    <a:pt x="75" y="38"/>
                    <a:pt x="76" y="35"/>
                  </a:cubicBezTo>
                  <a:cubicBezTo>
                    <a:pt x="77" y="32"/>
                    <a:pt x="78" y="35"/>
                    <a:pt x="81" y="33"/>
                  </a:cubicBezTo>
                  <a:cubicBezTo>
                    <a:pt x="84" y="31"/>
                    <a:pt x="86" y="37"/>
                    <a:pt x="90" y="36"/>
                  </a:cubicBezTo>
                  <a:cubicBezTo>
                    <a:pt x="94" y="36"/>
                    <a:pt x="92" y="35"/>
                    <a:pt x="95" y="33"/>
                  </a:cubicBezTo>
                  <a:cubicBezTo>
                    <a:pt x="98" y="32"/>
                    <a:pt x="100" y="36"/>
                    <a:pt x="100" y="36"/>
                  </a:cubicBezTo>
                  <a:cubicBezTo>
                    <a:pt x="106" y="37"/>
                    <a:pt x="106" y="37"/>
                    <a:pt x="106" y="37"/>
                  </a:cubicBezTo>
                  <a:cubicBezTo>
                    <a:pt x="106" y="37"/>
                    <a:pt x="105" y="30"/>
                    <a:pt x="105" y="32"/>
                  </a:cubicBezTo>
                  <a:cubicBezTo>
                    <a:pt x="109" y="38"/>
                    <a:pt x="114" y="55"/>
                    <a:pt x="112" y="58"/>
                  </a:cubicBezTo>
                  <a:cubicBezTo>
                    <a:pt x="111" y="57"/>
                    <a:pt x="110" y="57"/>
                    <a:pt x="110" y="57"/>
                  </a:cubicBezTo>
                  <a:cubicBezTo>
                    <a:pt x="103" y="57"/>
                    <a:pt x="103" y="57"/>
                    <a:pt x="103" y="57"/>
                  </a:cubicBezTo>
                  <a:lnTo>
                    <a:pt x="107" y="62"/>
                  </a:lnTo>
                  <a:close/>
                </a:path>
              </a:pathLst>
            </a:custGeom>
            <a:solidFill>
              <a:schemeClr val="bg1"/>
            </a:solidFill>
            <a:ln w="0">
              <a:noFill/>
            </a:ln>
          </p:spPr>
          <p:style>
            <a:lnRef idx="0"/>
            <a:fillRef idx="0"/>
            <a:effectRef idx="0"/>
            <a:fontRef idx="minor"/>
          </p:style>
          <p:txBody>
            <a:bodyPr numCol="1" spcCol="0" lIns="122040" rIns="122040" tIns="60840" bIns="60840" anchor="t">
              <a:noAutofit/>
            </a:bodyPr>
            <a:p>
              <a:pPr>
                <a:lnSpc>
                  <a:spcPct val="100000"/>
                </a:lnSpc>
                <a:tabLst>
                  <a:tab algn="l" pos="0"/>
                </a:tabLst>
              </a:pPr>
              <a:endParaRPr b="0" lang="en-US" sz="2400" spc="-1" strike="noStrike">
                <a:solidFill>
                  <a:srgbClr val="000000"/>
                </a:solidFill>
                <a:latin typeface="Calibri"/>
              </a:endParaRPr>
            </a:p>
          </p:txBody>
        </p:sp>
      </p:grpSp>
      <p:grpSp>
        <p:nvGrpSpPr>
          <p:cNvPr id="217" name="Group 26"/>
          <p:cNvGrpSpPr/>
          <p:nvPr/>
        </p:nvGrpSpPr>
        <p:grpSpPr>
          <a:xfrm>
            <a:off x="1450800" y="3218760"/>
            <a:ext cx="151920" cy="812160"/>
            <a:chOff x="1450800" y="3218760"/>
            <a:chExt cx="151920" cy="812160"/>
          </a:xfrm>
        </p:grpSpPr>
        <p:sp>
          <p:nvSpPr>
            <p:cNvPr id="218" name="Oval 16"/>
            <p:cNvSpPr/>
            <p:nvPr/>
          </p:nvSpPr>
          <p:spPr>
            <a:xfrm>
              <a:off x="1450800" y="3218760"/>
              <a:ext cx="151920" cy="151920"/>
            </a:xfrm>
            <a:prstGeom prst="ellipse">
              <a:avLst/>
            </a:prstGeom>
            <a:noFill/>
            <a:ln>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US" sz="2400" spc="-1" strike="noStrike">
                <a:solidFill>
                  <a:srgbClr val="ffffff"/>
                </a:solidFill>
                <a:latin typeface="Calibri"/>
              </a:endParaRPr>
            </a:p>
          </p:txBody>
        </p:sp>
        <p:sp>
          <p:nvSpPr>
            <p:cNvPr id="219" name="Oval 17"/>
            <p:cNvSpPr/>
            <p:nvPr/>
          </p:nvSpPr>
          <p:spPr>
            <a:xfrm>
              <a:off x="1450800" y="3879000"/>
              <a:ext cx="151920" cy="151920"/>
            </a:xfrm>
            <a:prstGeom prst="ellipse">
              <a:avLst/>
            </a:prstGeom>
            <a:noFill/>
            <a:ln>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US" sz="2400" spc="-1" strike="noStrike">
                <a:solidFill>
                  <a:srgbClr val="ffffff"/>
                </a:solidFill>
                <a:latin typeface="Calibri"/>
              </a:endParaRPr>
            </a:p>
          </p:txBody>
        </p:sp>
        <p:cxnSp>
          <p:nvCxnSpPr>
            <p:cNvPr id="220" name="Straight Connector 18"/>
            <p:cNvCxnSpPr>
              <a:stCxn id="219" idx="0"/>
              <a:endCxn id="218" idx="4"/>
            </p:cNvCxnSpPr>
            <p:nvPr/>
          </p:nvCxnSpPr>
          <p:spPr>
            <a:xfrm flipV="1">
              <a:off x="1526760" y="3371040"/>
              <a:ext cx="360" cy="508320"/>
            </a:xfrm>
            <a:prstGeom prst="straightConnector1">
              <a:avLst/>
            </a:prstGeom>
            <a:ln>
              <a:solidFill>
                <a:srgbClr val="ffffff"/>
              </a:solidFill>
            </a:ln>
          </p:spPr>
        </p:cxnSp>
      </p:grpSp>
      <p:grpSp>
        <p:nvGrpSpPr>
          <p:cNvPr id="221" name="Group 27"/>
          <p:cNvGrpSpPr/>
          <p:nvPr/>
        </p:nvGrpSpPr>
        <p:grpSpPr>
          <a:xfrm>
            <a:off x="866520" y="4087440"/>
            <a:ext cx="1320480" cy="1320480"/>
            <a:chOff x="866520" y="4087440"/>
            <a:chExt cx="1320480" cy="1320480"/>
          </a:xfrm>
        </p:grpSpPr>
        <p:sp>
          <p:nvSpPr>
            <p:cNvPr id="222" name="Oval 20"/>
            <p:cNvSpPr/>
            <p:nvPr/>
          </p:nvSpPr>
          <p:spPr>
            <a:xfrm>
              <a:off x="866520" y="4087440"/>
              <a:ext cx="1320480" cy="1320480"/>
            </a:xfrm>
            <a:prstGeom prst="ellipse">
              <a:avLst/>
            </a:prstGeom>
            <a:noFill/>
            <a:ln>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US" sz="2400" spc="-1" strike="noStrike">
                <a:solidFill>
                  <a:srgbClr val="ffffff"/>
                </a:solidFill>
                <a:latin typeface="Calibri"/>
              </a:endParaRPr>
            </a:p>
          </p:txBody>
        </p:sp>
        <p:sp>
          <p:nvSpPr>
            <p:cNvPr id="223" name="Freeform 21"/>
            <p:cNvSpPr/>
            <p:nvPr/>
          </p:nvSpPr>
          <p:spPr>
            <a:xfrm>
              <a:off x="1195560" y="4422240"/>
              <a:ext cx="662400" cy="650880"/>
            </a:xfrm>
            <a:custGeom>
              <a:avLst/>
              <a:gdLst>
                <a:gd name="textAreaLeft" fmla="*/ 0 w 662400"/>
                <a:gd name="textAreaRight" fmla="*/ 662760 w 662400"/>
                <a:gd name="textAreaTop" fmla="*/ 0 h 650880"/>
                <a:gd name="textAreaBottom" fmla="*/ 651240 h 650880"/>
              </a:gdLst>
              <a:ahLst/>
              <a:rect l="textAreaLeft" t="textAreaTop" r="textAreaRight" b="textAreaBottom"/>
              <a:pathLst>
                <a:path w="95" h="93">
                  <a:moveTo>
                    <a:pt x="82" y="57"/>
                  </a:moveTo>
                  <a:cubicBezTo>
                    <a:pt x="82" y="57"/>
                    <a:pt x="95" y="52"/>
                    <a:pt x="95" y="51"/>
                  </a:cubicBezTo>
                  <a:cubicBezTo>
                    <a:pt x="95" y="41"/>
                    <a:pt x="95" y="41"/>
                    <a:pt x="95" y="41"/>
                  </a:cubicBezTo>
                  <a:cubicBezTo>
                    <a:pt x="95" y="40"/>
                    <a:pt x="82" y="35"/>
                    <a:pt x="82" y="35"/>
                  </a:cubicBezTo>
                  <a:cubicBezTo>
                    <a:pt x="80" y="30"/>
                    <a:pt x="80" y="30"/>
                    <a:pt x="80" y="30"/>
                  </a:cubicBezTo>
                  <a:cubicBezTo>
                    <a:pt x="80" y="30"/>
                    <a:pt x="85" y="17"/>
                    <a:pt x="85" y="17"/>
                  </a:cubicBezTo>
                  <a:cubicBezTo>
                    <a:pt x="77" y="9"/>
                    <a:pt x="77" y="9"/>
                    <a:pt x="77" y="9"/>
                  </a:cubicBezTo>
                  <a:cubicBezTo>
                    <a:pt x="77" y="9"/>
                    <a:pt x="64" y="15"/>
                    <a:pt x="64" y="15"/>
                  </a:cubicBezTo>
                  <a:cubicBezTo>
                    <a:pt x="58" y="12"/>
                    <a:pt x="58" y="12"/>
                    <a:pt x="58" y="12"/>
                  </a:cubicBezTo>
                  <a:cubicBezTo>
                    <a:pt x="58" y="12"/>
                    <a:pt x="53" y="0"/>
                    <a:pt x="53" y="0"/>
                  </a:cubicBezTo>
                  <a:cubicBezTo>
                    <a:pt x="42" y="0"/>
                    <a:pt x="42" y="0"/>
                    <a:pt x="42" y="0"/>
                  </a:cubicBezTo>
                  <a:cubicBezTo>
                    <a:pt x="41" y="0"/>
                    <a:pt x="37" y="12"/>
                    <a:pt x="37" y="12"/>
                  </a:cubicBezTo>
                  <a:cubicBezTo>
                    <a:pt x="31" y="15"/>
                    <a:pt x="31" y="15"/>
                    <a:pt x="31" y="15"/>
                  </a:cubicBezTo>
                  <a:cubicBezTo>
                    <a:pt x="31" y="15"/>
                    <a:pt x="18" y="9"/>
                    <a:pt x="18" y="10"/>
                  </a:cubicBezTo>
                  <a:cubicBezTo>
                    <a:pt x="10" y="17"/>
                    <a:pt x="10" y="17"/>
                    <a:pt x="10" y="17"/>
                  </a:cubicBezTo>
                  <a:cubicBezTo>
                    <a:pt x="10" y="18"/>
                    <a:pt x="15" y="30"/>
                    <a:pt x="15" y="30"/>
                  </a:cubicBezTo>
                  <a:cubicBezTo>
                    <a:pt x="13" y="36"/>
                    <a:pt x="13" y="36"/>
                    <a:pt x="13" y="36"/>
                  </a:cubicBezTo>
                  <a:cubicBezTo>
                    <a:pt x="13" y="36"/>
                    <a:pt x="0" y="41"/>
                    <a:pt x="0" y="41"/>
                  </a:cubicBezTo>
                  <a:cubicBezTo>
                    <a:pt x="0" y="51"/>
                    <a:pt x="0" y="51"/>
                    <a:pt x="0" y="51"/>
                  </a:cubicBezTo>
                  <a:cubicBezTo>
                    <a:pt x="0" y="52"/>
                    <a:pt x="13" y="57"/>
                    <a:pt x="13" y="57"/>
                  </a:cubicBezTo>
                  <a:cubicBezTo>
                    <a:pt x="16" y="62"/>
                    <a:pt x="16" y="62"/>
                    <a:pt x="16" y="62"/>
                  </a:cubicBezTo>
                  <a:cubicBezTo>
                    <a:pt x="16" y="62"/>
                    <a:pt x="10" y="75"/>
                    <a:pt x="10" y="76"/>
                  </a:cubicBezTo>
                  <a:cubicBezTo>
                    <a:pt x="18" y="83"/>
                    <a:pt x="18" y="83"/>
                    <a:pt x="18" y="83"/>
                  </a:cubicBezTo>
                  <a:cubicBezTo>
                    <a:pt x="18" y="83"/>
                    <a:pt x="31" y="77"/>
                    <a:pt x="31" y="77"/>
                  </a:cubicBezTo>
                  <a:cubicBezTo>
                    <a:pt x="37" y="80"/>
                    <a:pt x="37" y="80"/>
                    <a:pt x="37" y="80"/>
                  </a:cubicBezTo>
                  <a:cubicBezTo>
                    <a:pt x="37" y="80"/>
                    <a:pt x="42" y="93"/>
                    <a:pt x="43" y="93"/>
                  </a:cubicBezTo>
                  <a:cubicBezTo>
                    <a:pt x="53" y="93"/>
                    <a:pt x="53" y="93"/>
                    <a:pt x="53" y="93"/>
                  </a:cubicBezTo>
                  <a:cubicBezTo>
                    <a:pt x="54" y="93"/>
                    <a:pt x="58" y="80"/>
                    <a:pt x="58" y="80"/>
                  </a:cubicBezTo>
                  <a:cubicBezTo>
                    <a:pt x="64" y="77"/>
                    <a:pt x="64" y="77"/>
                    <a:pt x="64" y="77"/>
                  </a:cubicBezTo>
                  <a:cubicBezTo>
                    <a:pt x="64" y="77"/>
                    <a:pt x="77" y="83"/>
                    <a:pt x="78" y="82"/>
                  </a:cubicBezTo>
                  <a:cubicBezTo>
                    <a:pt x="85" y="75"/>
                    <a:pt x="85" y="75"/>
                    <a:pt x="85" y="75"/>
                  </a:cubicBezTo>
                  <a:cubicBezTo>
                    <a:pt x="85" y="75"/>
                    <a:pt x="80" y="62"/>
                    <a:pt x="80" y="62"/>
                  </a:cubicBezTo>
                  <a:lnTo>
                    <a:pt x="82" y="57"/>
                  </a:lnTo>
                  <a:close/>
                  <a:moveTo>
                    <a:pt x="48" y="61"/>
                  </a:moveTo>
                  <a:cubicBezTo>
                    <a:pt x="39" y="61"/>
                    <a:pt x="32" y="54"/>
                    <a:pt x="32" y="46"/>
                  </a:cubicBezTo>
                  <a:cubicBezTo>
                    <a:pt x="32" y="38"/>
                    <a:pt x="39" y="31"/>
                    <a:pt x="48" y="31"/>
                  </a:cubicBezTo>
                  <a:cubicBezTo>
                    <a:pt x="56" y="31"/>
                    <a:pt x="63" y="38"/>
                    <a:pt x="63" y="46"/>
                  </a:cubicBezTo>
                  <a:cubicBezTo>
                    <a:pt x="63" y="54"/>
                    <a:pt x="56" y="61"/>
                    <a:pt x="48" y="61"/>
                  </a:cubicBezTo>
                  <a:close/>
                </a:path>
              </a:pathLst>
            </a:custGeom>
            <a:solidFill>
              <a:schemeClr val="bg1"/>
            </a:solidFill>
            <a:ln w="0">
              <a:noFill/>
            </a:ln>
          </p:spPr>
          <p:style>
            <a:lnRef idx="0"/>
            <a:fillRef idx="0"/>
            <a:effectRef idx="0"/>
            <a:fontRef idx="minor"/>
          </p:style>
          <p:txBody>
            <a:bodyPr numCol="1" spcCol="0" lIns="122040" rIns="122040" tIns="60840" bIns="60840" anchor="t">
              <a:noAutofit/>
            </a:bodyPr>
            <a:p>
              <a:pPr>
                <a:lnSpc>
                  <a:spcPct val="100000"/>
                </a:lnSpc>
                <a:tabLst>
                  <a:tab algn="l" pos="0"/>
                </a:tabLst>
              </a:pPr>
              <a:endParaRPr b="0" lang="en-US" sz="2400" spc="-1" strike="noStrike">
                <a:solidFill>
                  <a:srgbClr val="000000"/>
                </a:solidFill>
                <a:latin typeface="Calibri"/>
              </a:endParaRPr>
            </a:p>
          </p:txBody>
        </p:sp>
      </p:grpSp>
      <p:grpSp>
        <p:nvGrpSpPr>
          <p:cNvPr id="224" name="Group 28"/>
          <p:cNvGrpSpPr/>
          <p:nvPr/>
        </p:nvGrpSpPr>
        <p:grpSpPr>
          <a:xfrm>
            <a:off x="1450800" y="5508000"/>
            <a:ext cx="151920" cy="533160"/>
            <a:chOff x="1450800" y="5508000"/>
            <a:chExt cx="151920" cy="533160"/>
          </a:xfrm>
        </p:grpSpPr>
        <p:cxnSp>
          <p:nvCxnSpPr>
            <p:cNvPr id="225" name="Straight Connector 23"/>
            <p:cNvCxnSpPr>
              <a:endCxn id="226" idx="4"/>
            </p:cNvCxnSpPr>
            <p:nvPr/>
          </p:nvCxnSpPr>
          <p:spPr>
            <a:xfrm flipV="1">
              <a:off x="1526760" y="5660280"/>
              <a:ext cx="360" cy="381240"/>
            </a:xfrm>
            <a:prstGeom prst="straightConnector1">
              <a:avLst/>
            </a:prstGeom>
            <a:ln>
              <a:solidFill>
                <a:srgbClr val="ffffff"/>
              </a:solidFill>
            </a:ln>
          </p:spPr>
        </p:cxnSp>
        <p:sp>
          <p:nvSpPr>
            <p:cNvPr id="226" name="Oval 24"/>
            <p:cNvSpPr/>
            <p:nvPr/>
          </p:nvSpPr>
          <p:spPr>
            <a:xfrm>
              <a:off x="1450800" y="5508000"/>
              <a:ext cx="151920" cy="151920"/>
            </a:xfrm>
            <a:prstGeom prst="ellipse">
              <a:avLst/>
            </a:prstGeom>
            <a:noFill/>
            <a:ln>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US" sz="2400" spc="-1" strike="noStrike">
                <a:solidFill>
                  <a:srgbClr val="ffffff"/>
                </a:solidFill>
                <a:latin typeface="Calibri"/>
              </a:endParaRPr>
            </a:p>
          </p:txBody>
        </p:sp>
      </p:grpSp>
      <p:sp>
        <p:nvSpPr>
          <p:cNvPr id="227" name="Text Box 7"/>
          <p:cNvSpPr/>
          <p:nvPr/>
        </p:nvSpPr>
        <p:spPr>
          <a:xfrm>
            <a:off x="364680" y="135360"/>
            <a:ext cx="2716200" cy="792000"/>
          </a:xfrm>
          <a:prstGeom prst="rect">
            <a:avLst/>
          </a:prstGeom>
          <a:noFill/>
          <a:ln w="9525">
            <a:noFill/>
          </a:ln>
        </p:spPr>
        <p:style>
          <a:lnRef idx="0"/>
          <a:fillRef idx="0"/>
          <a:effectRef idx="0"/>
          <a:fontRef idx="minor"/>
        </p:style>
        <p:txBody>
          <a:bodyPr wrap="none" lIns="60840" rIns="60840" tIns="30600" bIns="30600" anchor="t">
            <a:spAutoFit/>
          </a:bodyPr>
          <a:p>
            <a:pPr>
              <a:lnSpc>
                <a:spcPct val="100000"/>
              </a:lnSpc>
              <a:tabLst>
                <a:tab algn="l" pos="0"/>
              </a:tabLst>
            </a:pPr>
            <a:r>
              <a:rPr b="1" i="1" lang="en-CA" sz="4800" spc="-202" strike="noStrike">
                <a:solidFill>
                  <a:srgbClr val="ffffff"/>
                </a:solidFill>
                <a:latin typeface="Open Sans Light"/>
                <a:ea typeface="Open Sans Light"/>
              </a:rPr>
              <a:t>Presenter</a:t>
            </a:r>
            <a:endParaRPr b="0" lang="en-US" sz="4800" spc="-1" strike="noStrike">
              <a:solidFill>
                <a:srgbClr val="000000"/>
              </a:solidFill>
              <a:latin typeface="Arial"/>
            </a:endParaRPr>
          </a:p>
        </p:txBody>
      </p:sp>
      <p:sp>
        <p:nvSpPr>
          <p:cNvPr id="228" name="Rectangle 19"/>
          <p:cNvSpPr/>
          <p:nvPr/>
        </p:nvSpPr>
        <p:spPr>
          <a:xfrm>
            <a:off x="2698200" y="2670480"/>
            <a:ext cx="8982360" cy="2377080"/>
          </a:xfrm>
          <a:prstGeom prst="rect">
            <a:avLst/>
          </a:prstGeom>
          <a:noFill/>
          <a:ln w="0">
            <a:noFill/>
          </a:ln>
        </p:spPr>
        <p:style>
          <a:lnRef idx="0"/>
          <a:fillRef idx="0"/>
          <a:effectRef idx="0"/>
          <a:fontRef idx="minor"/>
        </p:style>
        <p:txBody>
          <a:bodyPr anchor="t">
            <a:spAutoFit/>
          </a:bodyPr>
          <a:p>
            <a:pPr>
              <a:lnSpc>
                <a:spcPct val="150000"/>
              </a:lnSpc>
            </a:pPr>
            <a:r>
              <a:rPr b="0" lang="en-US" sz="2000" spc="-1" strike="noStrike">
                <a:solidFill>
                  <a:srgbClr val="ffffff"/>
                </a:solidFill>
                <a:latin typeface="Calibri"/>
                <a:ea typeface="Calibri"/>
              </a:rPr>
              <a:t>Ben leads the ACA Research automotive practice, bringing 15 years of experience across the commercial and social research arenas. He has worked across the breadth of the Australian automotive sector, helping OEMs, manufacturers, retailers, service providers, and other associated bodies identify optimal market positioning, understand market behaviour, and develop business strategy and marketing plans.</a:t>
            </a:r>
            <a:endParaRPr b="0" lang="en-US" sz="2000" spc="-1" strike="noStrike">
              <a:solidFill>
                <a:srgbClr val="000000"/>
              </a:solidFill>
              <a:latin typeface="Arial"/>
            </a:endParaRPr>
          </a:p>
        </p:txBody>
      </p:sp>
      <p:sp>
        <p:nvSpPr>
          <p:cNvPr id="229" name="Rectangle 19"/>
          <p:cNvSpPr/>
          <p:nvPr/>
        </p:nvSpPr>
        <p:spPr>
          <a:xfrm>
            <a:off x="2698200" y="1223640"/>
            <a:ext cx="7516800" cy="1066320"/>
          </a:xfrm>
          <a:prstGeom prst="rect">
            <a:avLst/>
          </a:prstGeom>
          <a:noFill/>
          <a:ln w="0">
            <a:noFill/>
          </a:ln>
        </p:spPr>
        <p:style>
          <a:lnRef idx="0"/>
          <a:fillRef idx="0"/>
          <a:effectRef idx="0"/>
          <a:fontRef idx="minor"/>
        </p:style>
        <p:txBody>
          <a:bodyPr anchor="t">
            <a:spAutoFit/>
          </a:bodyPr>
          <a:p>
            <a:pPr>
              <a:lnSpc>
                <a:spcPct val="100000"/>
              </a:lnSpc>
              <a:tabLst>
                <a:tab algn="l" pos="0"/>
              </a:tabLst>
            </a:pPr>
            <a:r>
              <a:rPr b="1" lang="en-US" sz="4000" spc="-1" strike="noStrike">
                <a:solidFill>
                  <a:srgbClr val="ffffff"/>
                </a:solidFill>
                <a:latin typeface="Calibri"/>
              </a:rPr>
              <a:t>Ben Selwyn</a:t>
            </a:r>
            <a:endParaRPr b="0" lang="en-US" sz="4000" spc="-1" strike="noStrike">
              <a:solidFill>
                <a:srgbClr val="000000"/>
              </a:solidFill>
              <a:latin typeface="Arial"/>
            </a:endParaRPr>
          </a:p>
          <a:p>
            <a:pPr>
              <a:lnSpc>
                <a:spcPct val="100000"/>
              </a:lnSpc>
              <a:tabLst>
                <a:tab algn="l" pos="0"/>
              </a:tabLst>
            </a:pPr>
            <a:r>
              <a:rPr b="0" lang="en-GB" sz="2400" spc="-1" strike="noStrike">
                <a:solidFill>
                  <a:srgbClr val="ffffff"/>
                </a:solidFill>
                <a:latin typeface="Calibri"/>
              </a:rPr>
              <a:t>Director | ACA Research</a:t>
            </a:r>
            <a:endParaRPr b="0" lang="en-US" sz="2400" spc="-1" strike="noStrike">
              <a:solidFill>
                <a:srgbClr val="000000"/>
              </a:solidFill>
              <a:latin typeface="Arial"/>
            </a:endParaRPr>
          </a:p>
        </p:txBody>
      </p:sp>
    </p:spTree>
  </p:cSld>
  <mc:AlternateContent>
    <mc:Choice Requires="p14">
      <p:transition p14:dur="10"/>
    </mc:Choice>
    <mc:Fallback>
      <p:transition/>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44546a"/>
      </a:dk2>
      <a:lt2>
        <a:srgbClr val="e7e6e6"/>
      </a:lt2>
      <a:accent1>
        <a:srgbClr val="4472c4"/>
      </a:accent1>
      <a:accent2>
        <a:srgbClr val="ed7d31"/>
      </a:accent2>
      <a:accent3>
        <a:srgbClr val="a5a5a5"/>
      </a:accent3>
      <a:accent4>
        <a:srgbClr val="ffc000"/>
      </a:accent4>
      <a:accent5>
        <a:srgbClr val="5b9bd5"/>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3_Office Theme">
  <a:themeElements>
    <a:clrScheme name="Custom 1">
      <a:dk1>
        <a:srgbClr val="000000"/>
      </a:dk1>
      <a:lt1>
        <a:srgbClr val="ffffff"/>
      </a:lt1>
      <a:dk2>
        <a:srgbClr val="44546a"/>
      </a:dk2>
      <a:lt2>
        <a:srgbClr val="e7e6e6"/>
      </a:lt2>
      <a:accent1>
        <a:srgbClr val="00b050"/>
      </a:accent1>
      <a:accent2>
        <a:srgbClr val="3f3f3f"/>
      </a:accent2>
      <a:accent3>
        <a:srgbClr val="a5a5a5"/>
      </a:accent3>
      <a:accent4>
        <a:srgbClr val="ffc000"/>
      </a:accent4>
      <a:accent5>
        <a:srgbClr val="3f3f3f"/>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3_Office Theme">
  <a:themeElements>
    <a:clrScheme name="Custom 1">
      <a:dk1>
        <a:srgbClr val="000000"/>
      </a:dk1>
      <a:lt1>
        <a:srgbClr val="ffffff"/>
      </a:lt1>
      <a:dk2>
        <a:srgbClr val="44546a"/>
      </a:dk2>
      <a:lt2>
        <a:srgbClr val="e7e6e6"/>
      </a:lt2>
      <a:accent1>
        <a:srgbClr val="00b050"/>
      </a:accent1>
      <a:accent2>
        <a:srgbClr val="3f3f3f"/>
      </a:accent2>
      <a:accent3>
        <a:srgbClr val="a5a5a5"/>
      </a:accent3>
      <a:accent4>
        <a:srgbClr val="ffc000"/>
      </a:accent4>
      <a:accent5>
        <a:srgbClr val="3f3f3f"/>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1_Office Theme">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44546a"/>
      </a:dk2>
      <a:lt2>
        <a:srgbClr val="e7e6e6"/>
      </a:lt2>
      <a:accent1>
        <a:srgbClr val="4472c4"/>
      </a:accent1>
      <a:accent2>
        <a:srgbClr val="ed7d31"/>
      </a:accent2>
      <a:accent3>
        <a:srgbClr val="a5a5a5"/>
      </a:accent3>
      <a:accent4>
        <a:srgbClr val="ffc000"/>
      </a:accent4>
      <a:accent5>
        <a:srgbClr val="5b9bd5"/>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_rels/item3.xml.rels><?xml version="1.0" encoding="UTF-8"?>
<Relationships xmlns="http://schemas.openxmlformats.org/package/2006/relationships"><Relationship Id="rId1" Type="http://schemas.openxmlformats.org/officeDocument/2006/relationships/customXmlProps" Target="itemProps3.xml"/>
</Relationships>
</file>

<file path=customXml/item1.xml><?xml version="1.0" encoding="utf-8"?>
<p:properties xmlns:p="http://schemas.microsoft.com/office/2006/metadata/properties" xmlns:xsi="http://www.w3.org/2001/XMLSchema-instance" xmlns:pc="http://schemas.microsoft.com/office/infopath/2007/PartnerControls">
  <documentManagement/>
</p:properties>
</file>

<file path=customXml/item2.xml><?xml version="1.0" encoding="utf-8"?>
<ct:contentTypeSchema xmlns:ct="http://schemas.microsoft.com/office/2006/metadata/contentType" xmlns:ma="http://schemas.microsoft.com/office/2006/metadata/properties/metaAttributes" ct:_="" ma:_="" ma:contentTypeName="Document" ma:contentTypeID="0x0101004F08A4A32234D440A4241AA5CEAB1775" ma:contentTypeVersion="13" ma:contentTypeDescription="Create a new document." ma:contentTypeScope="" ma:versionID="73a17ebde118b089173b7eb1b558a797">
  <xsd:schema xmlns:xsd="http://www.w3.org/2001/XMLSchema" xmlns:xs="http://www.w3.org/2001/XMLSchema" xmlns:p="http://schemas.microsoft.com/office/2006/metadata/properties" xmlns:ns3="4c483e9e-a9c6-490b-acf9-6cdc2a13dcf1" xmlns:ns4="d20ea764-55ac-47f9-bdcc-75ec1fbc26f7" targetNamespace="http://schemas.microsoft.com/office/2006/metadata/properties" ma:root="true" ma:fieldsID="271c187b890ab425f8860d3665845fc6" ns3:_="" ns4:_="">
    <xsd:import namespace="4c483e9e-a9c6-490b-acf9-6cdc2a13dcf1"/>
    <xsd:import namespace="d20ea764-55ac-47f9-bdcc-75ec1fbc26f7"/>
    <xsd:element name="properties">
      <xsd:complexType>
        <xsd:sequence>
          <xsd:element name="documentManagement">
            <xsd:complexType>
              <xsd:all>
                <xsd:element ref="ns3:MediaServiceMetadata" minOccurs="0"/>
                <xsd:element ref="ns3:MediaServiceFastMetadata" minOccurs="0"/>
                <xsd:element ref="ns3:MediaServiceAutoTags" minOccurs="0"/>
                <xsd:element ref="ns3:MediaServiceOCR" minOccurs="0"/>
                <xsd:element ref="ns3:MediaServiceDateTaken" minOccurs="0"/>
                <xsd:element ref="ns3:MediaServiceLocation" minOccurs="0"/>
                <xsd:element ref="ns4:SharedWithUsers" minOccurs="0"/>
                <xsd:element ref="ns4:SharedWithDetails" minOccurs="0"/>
                <xsd:element ref="ns4:SharingHintHash" minOccurs="0"/>
                <xsd:element ref="ns3:MediaServiceGenerationTime" minOccurs="0"/>
                <xsd:element ref="ns3:MediaServiceEventHashCode" minOccurs="0"/>
                <xsd:element ref="ns3:MediaServiceAutoKeyPoints" minOccurs="0"/>
                <xsd:element ref="ns3:MediaServiceKeyPoints" minOccurs="0"/>
              </xsd:all>
            </xsd:complexType>
          </xsd:element>
        </xsd:sequence>
      </xsd:complexType>
    </xsd:element>
  </xsd:schema>
  <xsd:schema xmlns:xsd="http://www.w3.org/2001/XMLSchema" xmlns:xs="http://www.w3.org/2001/XMLSchema" xmlns:dms="http://schemas.microsoft.com/office/2006/documentManagement/types" xmlns:pc="http://schemas.microsoft.com/office/infopath/2007/PartnerControls" targetNamespace="4c483e9e-a9c6-490b-acf9-6cdc2a13dcf1" elementFormDefault="qualified">
    <xsd:import namespace="http://schemas.microsoft.com/office/2006/documentManagement/types"/>
    <xsd:import namespace="http://schemas.microsoft.com/office/infopath/2007/PartnerControls"/>
    <xsd:element name="MediaServiceMetadata" ma:index="8" nillable="true" ma:displayName="MediaServiceMetadata" ma:hidden="true" ma:internalName="MediaServiceMetadata" ma:readOnly="true">
      <xsd:simpleType>
        <xsd:restriction base="dms:Note"/>
      </xsd:simpleType>
    </xsd:element>
    <xsd:element name="MediaServiceFastMetadata" ma:index="9" nillable="true" ma:displayName="MediaServiceFastMetadata" ma:hidden="true" ma:internalName="MediaServiceFastMetadata" ma:readOnly="true">
      <xsd:simpleType>
        <xsd:restriction base="dms:Note"/>
      </xsd:simpleType>
    </xsd:element>
    <xsd:element name="MediaServiceAutoTags" ma:index="10" nillable="true" ma:displayName="Tags" ma:internalName="MediaServiceAutoTags" ma:readOnly="true">
      <xsd:simpleType>
        <xsd:restriction base="dms:Text"/>
      </xsd:simpleType>
    </xsd:element>
    <xsd:element name="MediaServiceOCR" ma:index="11" nillable="true" ma:displayName="Extracted Text" ma:internalName="MediaServiceOCR" ma:readOnly="true">
      <xsd:simpleType>
        <xsd:restriction base="dms:Note">
          <xsd:maxLength value="255"/>
        </xsd:restriction>
      </xsd:simpleType>
    </xsd:element>
    <xsd:element name="MediaServiceDateTaken" ma:index="12" nillable="true" ma:displayName="MediaServiceDateTaken" ma:hidden="true" ma:internalName="MediaServiceDateTaken" ma:readOnly="true">
      <xsd:simpleType>
        <xsd:restriction base="dms:Text"/>
      </xsd:simpleType>
    </xsd:element>
    <xsd:element name="MediaServiceLocation" ma:index="13" nillable="true" ma:displayName="Location" ma:internalName="MediaServiceLocation" ma:readOnly="true">
      <xsd:simpleType>
        <xsd:restriction base="dms:Text"/>
      </xsd:simpleType>
    </xsd:element>
    <xsd:element name="MediaServiceGenerationTime" ma:index="17" nillable="true" ma:displayName="MediaServiceGenerationTime" ma:hidden="true" ma:internalName="MediaServiceGenerationTime" ma:readOnly="true">
      <xsd:simpleType>
        <xsd:restriction base="dms:Text"/>
      </xsd:simpleType>
    </xsd:element>
    <xsd:element name="MediaServiceEventHashCode" ma:index="18" nillable="true" ma:displayName="MediaServiceEventHashCode" ma:hidden="true" ma:internalName="MediaServiceEventHashCode" ma:readOnly="true">
      <xsd:simpleType>
        <xsd:restriction base="dms:Text"/>
      </xsd:simpleType>
    </xsd:element>
    <xsd:element name="MediaServiceAutoKeyPoints" ma:index="19" nillable="true" ma:displayName="MediaServiceAutoKeyPoints" ma:hidden="true" ma:internalName="MediaServiceAutoKeyPoints" ma:readOnly="true">
      <xsd:simpleType>
        <xsd:restriction base="dms:Note"/>
      </xsd:simpleType>
    </xsd:element>
    <xsd:element name="MediaServiceKeyPoints" ma:index="20" nillable="true" ma:displayName="KeyPoints" ma:internalName="MediaServiceKeyPoints" ma:readOnly="true">
      <xsd:simpleType>
        <xsd:restriction base="dms:Note">
          <xsd:maxLength value="255"/>
        </xsd:restriction>
      </xsd:simpleType>
    </xsd:element>
  </xsd:schema>
  <xsd:schema xmlns:xsd="http://www.w3.org/2001/XMLSchema" xmlns:xs="http://www.w3.org/2001/XMLSchema" xmlns:dms="http://schemas.microsoft.com/office/2006/documentManagement/types" xmlns:pc="http://schemas.microsoft.com/office/infopath/2007/PartnerControls" targetNamespace="d20ea764-55ac-47f9-bdcc-75ec1fbc26f7" elementFormDefault="qualified">
    <xsd:import namespace="http://schemas.microsoft.com/office/2006/documentManagement/types"/>
    <xsd:import namespace="http://schemas.microsoft.com/office/infopath/2007/PartnerControls"/>
    <xsd:element name="SharedWithUsers" ma:index="14" nillable="true" ma:displayName="Shared With" ma:internalName="SharedWithUsers" ma:readOnly="true">
      <xsd:complexType>
        <xsd:complexContent>
          <xsd:extension base="dms:UserMulti">
            <xsd:sequence>
              <xsd:element name="UserInfo" minOccurs="0" maxOccurs="unbounded">
                <xsd:complexType>
                  <xsd:sequence>
                    <xsd:element name="DisplayName" type="xsd:string" minOccurs="0"/>
                    <xsd:element name="AccountId" type="dms:UserId" minOccurs="0" nillable="true"/>
                    <xsd:element name="AccountType" type="xsd:string" minOccurs="0"/>
                  </xsd:sequence>
                </xsd:complexType>
              </xsd:element>
            </xsd:sequence>
          </xsd:extension>
        </xsd:complexContent>
      </xsd:complexType>
    </xsd:element>
    <xsd:element name="SharedWithDetails" ma:index="15" nillable="true" ma:displayName="Shared With Details" ma:internalName="SharedWithDetails" ma:readOnly="true">
      <xsd:simpleType>
        <xsd:restriction base="dms:Note">
          <xsd:maxLength value="255"/>
        </xsd:restriction>
      </xsd:simpleType>
    </xsd:element>
    <xsd:element name="SharingHintHash" ma:index="16" nillable="true" ma:displayName="Sharing Hint Hash" ma:hidden="true" ma:internalName="SharingHintHash" ma:readOnly="true">
      <xsd:simpleType>
        <xsd:restriction base="dms:Text"/>
      </xsd:simpleType>
    </xsd:element>
  </xsd:schema>
  <xsd:schema xmlns="http://schemas.openxmlformats.org/package/2006/metadata/core-properties" xmlns:xsd="http://www.w3.org/2001/XMLSchema" xmlns:xsi="http://www.w3.org/2001/XMLSchema-instance" xmlns:dc="http://purl.org/dc/elements/1.1/" xmlns:dcterms="http://purl.org/dc/terms/" xmlns:odoc="http://schemas.microsoft.com/internal/obd"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contentStatus" minOccurs="0" maxOccurs="1" type="xsd:string"/>
      </xsd:all>
    </xsd:complexType>
  </xsd:schema>
  <xs:schema xmlns:pc="http://schemas.microsoft.com/office/infopath/2007/PartnerControls" xmlns:xs="http://www.w3.org/2001/XMLSchema" targetNamespace="http://schemas.microsoft.com/office/infopath/2007/PartnerControls" elementFormDefault="qualified" attributeFormDefault="unqualified">
    <xs:element name="Person">
      <xs:complexType>
        <xs:sequence>
          <xs:element ref="pc:DisplayName" minOccurs="0"/>
          <xs:element ref="pc:AccountId" minOccurs="0"/>
          <xs:element ref="pc:AccountType" minOccurs="0"/>
        </xs:sequence>
      </xs:complexType>
    </xs:element>
    <xs:element name="DisplayName" type="xs:string"/>
    <xs:element name="AccountId" type="xs:string"/>
    <xs:element name="AccountType" type="xs:string"/>
    <xs:element name="BDCAssociatedEntity">
      <xs:complexType>
        <xs:sequence>
          <xs:element ref="pc:BDCEntity" minOccurs="0" maxOccurs="unbounded"/>
        </xs:sequence>
        <xs:attribute ref="pc:EntityNamespace"/>
        <xs:attribute ref="pc:EntityName"/>
        <xs:attribute ref="pc:SystemInstanceName"/>
        <xs:attribute ref="pc:AssociationName"/>
      </xs:complexType>
    </xs:element>
    <xs:attribute name="EntityNamespace" type="xs:string"/>
    <xs:attribute name="EntityName" type="xs:string"/>
    <xs:attribute name="SystemInstanceName" type="xs:string"/>
    <xs:attribute name="AssociationName" type="xs:string"/>
    <xs:element name="BDCEntity">
      <xs:complexType>
        <xs:sequence>
          <xs:element ref="pc:EntityDisplayName" minOccurs="0"/>
          <xs:element ref="pc:EntityInstanceReference" minOccurs="0"/>
          <xs:element ref="pc:EntityId1" minOccurs="0"/>
          <xs:element ref="pc:EntityId2" minOccurs="0"/>
          <xs:element ref="pc:EntityId3" minOccurs="0"/>
          <xs:element ref="pc:EntityId4" minOccurs="0"/>
          <xs:element ref="pc:EntityId5" minOccurs="0"/>
        </xs:sequence>
      </xs:complexType>
    </xs:element>
    <xs:element name="EntityDisplayName" type="xs:string"/>
    <xs:element name="EntityInstanceReference" type="xs:string"/>
    <xs:element name="EntityId1" type="xs:string"/>
    <xs:element name="EntityId2" type="xs:string"/>
    <xs:element name="EntityId3" type="xs:string"/>
    <xs:element name="EntityId4" type="xs:string"/>
    <xs:element name="EntityId5" type="xs:string"/>
    <xs:element name="Terms">
      <xs:complexType>
        <xs:sequence>
          <xs:element ref="pc:TermInfo" minOccurs="0" maxOccurs="unbounded"/>
        </xs:sequence>
      </xs:complexType>
    </xs:element>
    <xs:element name="TermInfo">
      <xs:complexType>
        <xs:sequence>
          <xs:element ref="pc:TermName" minOccurs="0"/>
          <xs:element ref="pc:TermId" minOccurs="0"/>
        </xs:sequence>
      </xs:complexType>
    </xs:element>
    <xs:element name="TermName" type="xs:string"/>
    <xs:element name="TermId" type="xs:string"/>
  </xs:schema>
</ct:contentTypeSchema>
</file>

<file path=customXml/item3.xml><?xml version="1.0" encoding="utf-8"?>
<?mso-contentType ?>
<FormTemplates xmlns="http://schemas.microsoft.com/sharepoint/v3/contenttype/forms">
  <Display>DocumentLibraryForm</Display>
  <Edit>DocumentLibraryForm</Edit>
  <New>DocumentLibraryForm</New>
</FormTemplates>
</file>

<file path=customXml/itemProps1.xml><?xml version="1.0" encoding="utf-8"?>
<ds:datastoreItem xmlns:ds="http://schemas.openxmlformats.org/officeDocument/2006/customXml" ds:itemID="{99EA3020-7414-4BDC-B60F-B29FD77A0FE5}">
  <ds:schemaRefs>
    <ds:schemaRef ds:uri="http://schemas.microsoft.com/office/2006/metadata/properties"/>
    <ds:schemaRef ds:uri="http://schemas.microsoft.com/office/infopath/2007/PartnerControls"/>
  </ds:schemaRefs>
</ds:datastoreItem>
</file>

<file path=customXml/itemProps2.xml><?xml version="1.0" encoding="utf-8"?>
<ds:datastoreItem xmlns:ds="http://schemas.openxmlformats.org/officeDocument/2006/customXml" ds:itemID="{E91222F0-AF7B-4BC1-9272-DAA373410EFB}">
  <ds:schemaRefs>
    <ds:schemaRef ds:uri="4c483e9e-a9c6-490b-acf9-6cdc2a13dcf1"/>
    <ds:schemaRef ds:uri="d20ea764-55ac-47f9-bdcc-75ec1fbc26f7"/>
    <ds:schemaRef ds:uri="http://purl.org/dc/elements/1.1/"/>
    <ds:schemaRef ds:uri="http://purl.org/dc/terms/"/>
    <ds:schemaRef ds:uri="http://schemas.microsoft.com/internal/obd"/>
    <ds:schemaRef ds:uri="http://schemas.microsoft.com/office/2006/documentManagement/types"/>
    <ds:schemaRef ds:uri="http://schemas.microsoft.com/office/2006/metadata/contentType"/>
    <ds:schemaRef ds:uri="http://schemas.microsoft.com/office/2006/metadata/properties"/>
    <ds:schemaRef ds:uri="http://schemas.microsoft.com/office/2006/metadata/properties/metaAttributes"/>
    <ds:schemaRef ds:uri="http://schemas.microsoft.com/office/infopath/2007/PartnerControls"/>
    <ds:schemaRef ds:uri="http://schemas.openxmlformats.org/package/2006/metadata/core-properties"/>
    <ds:schemaRef ds:uri="http://www.w3.org/2001/XMLSchema"/>
  </ds:schemaRefs>
</ds:datastoreItem>
</file>

<file path=customXml/itemProps3.xml><?xml version="1.0" encoding="utf-8"?>
<ds:datastoreItem xmlns:ds="http://schemas.openxmlformats.org/officeDocument/2006/customXml" ds:itemID="{400322BD-FB0B-4496-BD78-2B37B7FB1C07}">
  <ds:schemaRefs>
    <ds:schemaRef ds:uri="http://schemas.microsoft.com/sharepoint/v3/contenttype/forms"/>
  </ds:schemaRefs>
</ds:datastoreItem>
</file>

<file path=docProps/app.xml><?xml version="1.0" encoding="utf-8"?>
<Properties xmlns="http://schemas.openxmlformats.org/officeDocument/2006/extended-properties" xmlns:vt="http://schemas.openxmlformats.org/officeDocument/2006/docPropsVTypes">
  <Template/>
  <TotalTime>45</TotalTime>
  <Application>LibreOffice/7.4.7.2$Linux_X86_64 LibreOffice_project/40$Build-2</Application>
  <AppVersion>15.0000</AppVersion>
  <Words>129</Words>
  <Paragraphs>21</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8-26T08:43:16Z</dcterms:created>
  <dc:creator>Mace Hartley</dc:creator>
  <dc:description/>
  <dc:language>en-US</dc:language>
  <cp:lastModifiedBy>Mace Hartley</cp:lastModifiedBy>
  <dcterms:modified xsi:type="dcterms:W3CDTF">2020-10-07T07:48:58Z</dcterms:modified>
  <cp:revision>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2</vt:r8>
  </property>
  <property fmtid="{D5CDD505-2E9C-101B-9397-08002B2CF9AE}" pid="3" name="PresentationFormat">
    <vt:lpwstr>Widescreen</vt:lpwstr>
  </property>
  <property fmtid="{D5CDD505-2E9C-101B-9397-08002B2CF9AE}" pid="4" name="Slides">
    <vt:r8>4</vt:r8>
  </property>
</Properties>
</file>